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1D8-02F4-4101-84D2-E2B0F942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134-1CD0-4D29-9C75-E301F90B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60C-FA85-45A8-8464-F1DF3050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AF0-287E-4D23-8110-40508873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2BFF-22B9-4C8F-944C-289BBF7E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3B6D-A27B-4389-9339-95DC7A68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9D77-F95C-4118-8062-F600B4D1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B957-CB39-4DDC-828C-F08B62E1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6C72-3FF1-4838-A567-27AACF29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1DE1-8DEC-4EC1-B1D4-43A0133C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E2D9-617F-46E3-8B9E-B1434A2D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350-557B-45BC-AAA7-5BFEDEF8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F1D5-509D-494B-9A8F-9430D42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B799-36CE-496A-B376-96E735D1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BB30-77A1-47E5-87F5-4E4B5B72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7A45-34F1-4F91-9A1A-9DFEA723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9559-08A2-4608-9C67-97E126C9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24B-5A9C-42A0-B75A-09ECEADF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DFE-4E71-4A43-9DE7-D29AA987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BB7-A10F-4CB5-BCEF-ECBFC9C3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A51-62AA-4461-BE58-63B4CA45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7DC-AD48-4635-8F2E-1CF7E3AF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507-4E8A-49FF-84B0-AE3790AF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487-739E-4DD3-B412-FE8E6EDD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9782-F26B-490E-9634-8B05851C231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790F-AEEE-4861-B130-8794366A83C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Legge 199/20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02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zioni virtuose e critic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8280" y="27219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69120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GRAZ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onica Accog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lai CGIL Lec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epressive (attraverso le forze dell’ordine e attività di contrasto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otenziamento della Rete del lavoro Agricolo di Qualità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8280" y="27075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legge individua percorsi per aggredir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fruttamento del lavoro e intermediazione illec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3068640"/>
            <a:ext cx="8001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e principio incontrerebbe gli auspici della Regionale (Puglia) 28/2006 e del Protocollo Sperimentale “Cura-legalità e uscita dal Ghett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isorse:POR 2014/20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001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potesi:individuazione di un ”soggetto regionale“ di contrasto al lavoro nero e capora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NCONTRO DOMANDA/OFFERTA DI LAVOR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stituzione presso i CpI di “sezione per il mercato del lavoro in agricoltura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azione sportelli mobili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rmazione degli operatori dei C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CCOGLI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delle risorse (legge di bilancio regionale Puglia 2016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risorse previste nel Piano Regionale per le Politiche Abitative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“campi di Ospitalita” (Protocollo di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Enti bilaterali del settore Agricolo (CASSA AMICA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RASPOR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ndi FESR (Asse 7 trasporto pubblico local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stituzione di Protocolli specifici con i Comuni (Protocollo di Lec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evisione di un sistema incentivante per le imprese che utilizzano trasporto pubbl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EDUCAZIONE ALLA LEGALIT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rt. 1 Legge regionale 28/2006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tocolli d’intesa tra pubbliche amministrazioni e OO.DD. e OO.S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di monitoraggio degli indici di congruità in agricoltura (regolamento n. 31/2009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rotocollo d’Intesa Lec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tato dell’arte e criti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ttività sindacali FLAI CGIL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(oltre la Legg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ità “Ancora in campo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getto “Formazione SPRAR E CAS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5:38:31Z</dcterms:created>
  <dc:creator>Monica</dc:creator>
  <dc:description/>
  <dc:language>en-US</dc:language>
  <cp:lastModifiedBy>Maria Carmela Macri</cp:lastModifiedBy>
  <dcterms:modified xsi:type="dcterms:W3CDTF">2017-12-12T10:49:58Z</dcterms:modified>
  <cp:revision>6</cp:revision>
  <dc:subject/>
  <dc:title>Legge 199/2016</dc:title>
</cp:coreProperties>
</file>