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680F-C0BB-4CE2-BD4E-41ACE02F932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DD3C-4AD9-4107-AE19-B4B1EC592D9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0673-AEEF-494F-9F6E-187616D0627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BBDE-4790-485C-A0A5-FF847ADC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04CB-F906-4F57-8919-01F6CE8C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C279-AD2B-4443-8E22-01E28637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0A56-912D-405A-BAF8-54753A38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A894-69C7-402D-990D-737E047E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3834-293D-4A5D-B582-27CBD5B8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C735-BCA2-4E9E-A1FA-B91A7D7B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5F2B-4DFA-470F-8CA7-69FC5235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1962-8C37-46A6-9629-94778C44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4570-FC23-4A44-A39A-2B993115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B652-0C11-404B-9AD9-7EA4925E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05A3-E35D-4B8C-880D-88BE61C6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6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7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12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4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15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4893840" y="65829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b304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03F6-8DA7-436F-9C61-F9BCC83699F4}" type="slidenum">
              <a:rPr b="0" lang="it-IT" sz="1400" spc="-1" strike="noStrike">
                <a:solidFill>
                  <a:srgbClr val="ebb30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57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58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2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63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65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66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ttangolo 3"/>
          <p:cNvSpPr/>
          <p:nvPr/>
        </p:nvSpPr>
        <p:spPr>
          <a:xfrm>
            <a:off x="539640" y="2997360"/>
            <a:ext cx="835344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CasellaDiTesto 2"/>
          <p:cNvSpPr/>
          <p:nvPr/>
        </p:nvSpPr>
        <p:spPr>
          <a:xfrm>
            <a:off x="1150920" y="3930480"/>
            <a:ext cx="673416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Grazia Valentino - Franco Gau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CREA – Consiglio per la ricerca in agricoltura 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l’analisi dell’economia agr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Immagine 1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2376360" cy="2017800"/>
          </a:xfrm>
          <a:prstGeom prst="rect">
            <a:avLst/>
          </a:prstGeom>
          <a:ln w="0">
            <a:noFill/>
          </a:ln>
        </p:spPr>
      </p:pic>
      <p:sp>
        <p:nvSpPr>
          <p:cNvPr id="117" name="Rettangolo 5"/>
          <p:cNvSpPr/>
          <p:nvPr/>
        </p:nvSpPr>
        <p:spPr>
          <a:xfrm>
            <a:off x="1403280" y="3324240"/>
            <a:ext cx="5454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L’occupazione nei  PS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CasellaDiTesto 2"/>
          <p:cNvSpPr/>
          <p:nvPr/>
        </p:nvSpPr>
        <p:spPr>
          <a:xfrm>
            <a:off x="326880" y="28440"/>
            <a:ext cx="760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. Proposte metodologiche per la programmazione delle politiche e buone pratic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CasellaDiTesto 1"/>
          <p:cNvSpPr/>
          <p:nvPr/>
        </p:nvSpPr>
        <p:spPr>
          <a:xfrm>
            <a:off x="1187280" y="1844640"/>
            <a:ext cx="669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 agricoltur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vestimenti in azienda agricola e silvico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iuto avviamento attività imprenditori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Nelle aree rur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versificazione econom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rvizi per la popolazion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Gruppi operativi (ricerca e innovazion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rvizi di svil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ttangolo 2"/>
          <p:cNvSpPr/>
          <p:nvPr/>
        </p:nvSpPr>
        <p:spPr>
          <a:xfrm>
            <a:off x="250920" y="1713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ccup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asellaDiTesto 2"/>
          <p:cNvSpPr/>
          <p:nvPr/>
        </p:nvSpPr>
        <p:spPr>
          <a:xfrm>
            <a:off x="0" y="12603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Calcolo dell’occupazione nei PS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Limi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22" name="CasellaDiTesto 4"/>
          <p:cNvSpPr/>
          <p:nvPr/>
        </p:nvSpPr>
        <p:spPr>
          <a:xfrm>
            <a:off x="194760" y="3816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tenuto della present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Immagine 7" descr=""/>
          <p:cNvPicPr/>
          <p:nvPr/>
        </p:nvPicPr>
        <p:blipFill>
          <a:blip r:embed="rId2"/>
          <a:stretch/>
        </p:blipFill>
        <p:spPr>
          <a:xfrm>
            <a:off x="684360" y="283356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124" name="Immagine 1" descr=""/>
          <p:cNvPicPr/>
          <p:nvPr/>
        </p:nvPicPr>
        <p:blipFill>
          <a:blip r:embed="rId3"/>
          <a:stretch/>
        </p:blipFill>
        <p:spPr>
          <a:xfrm>
            <a:off x="4500720" y="2395440"/>
            <a:ext cx="4425840" cy="19573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ttangolo 1"/>
          <p:cNvSpPr/>
          <p:nvPr/>
        </p:nvSpPr>
        <p:spPr>
          <a:xfrm>
            <a:off x="1403280" y="1197000"/>
            <a:ext cx="720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8) promuovere un’occupazione sostenibile e di qualità e sostenere la mobilità dei lavoratori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9) promuovere l’inclusione sociale e combattere la povertà e ogni discriminazione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ttangolo 3"/>
          <p:cNvSpPr/>
          <p:nvPr/>
        </p:nvSpPr>
        <p:spPr>
          <a:xfrm>
            <a:off x="344160" y="1396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li 11 obiettivi tematici dei fondi SI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ttangolo 1"/>
          <p:cNvSpPr/>
          <p:nvPr/>
        </p:nvSpPr>
        <p:spPr>
          <a:xfrm>
            <a:off x="1187280" y="4735440"/>
            <a:ext cx="64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lementi strutturanti definiti nel quadro di regolamentazione. Per contribuire al finanziamento della strategia Europa 2020, i fondi SIE concentrano il sostegno su un numero limitato di obiettivi tematici comuni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ttangolo 3"/>
          <p:cNvSpPr/>
          <p:nvPr/>
        </p:nvSpPr>
        <p:spPr>
          <a:xfrm>
            <a:off x="344160" y="1396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li 11 obiettivi tematici dei fondi SI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ttangolo 1"/>
          <p:cNvSpPr/>
          <p:nvPr/>
        </p:nvSpPr>
        <p:spPr>
          <a:xfrm>
            <a:off x="2050920" y="2133720"/>
            <a:ext cx="641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6)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doperarsi per l’inclusione socia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la riduzione della povertà e lo sviluppo economico nelle zone rurali, con particolare riguardo ai seguenti aspetti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) favorire la diversificazione, la creazione e lo sviluppo di piccole imprese nonché dell’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occupazio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) stimolare lo sviluppo locale nelle zone rurali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) promuovere l’accessibilità, l’uso e la qualità delle tecnologie dell’informazione e della comunicazione (TIC) nelle zone rurali.”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Immagine 1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3168720" cy="4467240"/>
          </a:xfrm>
          <a:prstGeom prst="rect">
            <a:avLst/>
          </a:prstGeom>
          <a:ln w="0">
            <a:noFill/>
          </a:ln>
        </p:spPr>
      </p:pic>
      <p:sp>
        <p:nvSpPr>
          <p:cNvPr id="138" name="CasellaDiTesto 2"/>
          <p:cNvSpPr/>
          <p:nvPr/>
        </p:nvSpPr>
        <p:spPr>
          <a:xfrm>
            <a:off x="5378760" y="1989000"/>
            <a:ext cx="335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Verifica del raggiungiment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i valori obiettivo a livello d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ocus ar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Immagine 3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6408720" cy="46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Immagine 1" descr=""/>
          <p:cNvPicPr/>
          <p:nvPr/>
        </p:nvPicPr>
        <p:blipFill>
          <a:blip r:embed="rId2"/>
          <a:stretch/>
        </p:blipFill>
        <p:spPr>
          <a:xfrm>
            <a:off x="1692360" y="860400"/>
            <a:ext cx="4895640" cy="501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Immagine 2" descr=""/>
          <p:cNvPicPr/>
          <p:nvPr/>
        </p:nvPicPr>
        <p:blipFill>
          <a:blip r:embed="rId2"/>
          <a:stretch/>
        </p:blipFill>
        <p:spPr>
          <a:xfrm>
            <a:off x="2124000" y="1004760"/>
            <a:ext cx="5112000" cy="487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Immagine 1" descr=""/>
          <p:cNvPicPr/>
          <p:nvPr/>
        </p:nvPicPr>
        <p:blipFill>
          <a:blip r:embed="rId2"/>
          <a:stretch/>
        </p:blipFill>
        <p:spPr>
          <a:xfrm>
            <a:off x="5230800" y="1268280"/>
            <a:ext cx="3887640" cy="4241880"/>
          </a:xfrm>
          <a:prstGeom prst="rect">
            <a:avLst/>
          </a:prstGeom>
          <a:ln w="0">
            <a:noFill/>
          </a:ln>
        </p:spPr>
      </p:pic>
      <p:pic>
        <p:nvPicPr>
          <p:cNvPr id="151" name="Immagine 3" descr=""/>
          <p:cNvPicPr/>
          <p:nvPr/>
        </p:nvPicPr>
        <p:blipFill>
          <a:blip r:embed="rId3"/>
          <a:stretch/>
        </p:blipFill>
        <p:spPr>
          <a:xfrm>
            <a:off x="1116000" y="1274760"/>
            <a:ext cx="3933720" cy="426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8:46:11Z</dcterms:created>
  <dc:creator>Tatiana Castellotti</dc:creator>
  <dc:description/>
  <dc:language>en-US</dc:language>
  <cp:lastModifiedBy>Maria Carmela Macri</cp:lastModifiedBy>
  <dcterms:modified xsi:type="dcterms:W3CDTF">2017-12-14T12:53:04Z</dcterms:modified>
  <cp:revision>337</cp:revision>
  <dc:subject/>
  <dc:title>Quali politiche e quali governances per i piccoli comuni</dc:title>
</cp:coreProperties>
</file>