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6E55-338F-4D12-9571-6A1B221EC33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7D74-D171-43E0-B23C-F7F8855A958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309B-2F5E-490C-A1A3-F49A76A88D1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DCB2-E318-4E25-96D2-B5B0F551716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36BC-7EA3-43EB-B376-841127D53AD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1CF8-BDF7-4F29-BADF-EC0CF1DE1F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643C-C15D-4FE1-A516-1B2F24A6328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4D4B-FD52-40E4-BCCB-31730327A79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55A9-5509-49DB-BEA3-5D3D33AE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CC3-BCF8-4C7D-835E-21435F28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24E9-E8DF-426A-86EE-C5AE1C1E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3286-8411-4D00-9E6B-10F0E31C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8DA-2819-427D-A629-305C9DFD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40B-8A3F-48F6-93CF-7FD08F10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8729-7127-494A-A87D-BF45FB0D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D5BF-4D0E-4A09-8676-6FEDCA18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223-101F-49FF-B337-C12BA193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DFA-2A2F-4E87-AAA9-06EC5861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BA9-8D13-4137-9F76-EA2F523E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B455-0D13-46E8-8113-D412A9EE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0398-D78E-4048-84F3-A30AD99CDC4E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 fabbisogni di lavoro nelle aree rur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444600" y="181080"/>
            <a:ext cx="76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lavoro in agricoltura tra statistiche ufficiali e realtà loc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itolo 1"/>
          <p:cNvSpPr/>
          <p:nvPr/>
        </p:nvSpPr>
        <p:spPr>
          <a:xfrm>
            <a:off x="351000" y="102384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ARGOMENTO  -  cosa </a:t>
            </a: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approfondisce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Segnaposto contenuto 2"/>
          <p:cNvSpPr/>
          <p:nvPr/>
        </p:nvSpPr>
        <p:spPr>
          <a:xfrm>
            <a:off x="1170000" y="1665360"/>
            <a:ext cx="433872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</a:rPr>
              <a:t>Gli elementi,  dichiaratamente o potenzialmente coagenti sul sistema agroalimentare (derivanti dalla politica e dalla normativa vigente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ttangolo arrotondato 5"/>
          <p:cNvSpPr/>
          <p:nvPr/>
        </p:nvSpPr>
        <p:spPr>
          <a:xfrm>
            <a:off x="1239840" y="2935440"/>
            <a:ext cx="2036880" cy="422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Competitività delle impre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ttangolo arrotondato 6"/>
          <p:cNvSpPr/>
          <p:nvPr/>
        </p:nvSpPr>
        <p:spPr>
          <a:xfrm>
            <a:off x="3664080" y="2917800"/>
            <a:ext cx="1434960" cy="403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utela dei lavorato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Freccia circolare in giù 7"/>
          <p:cNvSpPr/>
          <p:nvPr/>
        </p:nvSpPr>
        <p:spPr>
          <a:xfrm rot="10800000">
            <a:off x="1817280" y="3678120"/>
            <a:ext cx="3041640" cy="573120"/>
          </a:xfrm>
          <a:custGeom>
            <a:avLst/>
            <a:gdLst>
              <a:gd name="textAreaLeft" fmla="*/ 706680 w 3041640"/>
              <a:gd name="textAreaRight" fmla="*/ 2263320 w 3041640"/>
              <a:gd name="textAreaTop" fmla="*/ 76680 h 573120"/>
              <a:gd name="textAreaBottom" fmla="*/ 496440 h 573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7" hR="21600" stAng="10800000" swAng="5400000"/>
                <a:lnTo>
                  <a:pt x="11054" y="0"/>
                </a:lnTo>
                <a:arcTo wR="10037" hR="21600" stAng="-5400000" swAng="3656466"/>
                <a:lnTo>
                  <a:pt x="21281" y="16200"/>
                </a:lnTo>
                <a:lnTo>
                  <a:pt x="20583" y="21600"/>
                </a:lnTo>
                <a:lnTo>
                  <a:pt x="19246" y="16200"/>
                </a:lnTo>
                <a:lnTo>
                  <a:pt x="19755" y="16200"/>
                </a:lnTo>
                <a:arcTo wR="10037" hR="21600" stAng="-1743534" swAng="-3575447"/>
                <a:lnTo>
                  <a:pt x="10546" y="28"/>
                </a:lnTo>
                <a:arcTo wR="10037" hR="21600" stAng="-5481019" swAng="-5318981"/>
                <a:close/>
              </a:path>
              <a:path fill="darkenLess" w="21600" h="21600">
                <a:moveTo>
                  <a:pt x="0" y="21600"/>
                </a:moveTo>
                <a:arcTo wR="10037" hR="21600" stAng="10800000" swAng="5400000"/>
                <a:lnTo>
                  <a:pt x="10037" y="0"/>
                </a:lnTo>
                <a:arcTo wR="10037" hR="21600" stAng="-5400000" swAng="81019"/>
                <a:lnTo>
                  <a:pt x="10546" y="28"/>
                </a:lnTo>
                <a:arcTo wR="10037" hR="21600" stAng="-5481019" swAng="-5318981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ccia circolare in su 8"/>
          <p:cNvSpPr/>
          <p:nvPr/>
        </p:nvSpPr>
        <p:spPr>
          <a:xfrm>
            <a:off x="2502000" y="3608280"/>
            <a:ext cx="1854000" cy="181080"/>
          </a:xfrm>
          <a:custGeom>
            <a:avLst/>
            <a:gdLst>
              <a:gd name="textAreaLeft" fmla="*/ 446400 w 1854000"/>
              <a:gd name="textAreaRight" fmla="*/ 1384920 w 185400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-3708449"/>
                <a:lnTo>
                  <a:pt x="21270" y="5400"/>
                </a:lnTo>
                <a:lnTo>
                  <a:pt x="21073" y="0"/>
                </a:lnTo>
                <a:lnTo>
                  <a:pt x="20216" y="5400"/>
                </a:lnTo>
                <a:lnTo>
                  <a:pt x="20479" y="5400"/>
                </a:lnTo>
                <a:arcTo wR="10405" hR="21600" stAng="1691551" swAng="3666420"/>
                <a:lnTo>
                  <a:pt x="10669" y="21593"/>
                </a:lnTo>
                <a:arcTo wR="10405" hR="21600" stAng="5442028" swAng="5357972"/>
                <a:close/>
              </a:path>
              <a:path fill="darkenLess"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42028"/>
                <a:lnTo>
                  <a:pt x="10669" y="21593"/>
                </a:lnTo>
                <a:arcTo wR="10405" hR="21600" stAng="5442028" swAng="5357972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ttangolo 9"/>
          <p:cNvSpPr/>
          <p:nvPr/>
        </p:nvSpPr>
        <p:spPr>
          <a:xfrm>
            <a:off x="1854360" y="4976640"/>
            <a:ext cx="2970000" cy="66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Definizione delle migliori condizioni per il loro potenziamen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Freccia in giù 10"/>
          <p:cNvSpPr/>
          <p:nvPr/>
        </p:nvSpPr>
        <p:spPr>
          <a:xfrm>
            <a:off x="3147840" y="4459320"/>
            <a:ext cx="489240" cy="334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CasellaDiTesto 19"/>
          <p:cNvSpPr/>
          <p:nvPr/>
        </p:nvSpPr>
        <p:spPr>
          <a:xfrm>
            <a:off x="5316480" y="1790640"/>
            <a:ext cx="328788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Century Gothic"/>
              </a:rPr>
              <a:t>Gli elementi per la valutazione del fabbisogno di lavoro nelle imprese agricole puglies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Freccia in giù 12"/>
          <p:cNvSpPr/>
          <p:nvPr/>
        </p:nvSpPr>
        <p:spPr>
          <a:xfrm>
            <a:off x="6883560" y="2612880"/>
            <a:ext cx="552240" cy="447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ttangolo arrotondato 13"/>
          <p:cNvSpPr/>
          <p:nvPr/>
        </p:nvSpPr>
        <p:spPr>
          <a:xfrm>
            <a:off x="6469200" y="3179880"/>
            <a:ext cx="1450800" cy="42840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Sostenibilit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ttangolo arrotondato 14"/>
          <p:cNvSpPr/>
          <p:nvPr/>
        </p:nvSpPr>
        <p:spPr>
          <a:xfrm>
            <a:off x="5508720" y="4203720"/>
            <a:ext cx="166212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etic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collettiv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ttangolo arrotondato 15"/>
          <p:cNvSpPr/>
          <p:nvPr/>
        </p:nvSpPr>
        <p:spPr>
          <a:xfrm>
            <a:off x="7381800" y="4203720"/>
            <a:ext cx="150660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competitiv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privat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81" name="Connettore 2 17"/>
          <p:cNvCxnSpPr/>
          <p:nvPr/>
        </p:nvCxnSpPr>
        <p:spPr>
          <a:xfrm flipH="1">
            <a:off x="6659640" y="3727080"/>
            <a:ext cx="29556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cxnSp>
        <p:nvCxnSpPr>
          <p:cNvPr id="182" name="Connettore 2 18"/>
          <p:cNvCxnSpPr/>
          <p:nvPr/>
        </p:nvCxnSpPr>
        <p:spPr>
          <a:xfrm>
            <a:off x="7534080" y="3727080"/>
            <a:ext cx="38628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sp>
        <p:nvSpPr>
          <p:cNvPr id="18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e 1"/>
          <p:cNvSpPr/>
          <p:nvPr/>
        </p:nvSpPr>
        <p:spPr>
          <a:xfrm>
            <a:off x="5796000" y="1628640"/>
            <a:ext cx="3166920" cy="115272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Favorire ottimale attuazione del PSR in particolare delle Misure a sostegno della competitività delle imprese agrico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Segnaposto contenuto 4" descr=""/>
          <p:cNvPicPr/>
          <p:nvPr/>
        </p:nvPicPr>
        <p:blipFill>
          <a:blip r:embed="rId1"/>
          <a:stretch/>
        </p:blipFill>
        <p:spPr>
          <a:xfrm>
            <a:off x="1011240" y="2889360"/>
            <a:ext cx="6950160" cy="2846160"/>
          </a:xfrm>
          <a:prstGeom prst="rect">
            <a:avLst/>
          </a:prstGeom>
          <a:ln w="0">
            <a:noFill/>
          </a:ln>
        </p:spPr>
      </p:pic>
      <p:sp>
        <p:nvSpPr>
          <p:cNvPr id="186" name="CasellaDiTesto 3"/>
          <p:cNvSpPr/>
          <p:nvPr/>
        </p:nvSpPr>
        <p:spPr>
          <a:xfrm>
            <a:off x="971640" y="118440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progetto risponde ai fabbisogni del PSR Puglia 2014-2020 ed è assolutamente coerente con i suoi obietti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’ inquadrato nella misura 20 del PSR Pugl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Stima del fabbisogno di lavoro in aree rurali calabre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1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93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6" name="CasellaDiTesto 4"/>
          <p:cNvSpPr/>
          <p:nvPr/>
        </p:nvSpPr>
        <p:spPr>
          <a:xfrm>
            <a:off x="186480" y="381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ocalizzazione a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Immagine 5" descr=""/>
          <p:cNvPicPr/>
          <p:nvPr/>
        </p:nvPicPr>
        <p:blipFill>
          <a:blip r:embed="rId2"/>
          <a:stretch/>
        </p:blipFill>
        <p:spPr>
          <a:xfrm>
            <a:off x="1403280" y="674640"/>
            <a:ext cx="5113440" cy="5253120"/>
          </a:xfrm>
          <a:prstGeom prst="rect">
            <a:avLst/>
          </a:prstGeom>
          <a:ln w="0">
            <a:noFill/>
          </a:ln>
        </p:spPr>
      </p:pic>
      <p:cxnSp>
        <p:nvCxnSpPr>
          <p:cNvPr id="199" name="Connettore 2 10"/>
          <p:cNvCxnSpPr/>
          <p:nvPr/>
        </p:nvCxnSpPr>
        <p:spPr>
          <a:xfrm flipH="1">
            <a:off x="4953960" y="2563920"/>
            <a:ext cx="43236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Connettore 2 14"/>
          <p:cNvCxnSpPr/>
          <p:nvPr/>
        </p:nvCxnSpPr>
        <p:spPr>
          <a:xfrm flipH="1">
            <a:off x="5409720" y="3338640"/>
            <a:ext cx="289440" cy="7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Connettore 2 17"/>
          <p:cNvCxnSpPr>
            <a:stCxn id="202" idx="2"/>
          </p:cNvCxnSpPr>
          <p:nvPr/>
        </p:nvCxnSpPr>
        <p:spPr>
          <a:xfrm>
            <a:off x="4205160" y="3595680"/>
            <a:ext cx="38808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Connettore 2 19"/>
          <p:cNvCxnSpPr/>
          <p:nvPr/>
        </p:nvCxnSpPr>
        <p:spPr>
          <a:xfrm>
            <a:off x="4046400" y="3994200"/>
            <a:ext cx="31680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CasellaDiTesto 20"/>
          <p:cNvSpPr/>
          <p:nvPr/>
        </p:nvSpPr>
        <p:spPr>
          <a:xfrm>
            <a:off x="7093080" y="19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aree B del PS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CasellaDiTesto 21"/>
          <p:cNvSpPr/>
          <p:nvPr/>
        </p:nvSpPr>
        <p:spPr>
          <a:xfrm>
            <a:off x="5093280" y="27972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iba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CasellaDiTesto 22"/>
          <p:cNvSpPr/>
          <p:nvPr/>
        </p:nvSpPr>
        <p:spPr>
          <a:xfrm>
            <a:off x="5428800" y="347184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rot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CasellaDiTesto 23"/>
          <p:cNvSpPr/>
          <p:nvPr/>
        </p:nvSpPr>
        <p:spPr>
          <a:xfrm>
            <a:off x="3820680" y="328788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mez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CasellaDiTesto 26"/>
          <p:cNvSpPr/>
          <p:nvPr/>
        </p:nvSpPr>
        <p:spPr>
          <a:xfrm>
            <a:off x="3796200" y="37036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Gioia 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09" name="CasellaDiTesto 4"/>
          <p:cNvSpPr/>
          <p:nvPr/>
        </p:nvSpPr>
        <p:spPr>
          <a:xfrm>
            <a:off x="177480" y="3816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erritorializzazione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Immagine 7" descr=""/>
          <p:cNvPicPr/>
          <p:nvPr/>
        </p:nvPicPr>
        <p:blipFill>
          <a:blip r:embed="rId2"/>
          <a:stretch/>
        </p:blipFill>
        <p:spPr>
          <a:xfrm>
            <a:off x="2268360" y="1108080"/>
            <a:ext cx="3743640" cy="49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3" name="CasellaDiTesto 4"/>
          <p:cNvSpPr/>
          <p:nvPr/>
        </p:nvSpPr>
        <p:spPr>
          <a:xfrm>
            <a:off x="183600" y="38160"/>
            <a:ext cx="236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onti  utilizz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CasellaDiTesto 1"/>
          <p:cNvSpPr/>
          <p:nvPr/>
        </p:nvSpPr>
        <p:spPr>
          <a:xfrm>
            <a:off x="2016720" y="1989000"/>
            <a:ext cx="664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tilizzazione dei terre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pi per alleva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ettaro/coltura capi/allevamen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6° censimento dell’agricoltura ital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Indagine campionaria (anni 2013 e 2016)denominat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truttura e Produzioni delle Aziende Agricole” (SPA)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PS, Elenco OT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7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050920" y="1413000"/>
          <a:ext cx="4249800" cy="3519360"/>
        </p:xfrm>
        <a:graphic>
          <a:graphicData uri="http://schemas.openxmlformats.org/drawingml/2006/table">
            <a:tbl>
              <a:tblPr/>
              <a:tblGrid>
                <a:gridCol w="792360"/>
                <a:gridCol w="3457440"/>
              </a:tblGrid>
              <a:tr h="1172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bbisogno lavoro (stima in g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619280" y="1700280"/>
          <a:ext cx="6769080" cy="4105080"/>
        </p:xfrm>
        <a:graphic>
          <a:graphicData uri="http://schemas.openxmlformats.org/drawingml/2006/table">
            <a:tbl>
              <a:tblPr/>
              <a:tblGrid>
                <a:gridCol w="804960"/>
                <a:gridCol w="1446120"/>
                <a:gridCol w="1038240"/>
                <a:gridCol w="1312920"/>
                <a:gridCol w="1128600"/>
                <a:gridCol w="1038240"/>
              </a:tblGrid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ma fabbisog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i IN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81.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40.9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22.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96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.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.7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5.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1.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2.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4.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6.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98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.8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.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.9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5.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.5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5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7" name="Grafico 5"/>
          <p:cNvGraphicFramePr/>
          <p:nvPr/>
        </p:nvGraphicFramePr>
        <p:xfrm>
          <a:off x="1496880" y="1433520"/>
          <a:ext cx="7446960" cy="456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Grafico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6880" y="1433520"/>
                    <a:ext cx="74469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CasellaDiTesto 1"/>
          <p:cNvSpPr/>
          <p:nvPr/>
        </p:nvSpPr>
        <p:spPr>
          <a:xfrm>
            <a:off x="-8640" y="1081080"/>
            <a:ext cx="57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stat= gg familiari+extrafamiliari; Istat+Inps= gg familiari Istat+lavoratori In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e 1"/>
          <p:cNvSpPr/>
          <p:nvPr/>
        </p:nvSpPr>
        <p:spPr>
          <a:xfrm>
            <a:off x="206280" y="1197000"/>
            <a:ext cx="295272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STAT extrafamili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e 2"/>
          <p:cNvSpPr/>
          <p:nvPr/>
        </p:nvSpPr>
        <p:spPr>
          <a:xfrm>
            <a:off x="179280" y="2133720"/>
            <a:ext cx="288000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N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CasellaDiTesto 5"/>
          <p:cNvSpPr/>
          <p:nvPr/>
        </p:nvSpPr>
        <p:spPr>
          <a:xfrm>
            <a:off x="3433680" y="1844640"/>
            <a:ext cx="553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INPS in Calab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vrastima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critti all’INPS senza lavor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chiarazione di giornate superiori a quelle effettivamente svol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CasellaDiTesto 7"/>
          <p:cNvSpPr/>
          <p:nvPr/>
        </p:nvSpPr>
        <p:spPr>
          <a:xfrm>
            <a:off x="1682640" y="4246560"/>
            <a:ext cx="720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onte: "Differenziazioni aziendali, pluriattività, domanda, offerta e "consumo" di politiche nel Mezzogiorno", in 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Strategie familiari, pluriattività e politiche agrarie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, Il Mulino, Bologna, 1992, pp. 239-314 (con Franco Gaudio and Giuseppe Gaudio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l lavoro in agricoltura è frequentemente associato a fenomeni di irregolarità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’irregolarità in agricoltura non conosce confini geografici in Itali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ompetitività basata su illecita riduzione del costo del lavoro (concorrenza sleale basata sull’impiego di manodopera non in rego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Quali strumenti di politica economica per arginarli? Il fabbisogno di lavoro in agricoltura (come quantificarlo e quali le difficoltà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L’esperienza puglies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occorre ripensare ad una migliore metodologia di calcolo: Un nuovo progetto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Da cosa partire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CasellaDiTesto 4"/>
          <p:cNvSpPr/>
          <p:nvPr/>
        </p:nvSpPr>
        <p:spPr>
          <a:xfrm>
            <a:off x="205200" y="38160"/>
            <a:ext cx="73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fabbisogno di  lavoro nelle aree rurali: summ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e 1"/>
          <p:cNvSpPr/>
          <p:nvPr/>
        </p:nvSpPr>
        <p:spPr>
          <a:xfrm>
            <a:off x="5219640" y="2108160"/>
            <a:ext cx="3313080" cy="384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iversamente per il «rurale»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8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87280" y="1268280"/>
          <a:ext cx="7129800" cy="3600720"/>
        </p:xfrm>
        <a:graphic>
          <a:graphicData uri="http://schemas.openxmlformats.org/drawingml/2006/table">
            <a:tbl>
              <a:tblPr/>
              <a:tblGrid>
                <a:gridCol w="822600"/>
                <a:gridCol w="1042920"/>
                <a:gridCol w="1168200"/>
                <a:gridCol w="1660680"/>
                <a:gridCol w="1420920"/>
                <a:gridCol w="1014480"/>
              </a:tblGrid>
              <a:tr h="1543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tra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 corret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465.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2.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34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968.4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181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62.5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0.8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4.7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1.3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0.8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64.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3.8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.3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1.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.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353.1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2.9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.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4.5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.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2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92360" y="1773360"/>
          <a:ext cx="5832360" cy="2663640"/>
        </p:xfrm>
        <a:graphic>
          <a:graphicData uri="http://schemas.openxmlformats.org/drawingml/2006/table">
            <a:tbl>
              <a:tblPr/>
              <a:tblGrid>
                <a:gridCol w="1020600"/>
                <a:gridCol w="1297080"/>
                <a:gridCol w="1452600"/>
                <a:gridCol w="2062080"/>
              </a:tblGrid>
              <a:tr h="720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738.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4.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291.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56.9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0.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00.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6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9.6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29.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5.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7.9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5.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19.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6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Grafico 6"/>
          <p:cNvGraphicFramePr/>
          <p:nvPr/>
        </p:nvGraphicFramePr>
        <p:xfrm>
          <a:off x="1641600" y="1433520"/>
          <a:ext cx="6797520" cy="391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Grafico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1600" y="1433520"/>
                    <a:ext cx="679752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79640" y="1773360"/>
          <a:ext cx="6192720" cy="3959280"/>
        </p:xfrm>
        <a:graphic>
          <a:graphicData uri="http://schemas.openxmlformats.org/drawingml/2006/table">
            <a:tbl>
              <a:tblPr/>
              <a:tblGrid>
                <a:gridCol w="1084320"/>
                <a:gridCol w="1376280"/>
                <a:gridCol w="1541520"/>
                <a:gridCol w="2190600"/>
              </a:tblGrid>
              <a:tr h="197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.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4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.5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osa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.9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3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6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.6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4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.6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53" name="Rettangolo 1"/>
          <p:cNvSpPr/>
          <p:nvPr/>
        </p:nvSpPr>
        <p:spPr>
          <a:xfrm>
            <a:off x="186480" y="17136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numero lavorato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ttangolo 1"/>
          <p:cNvSpPr/>
          <p:nvPr/>
        </p:nvSpPr>
        <p:spPr>
          <a:xfrm>
            <a:off x="193680" y="171360"/>
            <a:ext cx="44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approfondimenti futu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asellaDiTesto 3"/>
          <p:cNvSpPr/>
          <p:nvPr/>
        </p:nvSpPr>
        <p:spPr>
          <a:xfrm>
            <a:off x="1250640" y="11653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ttangolo 4"/>
          <p:cNvSpPr/>
          <p:nvPr/>
        </p:nvSpPr>
        <p:spPr>
          <a:xfrm>
            <a:off x="1649520" y="1706400"/>
            <a:ext cx="64101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ete di Informazione Contabile Agricola (R.I.C.A.) è una indagine campionaria annuale istituita dalla Commissione Economica Europea nel 1965, con il 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Calibri"/>
              </a:rPr>
              <a:t>Regolamento CEE 79/56 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 aggiornata con il Reg. CE 1217/2009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ICA italiana si basa su un campione ragionato di circa 11.000 aziende, strutturato in modo da rappresentare le diverse tipologie produttive e dimensionali presenti sul territorio nazionale. Le aziende agricole che partecipano alla RICA (Campo di osservazione RICA) vengono selezionate sulla base di un piano di campionamento redatto per singola regione e provincia autonoma. Il campione RICA consente una copertura media a livello nazionale del 95% della SAU, del 97% del valore della Produzione Standard, del 92% delle Unità di Lavoro, e del 91% delle Unità di Bestia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Base dat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Utilizzazione terren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vo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Aggiornata annualmen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CasellaDiTesto 1"/>
          <p:cNvSpPr/>
          <p:nvPr/>
        </p:nvSpPr>
        <p:spPr>
          <a:xfrm>
            <a:off x="2484360" y="220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Grazie per l’attenzion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asellaDiTesto 2"/>
          <p:cNvSpPr/>
          <p:nvPr/>
        </p:nvSpPr>
        <p:spPr>
          <a:xfrm>
            <a:off x="3564000" y="414972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ranco.gaudi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azia.valentin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e imprese agricole per essere competitive, soprattutto nel libero mercato e per prodotti indifferenziati hanno bisogno di contenere i propri costi di produ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Una delle voci  di costo più incisive nel bilancio agricolo soprattutto nei comparti molto </a:t>
            </a:r>
            <a:r>
              <a:rPr b="0" i="1" lang="it-IT" sz="2000" spc="-1" strike="noStrike">
                <a:solidFill>
                  <a:srgbClr val="000000"/>
                </a:solidFill>
                <a:latin typeface="Trebuchet MS"/>
              </a:rPr>
              <a:t>labor intensive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è il lavoro. Quindi facilmente si decide di operare su di essa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CasellaDiTesto 4"/>
          <p:cNvSpPr/>
          <p:nvPr/>
        </p:nvSpPr>
        <p:spPr>
          <a:xfrm>
            <a:off x="184680" y="3816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lavoro irregolare in agricol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ccia in su 4"/>
          <p:cNvSpPr/>
          <p:nvPr/>
        </p:nvSpPr>
        <p:spPr>
          <a:xfrm rot="10800000">
            <a:off x="1988640" y="3083040"/>
            <a:ext cx="576360" cy="420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laborazione 7"/>
          <p:cNvSpPr/>
          <p:nvPr/>
        </p:nvSpPr>
        <p:spPr>
          <a:xfrm>
            <a:off x="971640" y="3643200"/>
            <a:ext cx="2952720" cy="647640"/>
          </a:xfrm>
          <a:prstGeom prst="flowChartProcess">
            <a:avLst/>
          </a:prstGeom>
          <a:gradFill rotWithShape="0">
            <a:gsLst>
              <a:gs pos="0">
                <a:srgbClr val="bebef6"/>
              </a:gs>
              <a:gs pos="100000">
                <a:srgbClr val="eaeafb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ducendo il pagamento dei contribu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laborazione 8"/>
          <p:cNvSpPr/>
          <p:nvPr/>
        </p:nvSpPr>
        <p:spPr>
          <a:xfrm>
            <a:off x="971640" y="4508640"/>
            <a:ext cx="2952720" cy="1224000"/>
          </a:xfrm>
          <a:prstGeom prst="flowChartProcess">
            <a:avLst/>
          </a:prstGeom>
          <a:gradFill rotWithShape="0">
            <a:gsLst>
              <a:gs pos="0">
                <a:srgbClr val="76768d"/>
              </a:gs>
              <a:gs pos="100000">
                <a:srgbClr val="cbcbf1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rrispondendo  retribuzioni inferiori a quelle previste con regolare assun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Diagramma 16" descr=""/>
          <p:cNvPicPr/>
          <p:nvPr/>
        </p:nvPicPr>
        <p:blipFill>
          <a:blip r:embed="rId1"/>
          <a:stretch/>
        </p:blipFill>
        <p:spPr>
          <a:xfrm>
            <a:off x="4730760" y="3597120"/>
            <a:ext cx="3998880" cy="2310120"/>
          </a:xfrm>
          <a:prstGeom prst="rect">
            <a:avLst/>
          </a:prstGeom>
          <a:ln w="0">
            <a:noFill/>
          </a:ln>
        </p:spPr>
      </p:pic>
      <p:sp>
        <p:nvSpPr>
          <p:cNvPr id="131" name="Parentesi graffa chiusa 17"/>
          <p:cNvSpPr/>
          <p:nvPr/>
        </p:nvSpPr>
        <p:spPr>
          <a:xfrm>
            <a:off x="4067280" y="3645000"/>
            <a:ext cx="433440" cy="2087640"/>
          </a:xfrm>
          <a:custGeom>
            <a:avLst/>
            <a:gdLst>
              <a:gd name="textAreaLeft" fmla="*/ 0 w 433440"/>
              <a:gd name="textAreaRight" fmla="*/ 156600 w 43344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2" name="Connettore 2 3"/>
          <p:cNvCxnSpPr/>
          <p:nvPr/>
        </p:nvCxnSpPr>
        <p:spPr>
          <a:xfrm flipV="1">
            <a:off x="4511520" y="4382640"/>
            <a:ext cx="183600" cy="3067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33" name="Connettore 2 11"/>
          <p:cNvCxnSpPr/>
          <p:nvPr/>
        </p:nvCxnSpPr>
        <p:spPr>
          <a:xfrm>
            <a:off x="4511520" y="4714920"/>
            <a:ext cx="183600" cy="2275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contenuto 2"/>
          <p:cNvSpPr/>
          <p:nvPr/>
        </p:nvSpPr>
        <p:spPr>
          <a:xfrm>
            <a:off x="457200" y="160020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Entrambi i problemi investono la collettività, impongono pertanto una soluzione di politica economica. Solitamente ci sono due possibilit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Trebuchet MS"/>
              </a:rPr>
              <a:t>Strumenti di disincentivazione attraverso un sistema di controlli e ammende per i trasgress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b6bcf"/>
                </a:solidFill>
                <a:latin typeface="Trebuchet MS"/>
              </a:rPr>
              <a:t>Strumenti che incentivino  nelle imprese l’adozione di comportamenti virtuosi attraverso un sistema di vantaggi e benefic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CasellaDiTesto 4"/>
          <p:cNvSpPr/>
          <p:nvPr/>
        </p:nvSpPr>
        <p:spPr>
          <a:xfrm>
            <a:off x="207000" y="38160"/>
            <a:ext cx="57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ali strumenti di politica economic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contenuto 2"/>
          <p:cNvSpPr/>
          <p:nvPr/>
        </p:nvSpPr>
        <p:spPr>
          <a:xfrm>
            <a:off x="457200" y="134136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n Puglia, con la L.R. 28/2006, si è deciso di creare questo sistema di vantaggi orientando il flusso delle risorse pubbliche verso le aziende che garantiscono un corretto impiego di manodopera (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parametro di normalità tecnica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CasellaDiTesto 4"/>
          <p:cNvSpPr/>
          <p:nvPr/>
        </p:nvSpPr>
        <p:spPr>
          <a:xfrm>
            <a:off x="169560" y="3816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Ovale 2"/>
          <p:cNvSpPr/>
          <p:nvPr/>
        </p:nvSpPr>
        <p:spPr>
          <a:xfrm>
            <a:off x="1440000" y="2781360"/>
            <a:ext cx="6264000" cy="1008000"/>
          </a:xfrm>
          <a:prstGeom prst="ellipse">
            <a:avLst/>
          </a:prstGeom>
          <a:solidFill>
            <a:srgbClr val="64ea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ome individuare queste aziend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Ovale 4"/>
          <p:cNvSpPr/>
          <p:nvPr/>
        </p:nvSpPr>
        <p:spPr>
          <a:xfrm>
            <a:off x="549360" y="4292640"/>
            <a:ext cx="3600360" cy="1728720"/>
          </a:xfrm>
          <a:prstGeom prst="ellips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ccorre uno Strumento che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metta di far emergere le realtà irregol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Rettangolo arrotondato 5"/>
          <p:cNvGrpSpPr/>
          <p:nvPr/>
        </p:nvGrpSpPr>
        <p:grpSpPr>
          <a:xfrm>
            <a:off x="5578560" y="5145120"/>
            <a:ext cx="3120840" cy="817560"/>
            <a:chOff x="5578560" y="5145120"/>
            <a:chExt cx="3120840" cy="817560"/>
          </a:xfrm>
        </p:grpSpPr>
        <p:pic>
          <p:nvPicPr>
            <p:cNvPr id="142" name="Rettangolo arrotondato 5" descr=""/>
            <p:cNvPicPr/>
            <p:nvPr/>
          </p:nvPicPr>
          <p:blipFill>
            <a:blip r:embed="rId1"/>
            <a:stretch/>
          </p:blipFill>
          <p:spPr>
            <a:xfrm>
              <a:off x="5578560" y="5145120"/>
              <a:ext cx="31208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29320" y="5195880"/>
              <a:ext cx="30193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Permette la stima del fabbisogno di lavor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" name="Freccia in giù 6"/>
          <p:cNvSpPr/>
          <p:nvPr/>
        </p:nvSpPr>
        <p:spPr>
          <a:xfrm>
            <a:off x="2124000" y="3809880"/>
            <a:ext cx="74628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Freccia in giù 7"/>
          <p:cNvSpPr/>
          <p:nvPr/>
        </p:nvSpPr>
        <p:spPr>
          <a:xfrm rot="15198600">
            <a:off x="4708440" y="4052880"/>
            <a:ext cx="363600" cy="124632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ttangolo 9"/>
          <p:cNvSpPr/>
          <p:nvPr/>
        </p:nvSpPr>
        <p:spPr>
          <a:xfrm>
            <a:off x="5789880" y="42321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DICE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Freccia in giù 6"/>
          <p:cNvSpPr/>
          <p:nvPr/>
        </p:nvSpPr>
        <p:spPr>
          <a:xfrm>
            <a:off x="6948360" y="4602240"/>
            <a:ext cx="360360" cy="426960"/>
          </a:xfrm>
          <a:prstGeom prst="down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contenuto 2"/>
          <p:cNvSpPr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L’indice di congruità è un numero di giornate di lavoro che per ettaro e capo di bestiame/ coltura esprime il fabbisogno di lavoro (stimato sulla base di alcuni dati RICA e sulla ordinarietà di coltivazio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Questi numeri presentati in una tabella per tutte le colture/capi di allevamento diventano il riferimento per valutare le dichiarazioni delle imprese relative ai loro costi del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e tabelle vengono adottate anche per verificare l’idoneità ai fondi della PAC 1 e 2 pilastro. Pertanto in tutti i bandi che danno accesso alla presentazione di istanze per ricevere finanziamenti pubblici vengono fatte le verifiche per evidenziare l’eventuale distacco del dichiarato da quanto stimabile sulla base degli ind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CasellaDiTesto 4"/>
          <p:cNvSpPr/>
          <p:nvPr/>
        </p:nvSpPr>
        <p:spPr>
          <a:xfrm>
            <a:off x="188640" y="38160"/>
            <a:ext cx="74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i limiti delle tabelle adot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ò spesso le discordanze riscontrate non sono degli illeciti. Occorre quindi avere maggiori informazi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Si richiede un’integrazione di informazioni, orientate a giustificare razionalmente l’eventuale scollamento con la stima fatta con gli indici di congruit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ondizioni non concorrenziali nel mercato di sboc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Utilizzo di personale ester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roduttività particolarmente elevata dovuta ad investiment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alamità naturali ed eventi accident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Immagine 6" descr=""/>
          <p:cNvPicPr/>
          <p:nvPr/>
        </p:nvPicPr>
        <p:blipFill>
          <a:blip r:embed="rId1"/>
          <a:stretch/>
        </p:blipFill>
        <p:spPr>
          <a:xfrm>
            <a:off x="1096920" y="196056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160" name="Immagine 8" descr=""/>
          <p:cNvPicPr/>
          <p:nvPr/>
        </p:nvPicPr>
        <p:blipFill>
          <a:blip r:embed="rId2"/>
          <a:stretch/>
        </p:blipFill>
        <p:spPr>
          <a:xfrm>
            <a:off x="1096920" y="4267080"/>
            <a:ext cx="2752920" cy="1552680"/>
          </a:xfrm>
          <a:prstGeom prst="rect">
            <a:avLst/>
          </a:prstGeom>
          <a:ln w="0">
            <a:noFill/>
          </a:ln>
        </p:spPr>
      </p:pic>
      <p:sp>
        <p:nvSpPr>
          <p:cNvPr id="161" name="Rettangolo arrotondato 4"/>
          <p:cNvSpPr/>
          <p:nvPr/>
        </p:nvSpPr>
        <p:spPr>
          <a:xfrm>
            <a:off x="4361040" y="1960560"/>
            <a:ext cx="4387680" cy="1252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Un nuovo strumento metodologico (flessibile, aggiornabile e dalla chiara e comprensibile strutturazione) per una corretta valutazione del fabbisogno di lavoro nelle imprese agrico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ttangolo arrotondato 5"/>
          <p:cNvSpPr/>
          <p:nvPr/>
        </p:nvSpPr>
        <p:spPr>
          <a:xfrm>
            <a:off x="4484520" y="4568760"/>
            <a:ext cx="4264200" cy="731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Nuovi Indicatori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CasellaDiTesto 6"/>
          <p:cNvSpPr/>
          <p:nvPr/>
        </p:nvSpPr>
        <p:spPr>
          <a:xfrm>
            <a:off x="611280" y="11970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on la programmazione 2014/2020 la Regione Puglia si è chiesta cosa potesse migliorare l’attuazione del PSR ai fini della stima dei fabbisogni di lavor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ttangolo arrotondato 7"/>
          <p:cNvSpPr/>
          <p:nvPr/>
        </p:nvSpPr>
        <p:spPr>
          <a:xfrm>
            <a:off x="4149720" y="3355920"/>
            <a:ext cx="240516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Garantisca obiettivi di efficienza aziendale tenendo conto del contesto di merca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ttangolo arrotondato 8"/>
          <p:cNvSpPr/>
          <p:nvPr/>
        </p:nvSpPr>
        <p:spPr>
          <a:xfrm>
            <a:off x="6854760" y="3355920"/>
            <a:ext cx="226872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enga conto dei principi a Salvaguardia e tutela dell’occupazi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Valued Acer Customer</cp:lastModifiedBy>
  <dcterms:modified xsi:type="dcterms:W3CDTF">2017-12-10T22:56:06Z</dcterms:modified>
  <cp:revision>356</cp:revision>
  <dc:subject/>
  <dc:title>Quali politiche e quali governances per i piccoli comuni</dc:title>
</cp:coreProperties>
</file>