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88A6-1DB7-4FD9-9690-7E6D44AD019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BC43-D5DB-46CF-B59C-0B92DD6B5BA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32A5-D50B-4C01-BF48-42CA0EC54DF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1591-88B9-49E2-810E-4E727932FE8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C229-F1F2-41E0-A44D-E5E29AEF8B1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F831-58E8-429A-BDC3-ED2CBBB9CB7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6F80-9082-49D7-8894-A96359BB1C7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3F42-08C4-44BB-A479-F3FDDCC64DD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9A57-8D89-4756-9DE2-D1F6A4FA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E895-8E54-464D-A706-BEEABC5F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EB33-CBF1-498C-8192-98686F3F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A307-36AB-446A-B4B7-037B3ACB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ECE2-F143-4B17-8EB2-71A6769F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DCF3-7984-4D0A-8E9C-E4395579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4BE9-6044-4832-A670-BD0B14FD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20C8-16D8-4E58-8526-062B373E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151C-696C-4BD6-9CED-AABFD3A5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BC41-8C30-40A2-9634-50C98ED2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733C-21B9-40A4-B5B8-F0A448AD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15AB-AD3B-4563-999F-C63A863D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6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7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12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15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4893840" y="65829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b304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B6BB-16AD-462F-AB68-73AFAED70592}" type="slidenum">
              <a:rPr b="0" lang="it-IT" sz="1400" spc="-1" strike="noStrike">
                <a:solidFill>
                  <a:srgbClr val="ebb30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57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58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63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5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66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ttangolo 3"/>
          <p:cNvSpPr/>
          <p:nvPr/>
        </p:nvSpPr>
        <p:spPr>
          <a:xfrm>
            <a:off x="539640" y="2997360"/>
            <a:ext cx="83534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CasellaDiTesto 2"/>
          <p:cNvSpPr/>
          <p:nvPr/>
        </p:nvSpPr>
        <p:spPr>
          <a:xfrm>
            <a:off x="1150920" y="3930480"/>
            <a:ext cx="67341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Grazia Valentino - Franco Gau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CREA – Consiglio per la ricerca in agricoltura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l’analisi dell’economia agr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Immagine 1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2376360" cy="2017800"/>
          </a:xfrm>
          <a:prstGeom prst="rect">
            <a:avLst/>
          </a:prstGeom>
          <a:ln w="0">
            <a:noFill/>
          </a:ln>
        </p:spPr>
      </p:pic>
      <p:sp>
        <p:nvSpPr>
          <p:cNvPr id="117" name="Rettangolo 5"/>
          <p:cNvSpPr/>
          <p:nvPr/>
        </p:nvSpPr>
        <p:spPr>
          <a:xfrm>
            <a:off x="1403280" y="3324240"/>
            <a:ext cx="5454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 fabbisogni di lavoro nelle aree rur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CasellaDiTesto 2"/>
          <p:cNvSpPr/>
          <p:nvPr/>
        </p:nvSpPr>
        <p:spPr>
          <a:xfrm>
            <a:off x="444600" y="181080"/>
            <a:ext cx="76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lavoro in agricoltura tra statistiche ufficiali e realtà loc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itolo 1"/>
          <p:cNvSpPr/>
          <p:nvPr/>
        </p:nvSpPr>
        <p:spPr>
          <a:xfrm>
            <a:off x="351000" y="1023840"/>
            <a:ext cx="59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ARGOMENTO  -  cosa </a:t>
            </a: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approfondisce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Segnaposto contenuto 2"/>
          <p:cNvSpPr/>
          <p:nvPr/>
        </p:nvSpPr>
        <p:spPr>
          <a:xfrm>
            <a:off x="1170000" y="1665360"/>
            <a:ext cx="433872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entury Gothic"/>
              </a:rPr>
              <a:t>Gli elementi,  dichiaratamente o potenzialmente coagenti sul sistema agroalimentare (derivanti dalla politica e dalla normativa vigente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ttangolo arrotondato 5"/>
          <p:cNvSpPr/>
          <p:nvPr/>
        </p:nvSpPr>
        <p:spPr>
          <a:xfrm>
            <a:off x="1239840" y="2935440"/>
            <a:ext cx="2036880" cy="422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Competitività delle impre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ttangolo arrotondato 6"/>
          <p:cNvSpPr/>
          <p:nvPr/>
        </p:nvSpPr>
        <p:spPr>
          <a:xfrm>
            <a:off x="3664080" y="2917800"/>
            <a:ext cx="1434960" cy="403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Tutela dei lavorato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Freccia circolare in giù 7"/>
          <p:cNvSpPr/>
          <p:nvPr/>
        </p:nvSpPr>
        <p:spPr>
          <a:xfrm rot="10800000">
            <a:off x="1817280" y="3678120"/>
            <a:ext cx="3041640" cy="573120"/>
          </a:xfrm>
          <a:custGeom>
            <a:avLst/>
            <a:gdLst>
              <a:gd name="textAreaLeft" fmla="*/ 706680 w 3041640"/>
              <a:gd name="textAreaRight" fmla="*/ 2263320 w 3041640"/>
              <a:gd name="textAreaTop" fmla="*/ 76680 h 573120"/>
              <a:gd name="textAreaBottom" fmla="*/ 496440 h 573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37" hR="21600" stAng="10800000" swAng="5400000"/>
                <a:lnTo>
                  <a:pt x="11054" y="0"/>
                </a:lnTo>
                <a:arcTo wR="10037" hR="21600" stAng="-5400000" swAng="3656466"/>
                <a:lnTo>
                  <a:pt x="21281" y="16200"/>
                </a:lnTo>
                <a:lnTo>
                  <a:pt x="20583" y="21600"/>
                </a:lnTo>
                <a:lnTo>
                  <a:pt x="19246" y="16200"/>
                </a:lnTo>
                <a:lnTo>
                  <a:pt x="19755" y="16200"/>
                </a:lnTo>
                <a:arcTo wR="10037" hR="21600" stAng="-1743534" swAng="-3575447"/>
                <a:lnTo>
                  <a:pt x="10546" y="28"/>
                </a:lnTo>
                <a:arcTo wR="10037" hR="21600" stAng="-5481019" swAng="-5318981"/>
                <a:close/>
              </a:path>
              <a:path fill="darkenLess" w="21600" h="21600">
                <a:moveTo>
                  <a:pt x="0" y="21600"/>
                </a:moveTo>
                <a:arcTo wR="10037" hR="21600" stAng="10800000" swAng="5400000"/>
                <a:lnTo>
                  <a:pt x="10037" y="0"/>
                </a:lnTo>
                <a:arcTo wR="10037" hR="21600" stAng="-5400000" swAng="81019"/>
                <a:lnTo>
                  <a:pt x="10546" y="28"/>
                </a:lnTo>
                <a:arcTo wR="10037" hR="21600" stAng="-5481019" swAng="-5318981"/>
                <a:close/>
              </a:path>
            </a:pathLst>
          </a:cu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Freccia circolare in su 8"/>
          <p:cNvSpPr/>
          <p:nvPr/>
        </p:nvSpPr>
        <p:spPr>
          <a:xfrm>
            <a:off x="2502000" y="3608280"/>
            <a:ext cx="1854000" cy="181080"/>
          </a:xfrm>
          <a:custGeom>
            <a:avLst/>
            <a:gdLst>
              <a:gd name="textAreaLeft" fmla="*/ 446400 w 1854000"/>
              <a:gd name="textAreaRight" fmla="*/ 1384920 w 185400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405" hR="21600" stAng="10800000" swAng="-5400000"/>
                <a:lnTo>
                  <a:pt x="10933" y="21600"/>
                </a:lnTo>
                <a:arcTo wR="10405" hR="21600" stAng="5400000" swAng="-3708449"/>
                <a:lnTo>
                  <a:pt x="21270" y="5400"/>
                </a:lnTo>
                <a:lnTo>
                  <a:pt x="21073" y="0"/>
                </a:lnTo>
                <a:lnTo>
                  <a:pt x="20216" y="5400"/>
                </a:lnTo>
                <a:lnTo>
                  <a:pt x="20479" y="5400"/>
                </a:lnTo>
                <a:arcTo wR="10405" hR="21600" stAng="1691551" swAng="3666420"/>
                <a:lnTo>
                  <a:pt x="10669" y="21593"/>
                </a:lnTo>
                <a:arcTo wR="10405" hR="21600" stAng="5442028" swAng="5357972"/>
                <a:close/>
              </a:path>
              <a:path fill="darkenLess" w="21600" h="21600">
                <a:moveTo>
                  <a:pt x="0" y="0"/>
                </a:moveTo>
                <a:arcTo wR="10405" hR="21600" stAng="10800000" swAng="-5400000"/>
                <a:lnTo>
                  <a:pt x="10933" y="21600"/>
                </a:lnTo>
                <a:arcTo wR="10405" hR="21600" stAng="5400000" swAng="42028"/>
                <a:lnTo>
                  <a:pt x="10669" y="21593"/>
                </a:lnTo>
                <a:arcTo wR="10405" hR="21600" stAng="5442028" swAng="5357972"/>
                <a:close/>
              </a:path>
            </a:pathLst>
          </a:cu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ttangolo 9"/>
          <p:cNvSpPr/>
          <p:nvPr/>
        </p:nvSpPr>
        <p:spPr>
          <a:xfrm>
            <a:off x="1854360" y="4976640"/>
            <a:ext cx="2970000" cy="66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Definizione delle migliori condizioni per il loro potenziamen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Freccia in giù 10"/>
          <p:cNvSpPr/>
          <p:nvPr/>
        </p:nvSpPr>
        <p:spPr>
          <a:xfrm>
            <a:off x="3147840" y="4459320"/>
            <a:ext cx="489240" cy="334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CasellaDiTesto 19"/>
          <p:cNvSpPr/>
          <p:nvPr/>
        </p:nvSpPr>
        <p:spPr>
          <a:xfrm>
            <a:off x="5316480" y="1790640"/>
            <a:ext cx="328788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Century Gothic"/>
              </a:rPr>
              <a:t>Gli elementi per la valutazione del fabbisogno di lavoro nelle imprese agricole puglies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Freccia in giù 12"/>
          <p:cNvSpPr/>
          <p:nvPr/>
        </p:nvSpPr>
        <p:spPr>
          <a:xfrm>
            <a:off x="6883560" y="2612880"/>
            <a:ext cx="552240" cy="447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ttangolo arrotondato 13"/>
          <p:cNvSpPr/>
          <p:nvPr/>
        </p:nvSpPr>
        <p:spPr>
          <a:xfrm>
            <a:off x="6469200" y="3179880"/>
            <a:ext cx="1450800" cy="428400"/>
          </a:xfrm>
          <a:prstGeom prst="roundRect">
            <a:avLst>
              <a:gd name="adj" fmla="val 16667"/>
            </a:avLst>
          </a:prstGeom>
          <a:solidFill>
            <a:srgbClr val="9c9cdf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Sostenibilit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ttangolo arrotondato 14"/>
          <p:cNvSpPr/>
          <p:nvPr/>
        </p:nvSpPr>
        <p:spPr>
          <a:xfrm>
            <a:off x="5508720" y="4203720"/>
            <a:ext cx="1662120" cy="84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Dimensione etica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, a prioritario interesse collettiv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ttangolo arrotondato 15"/>
          <p:cNvSpPr/>
          <p:nvPr/>
        </p:nvSpPr>
        <p:spPr>
          <a:xfrm>
            <a:off x="7381800" y="4203720"/>
            <a:ext cx="1506600" cy="84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Dimensione competitiva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, a prioritario interesse privat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81" name="Connettore 2 17"/>
          <p:cNvCxnSpPr/>
          <p:nvPr/>
        </p:nvCxnSpPr>
        <p:spPr>
          <a:xfrm flipH="1">
            <a:off x="6659640" y="3727080"/>
            <a:ext cx="295560" cy="243720"/>
          </a:xfrm>
          <a:prstGeom prst="straightConnector1">
            <a:avLst/>
          </a:prstGeom>
          <a:ln w="38160">
            <a:solidFill>
              <a:srgbClr val="6b6bcf"/>
            </a:solidFill>
            <a:miter/>
            <a:tailEnd len="med" type="triangle" w="med"/>
          </a:ln>
        </p:spPr>
      </p:cxnSp>
      <p:cxnSp>
        <p:nvCxnSpPr>
          <p:cNvPr id="182" name="Connettore 2 18"/>
          <p:cNvCxnSpPr/>
          <p:nvPr/>
        </p:nvCxnSpPr>
        <p:spPr>
          <a:xfrm>
            <a:off x="7534080" y="3727080"/>
            <a:ext cx="386280" cy="243720"/>
          </a:xfrm>
          <a:prstGeom prst="straightConnector1">
            <a:avLst/>
          </a:prstGeom>
          <a:ln w="38160">
            <a:solidFill>
              <a:srgbClr val="6b6bcf"/>
            </a:solidFill>
            <a:miter/>
            <a:tailEnd len="med" type="triangle" w="med"/>
          </a:ln>
        </p:spPr>
      </p:cxnSp>
      <p:sp>
        <p:nvSpPr>
          <p:cNvPr id="183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e 1"/>
          <p:cNvSpPr/>
          <p:nvPr/>
        </p:nvSpPr>
        <p:spPr>
          <a:xfrm>
            <a:off x="5796000" y="1628640"/>
            <a:ext cx="3166920" cy="115272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Favorire ottimale attuazione del PSR in particolare delle Misure a sostegno della competitività delle imprese agrico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Segnaposto contenuto 4" descr=""/>
          <p:cNvPicPr/>
          <p:nvPr/>
        </p:nvPicPr>
        <p:blipFill>
          <a:blip r:embed="rId1"/>
          <a:stretch/>
        </p:blipFill>
        <p:spPr>
          <a:xfrm>
            <a:off x="1011240" y="2889360"/>
            <a:ext cx="6950160" cy="2846160"/>
          </a:xfrm>
          <a:prstGeom prst="rect">
            <a:avLst/>
          </a:prstGeom>
          <a:ln w="0">
            <a:noFill/>
          </a:ln>
        </p:spPr>
      </p:pic>
      <p:sp>
        <p:nvSpPr>
          <p:cNvPr id="186" name="CasellaDiTesto 3"/>
          <p:cNvSpPr/>
          <p:nvPr/>
        </p:nvSpPr>
        <p:spPr>
          <a:xfrm>
            <a:off x="971640" y="118440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progetto risponde ai fabbisogni del PSR Puglia 2014-2020 ed è assolutamente coerente con i suoi obiettiv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’ inquadrato nella misura 20 del PSR Pugl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CasellaDiTesto 2"/>
          <p:cNvSpPr/>
          <p:nvPr/>
        </p:nvSpPr>
        <p:spPr>
          <a:xfrm>
            <a:off x="0" y="12603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Stima del fabbisogno di lavoro in aree rurali calabre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Limi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91" name="CasellaDiTesto 4"/>
          <p:cNvSpPr/>
          <p:nvPr/>
        </p:nvSpPr>
        <p:spPr>
          <a:xfrm>
            <a:off x="194760" y="3816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tenuto della presen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Immagine 7" descr=""/>
          <p:cNvPicPr/>
          <p:nvPr/>
        </p:nvPicPr>
        <p:blipFill>
          <a:blip r:embed="rId2"/>
          <a:stretch/>
        </p:blipFill>
        <p:spPr>
          <a:xfrm>
            <a:off x="684360" y="28335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93" name="Immagine 1" descr=""/>
          <p:cNvPicPr/>
          <p:nvPr/>
        </p:nvPicPr>
        <p:blipFill>
          <a:blip r:embed="rId3"/>
          <a:stretch/>
        </p:blipFill>
        <p:spPr>
          <a:xfrm>
            <a:off x="4500720" y="2395440"/>
            <a:ext cx="4425840" cy="19573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96" name="CasellaDiTesto 4"/>
          <p:cNvSpPr/>
          <p:nvPr/>
        </p:nvSpPr>
        <p:spPr>
          <a:xfrm>
            <a:off x="186480" y="381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ocalizzazione a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Immagine 5" descr=""/>
          <p:cNvPicPr/>
          <p:nvPr/>
        </p:nvPicPr>
        <p:blipFill>
          <a:blip r:embed="rId2"/>
          <a:stretch/>
        </p:blipFill>
        <p:spPr>
          <a:xfrm>
            <a:off x="1403280" y="674640"/>
            <a:ext cx="5113440" cy="5253120"/>
          </a:xfrm>
          <a:prstGeom prst="rect">
            <a:avLst/>
          </a:prstGeom>
          <a:ln w="0">
            <a:noFill/>
          </a:ln>
        </p:spPr>
      </p:pic>
      <p:cxnSp>
        <p:nvCxnSpPr>
          <p:cNvPr id="199" name="Connettore 2 10"/>
          <p:cNvCxnSpPr/>
          <p:nvPr/>
        </p:nvCxnSpPr>
        <p:spPr>
          <a:xfrm flipH="1">
            <a:off x="4953960" y="2563920"/>
            <a:ext cx="43236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Connettore 2 14"/>
          <p:cNvCxnSpPr/>
          <p:nvPr/>
        </p:nvCxnSpPr>
        <p:spPr>
          <a:xfrm flipH="1">
            <a:off x="5409720" y="3338640"/>
            <a:ext cx="289440" cy="7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Connettore 2 17"/>
          <p:cNvCxnSpPr>
            <a:stCxn id="202" idx="2"/>
          </p:cNvCxnSpPr>
          <p:nvPr/>
        </p:nvCxnSpPr>
        <p:spPr>
          <a:xfrm>
            <a:off x="4205160" y="3595680"/>
            <a:ext cx="38808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Connettore 2 19"/>
          <p:cNvCxnSpPr/>
          <p:nvPr/>
        </p:nvCxnSpPr>
        <p:spPr>
          <a:xfrm>
            <a:off x="4046400" y="3994200"/>
            <a:ext cx="31680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CasellaDiTesto 20"/>
          <p:cNvSpPr/>
          <p:nvPr/>
        </p:nvSpPr>
        <p:spPr>
          <a:xfrm>
            <a:off x="7093080" y="1989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aree B del PS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CasellaDiTesto 21"/>
          <p:cNvSpPr/>
          <p:nvPr/>
        </p:nvSpPr>
        <p:spPr>
          <a:xfrm>
            <a:off x="5093280" y="27972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Siba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CasellaDiTesto 22"/>
          <p:cNvSpPr/>
          <p:nvPr/>
        </p:nvSpPr>
        <p:spPr>
          <a:xfrm>
            <a:off x="5428800" y="347184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Crot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CasellaDiTesto 23"/>
          <p:cNvSpPr/>
          <p:nvPr/>
        </p:nvSpPr>
        <p:spPr>
          <a:xfrm>
            <a:off x="3820680" y="328788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mez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CasellaDiTesto 26"/>
          <p:cNvSpPr/>
          <p:nvPr/>
        </p:nvSpPr>
        <p:spPr>
          <a:xfrm>
            <a:off x="3796200" y="37036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Gioia 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09" name="CasellaDiTesto 4"/>
          <p:cNvSpPr/>
          <p:nvPr/>
        </p:nvSpPr>
        <p:spPr>
          <a:xfrm>
            <a:off x="177480" y="38160"/>
            <a:ext cx="35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erritorializzazione PS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Immagine 7" descr=""/>
          <p:cNvPicPr/>
          <p:nvPr/>
        </p:nvPicPr>
        <p:blipFill>
          <a:blip r:embed="rId2"/>
          <a:stretch/>
        </p:blipFill>
        <p:spPr>
          <a:xfrm>
            <a:off x="2268360" y="1108080"/>
            <a:ext cx="3743640" cy="491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13" name="CasellaDiTesto 4"/>
          <p:cNvSpPr/>
          <p:nvPr/>
        </p:nvSpPr>
        <p:spPr>
          <a:xfrm>
            <a:off x="183600" y="38160"/>
            <a:ext cx="236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onti  utilizz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CasellaDiTesto 1"/>
          <p:cNvSpPr/>
          <p:nvPr/>
        </p:nvSpPr>
        <p:spPr>
          <a:xfrm>
            <a:off x="2016720" y="1989000"/>
            <a:ext cx="664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tilizzazione dei terren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api per allevam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ettaro/coltura capi/allevamenti 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TAT, 6° censimento dell’agricoltura italia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TAT, Indagine campionaria (anni 2013 e 2016)denominat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truttura e Produzioni delle Aziende Agricole” (SPA)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PS, Elenco OT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17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050920" y="1413000"/>
          <a:ext cx="4249800" cy="3519360"/>
        </p:xfrm>
        <a:graphic>
          <a:graphicData uri="http://schemas.openxmlformats.org/drawingml/2006/table">
            <a:tbl>
              <a:tblPr/>
              <a:tblGrid>
                <a:gridCol w="792360"/>
                <a:gridCol w="3457440"/>
              </a:tblGrid>
              <a:tr h="1172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bbisogno lavoro (stima in g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ab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11.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oia 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62.5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b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65.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.8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mez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53.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21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619280" y="1700280"/>
          <a:ext cx="6769080" cy="4105080"/>
        </p:xfrm>
        <a:graphic>
          <a:graphicData uri="http://schemas.openxmlformats.org/drawingml/2006/table">
            <a:tbl>
              <a:tblPr/>
              <a:tblGrid>
                <a:gridCol w="804960"/>
                <a:gridCol w="1446120"/>
                <a:gridCol w="1038240"/>
                <a:gridCol w="1312920"/>
                <a:gridCol w="1128600"/>
                <a:gridCol w="1038240"/>
              </a:tblGrid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ma fabbisog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i IN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ili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famili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ab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11.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481.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940.9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22.3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596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oia 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62.5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.8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.7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5.6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1.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6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b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65.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2.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4.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26.4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98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.8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.8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.1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.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mez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53.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.9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2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5.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4.5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25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7" name="Grafico 5"/>
          <p:cNvGraphicFramePr/>
          <p:nvPr/>
        </p:nvGraphicFramePr>
        <p:xfrm>
          <a:off x="1496880" y="1433520"/>
          <a:ext cx="7446960" cy="456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8" name="Grafico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6880" y="1433520"/>
                    <a:ext cx="74469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CasellaDiTesto 1"/>
          <p:cNvSpPr/>
          <p:nvPr/>
        </p:nvSpPr>
        <p:spPr>
          <a:xfrm>
            <a:off x="-8640" y="1081080"/>
            <a:ext cx="570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Istat= gg familiari+extrafamiliari; Istat+Inps= gg familiari Istat+lavoratori In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31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Ovale 1"/>
          <p:cNvSpPr/>
          <p:nvPr/>
        </p:nvSpPr>
        <p:spPr>
          <a:xfrm>
            <a:off x="206280" y="1197000"/>
            <a:ext cx="2952720" cy="172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ati ISTAT extrafamili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Ovale 2"/>
          <p:cNvSpPr/>
          <p:nvPr/>
        </p:nvSpPr>
        <p:spPr>
          <a:xfrm>
            <a:off x="179280" y="2133720"/>
            <a:ext cx="288000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ati IN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CasellaDiTesto 5"/>
          <p:cNvSpPr/>
          <p:nvPr/>
        </p:nvSpPr>
        <p:spPr>
          <a:xfrm>
            <a:off x="3433680" y="1844640"/>
            <a:ext cx="553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INPS in Calab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ovrastima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critti all’INPS senza lavor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chiarazione di giornate superiori a quelle effettivamente svol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CasellaDiTesto 7"/>
          <p:cNvSpPr/>
          <p:nvPr/>
        </p:nvSpPr>
        <p:spPr>
          <a:xfrm>
            <a:off x="1682640" y="4246560"/>
            <a:ext cx="720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Fonte: "Differenziazioni aziendali, pluriattività, domanda, offerta e "consumo" di politiche nel Mezzogiorno", in </a:t>
            </a:r>
            <a:r>
              <a:rPr b="0" i="1" lang="it-IT" sz="1200" spc="-1" strike="noStrike">
                <a:solidFill>
                  <a:srgbClr val="000000"/>
                </a:solidFill>
                <a:latin typeface="Calibri"/>
              </a:rPr>
              <a:t>Strategie familiari, pluriattività e politiche agrarie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, Il Mulino, Bologna, 1992, pp. 239-314 (con Franco Gaudio and Giuseppe Gaudio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contenuto 1"/>
          <p:cNvSpPr/>
          <p:nvPr/>
        </p:nvSpPr>
        <p:spPr>
          <a:xfrm>
            <a:off x="468360" y="1052640"/>
            <a:ext cx="8300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l lavoro in agricoltura è frequentemente associato a fenomeni di irregolarità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’irregolarità in agricoltura non conosce confini geografici in Itali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Competitività basata su illecita riduzione del costo del lavoro (concorrenza sleale basata sull’impiego di manodopera non in rego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Quali strumenti di politica economica per arginarli? Il fabbisogno di lavoro in agricoltura (come quantificarlo e quali le difficoltà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L’esperienza puglies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occorre ripensare ad una migliore metodologia di calcolo: Un nuovo progetto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Da cosa partire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CasellaDiTesto 4"/>
          <p:cNvSpPr/>
          <p:nvPr/>
        </p:nvSpPr>
        <p:spPr>
          <a:xfrm>
            <a:off x="205200" y="38160"/>
            <a:ext cx="73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l fabbisogno di  lavoro nelle aree rurali: summ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Ovale 1"/>
          <p:cNvSpPr/>
          <p:nvPr/>
        </p:nvSpPr>
        <p:spPr>
          <a:xfrm>
            <a:off x="5219640" y="2108160"/>
            <a:ext cx="3313080" cy="384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iversamente per il «rurale»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38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187280" y="1268280"/>
          <a:ext cx="7129800" cy="3600720"/>
        </p:xfrm>
        <a:graphic>
          <a:graphicData uri="http://schemas.openxmlformats.org/drawingml/2006/table">
            <a:tbl>
              <a:tblPr/>
              <a:tblGrid>
                <a:gridCol w="822600"/>
                <a:gridCol w="1042920"/>
                <a:gridCol w="1168200"/>
                <a:gridCol w="1660680"/>
                <a:gridCol w="1420920"/>
                <a:gridCol w="1014480"/>
              </a:tblGrid>
              <a:tr h="1543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r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miliar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xtrafamiliar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pendenti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pendenti INPS corret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465.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2.4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34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968.4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181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oia 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062.5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0.8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4.7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1.3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0.8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64.8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93.8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.3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1.9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.1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353.1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2.9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.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4.5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.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42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92360" y="1773360"/>
          <a:ext cx="5832360" cy="2663640"/>
        </p:xfrm>
        <a:graphic>
          <a:graphicData uri="http://schemas.openxmlformats.org/drawingml/2006/table">
            <a:tbl>
              <a:tblPr/>
              <a:tblGrid>
                <a:gridCol w="1020600"/>
                <a:gridCol w="1297080"/>
                <a:gridCol w="1452600"/>
                <a:gridCol w="2062080"/>
              </a:tblGrid>
              <a:tr h="720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 corr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738.8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4.4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291.8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oia 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56.9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0.3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00.9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6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9.6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29.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5.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7.9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5.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19.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46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Grafico 6"/>
          <p:cNvGraphicFramePr/>
          <p:nvPr/>
        </p:nvGraphicFramePr>
        <p:xfrm>
          <a:off x="1641600" y="1433520"/>
          <a:ext cx="6797520" cy="3917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9" name="Grafico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1600" y="1433520"/>
                    <a:ext cx="679752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979640" y="1773360"/>
          <a:ext cx="6192720" cy="3959280"/>
        </p:xfrm>
        <a:graphic>
          <a:graphicData uri="http://schemas.openxmlformats.org/drawingml/2006/table">
            <a:tbl>
              <a:tblPr/>
              <a:tblGrid>
                <a:gridCol w="1084320"/>
                <a:gridCol w="1376280"/>
                <a:gridCol w="1541520"/>
                <a:gridCol w="2190600"/>
              </a:tblGrid>
              <a:tr h="197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 corr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8.9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4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.5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osa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.9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.6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3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6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.1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.6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.4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.6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53" name="Rettangolo 1"/>
          <p:cNvSpPr/>
          <p:nvPr/>
        </p:nvSpPr>
        <p:spPr>
          <a:xfrm>
            <a:off x="186480" y="17136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abbisogno di lavoro (numero lavorator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ttangolo 1"/>
          <p:cNvSpPr/>
          <p:nvPr/>
        </p:nvSpPr>
        <p:spPr>
          <a:xfrm>
            <a:off x="193680" y="171360"/>
            <a:ext cx="44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abbisogno di lavoro (approfondimenti futur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asellaDiTesto 3"/>
          <p:cNvSpPr/>
          <p:nvPr/>
        </p:nvSpPr>
        <p:spPr>
          <a:xfrm>
            <a:off x="1250640" y="116532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ttangolo 4"/>
          <p:cNvSpPr/>
          <p:nvPr/>
        </p:nvSpPr>
        <p:spPr>
          <a:xfrm>
            <a:off x="1649520" y="1706400"/>
            <a:ext cx="64101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Rete di Informazione Contabile Agricola (R.I.C.A.) è una indagine campionaria annuale istituita dalla Commissione Economica Europea nel 1965, con il 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Calibri"/>
              </a:rPr>
              <a:t>Regolamento CEE 79/56 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e aggiornata con il Reg. CE 1217/2009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RICA italiana si basa su un campione ragionato di circa 11.000 aziende, strutturato in modo da rappresentare le diverse tipologie produttive e dimensionali presenti sul territorio nazionale. Le aziende agricole che partecipano alla RICA (Campo di osservazione RICA) vengono selezionate sulla base di un piano di campionamento redatto per singola regione e provincia autonoma. Il campione RICA consente una copertura media a livello nazionale del 95% della SAU, del 97% del valore della Produzione Standard, del 92% delle Unità di Lavoro, e del 91% delle Unità di Bestia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Base dat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Utilizzazione terren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vo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Aggiornata annualmen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CasellaDiTesto 1"/>
          <p:cNvSpPr/>
          <p:nvPr/>
        </p:nvSpPr>
        <p:spPr>
          <a:xfrm>
            <a:off x="2484360" y="2205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Grazie per l’attenzion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asellaDiTesto 2"/>
          <p:cNvSpPr/>
          <p:nvPr/>
        </p:nvSpPr>
        <p:spPr>
          <a:xfrm>
            <a:off x="3564000" y="414972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ranco.gaudio@crea.gov.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grazia.valentino@crea.gov.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contenuto 1"/>
          <p:cNvSpPr/>
          <p:nvPr/>
        </p:nvSpPr>
        <p:spPr>
          <a:xfrm>
            <a:off x="468360" y="1052640"/>
            <a:ext cx="8300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e imprese agricole per essere competitive, soprattutto nel libero mercato e per prodotti indifferenziati hanno bisogno di contenere i propri costi di produ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Una delle voci  di costo più incisive nel bilancio agricolo soprattutto nei comparti molto </a:t>
            </a:r>
            <a:r>
              <a:rPr b="0" i="1" lang="it-IT" sz="2000" spc="-1" strike="noStrike">
                <a:solidFill>
                  <a:srgbClr val="000000"/>
                </a:solidFill>
                <a:latin typeface="Trebuchet MS"/>
              </a:rPr>
              <a:t>labor intensive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è il lavoro. Quindi facilmente si decide di operare su di essa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CasellaDiTesto 4"/>
          <p:cNvSpPr/>
          <p:nvPr/>
        </p:nvSpPr>
        <p:spPr>
          <a:xfrm>
            <a:off x="184680" y="3816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l lavoro irregolare in agricoltu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reccia in su 4"/>
          <p:cNvSpPr/>
          <p:nvPr/>
        </p:nvSpPr>
        <p:spPr>
          <a:xfrm rot="10800000">
            <a:off x="1988640" y="3083040"/>
            <a:ext cx="576360" cy="4204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Elaborazione 7"/>
          <p:cNvSpPr/>
          <p:nvPr/>
        </p:nvSpPr>
        <p:spPr>
          <a:xfrm>
            <a:off x="971640" y="3643200"/>
            <a:ext cx="2952720" cy="647640"/>
          </a:xfrm>
          <a:prstGeom prst="flowChartProcess">
            <a:avLst/>
          </a:prstGeom>
          <a:gradFill rotWithShape="0">
            <a:gsLst>
              <a:gs pos="0">
                <a:srgbClr val="bebef6"/>
              </a:gs>
              <a:gs pos="100000">
                <a:srgbClr val="eaeafb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ducendo il pagamento dei contribu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laborazione 8"/>
          <p:cNvSpPr/>
          <p:nvPr/>
        </p:nvSpPr>
        <p:spPr>
          <a:xfrm>
            <a:off x="971640" y="4508640"/>
            <a:ext cx="2952720" cy="1224000"/>
          </a:xfrm>
          <a:prstGeom prst="flowChartProcess">
            <a:avLst/>
          </a:prstGeom>
          <a:gradFill rotWithShape="0">
            <a:gsLst>
              <a:gs pos="0">
                <a:srgbClr val="76768d"/>
              </a:gs>
              <a:gs pos="100000">
                <a:srgbClr val="cbcbf1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rrispondendo  retribuzioni inferiori a quelle previste con regolare assunzi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Diagramma 16" descr=""/>
          <p:cNvPicPr/>
          <p:nvPr/>
        </p:nvPicPr>
        <p:blipFill>
          <a:blip r:embed="rId1"/>
          <a:stretch/>
        </p:blipFill>
        <p:spPr>
          <a:xfrm>
            <a:off x="4730760" y="3597120"/>
            <a:ext cx="3998880" cy="2310120"/>
          </a:xfrm>
          <a:prstGeom prst="rect">
            <a:avLst/>
          </a:prstGeom>
          <a:ln w="0">
            <a:noFill/>
          </a:ln>
        </p:spPr>
      </p:pic>
      <p:sp>
        <p:nvSpPr>
          <p:cNvPr id="131" name="Parentesi graffa chiusa 17"/>
          <p:cNvSpPr/>
          <p:nvPr/>
        </p:nvSpPr>
        <p:spPr>
          <a:xfrm>
            <a:off x="4067280" y="3645000"/>
            <a:ext cx="433440" cy="2087640"/>
          </a:xfrm>
          <a:custGeom>
            <a:avLst/>
            <a:gdLst>
              <a:gd name="textAreaLeft" fmla="*/ 0 w 433440"/>
              <a:gd name="textAreaRight" fmla="*/ 156600 w 43344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2" name="Connettore 2 3"/>
          <p:cNvCxnSpPr/>
          <p:nvPr/>
        </p:nvCxnSpPr>
        <p:spPr>
          <a:xfrm flipV="1">
            <a:off x="4511520" y="4382640"/>
            <a:ext cx="183600" cy="306720"/>
          </a:xfrm>
          <a:prstGeom prst="straightConnector1">
            <a:avLst/>
          </a:prstGeom>
          <a:ln w="93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33" name="Connettore 2 11"/>
          <p:cNvCxnSpPr/>
          <p:nvPr/>
        </p:nvCxnSpPr>
        <p:spPr>
          <a:xfrm>
            <a:off x="4511520" y="4714920"/>
            <a:ext cx="183600" cy="227520"/>
          </a:xfrm>
          <a:prstGeom prst="straightConnector1">
            <a:avLst/>
          </a:prstGeom>
          <a:ln w="9360">
            <a:solidFill>
              <a:srgbClr val="ffc000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contenuto 2"/>
          <p:cNvSpPr/>
          <p:nvPr/>
        </p:nvSpPr>
        <p:spPr>
          <a:xfrm>
            <a:off x="457200" y="160020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Entrambi i problemi investono la collettività, impongono pertanto una soluzione di politica economica. Solitamente ci sono due possibilit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Trebuchet MS"/>
              </a:rPr>
              <a:t>Strumenti di disincentivazione attraverso un sistema di controlli e ammende per i trasgresso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b6bcf"/>
                </a:solidFill>
                <a:latin typeface="Trebuchet MS"/>
              </a:rPr>
              <a:t>Strumenti che incentivino  nelle imprese l’adozione di comportamenti virtuosi attraverso un sistema di vantaggi e benefic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CasellaDiTesto 4"/>
          <p:cNvSpPr/>
          <p:nvPr/>
        </p:nvSpPr>
        <p:spPr>
          <a:xfrm>
            <a:off x="207000" y="38160"/>
            <a:ext cx="573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Quali strumenti di politica economic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contenuto 2"/>
          <p:cNvSpPr/>
          <p:nvPr/>
        </p:nvSpPr>
        <p:spPr>
          <a:xfrm>
            <a:off x="457200" y="134136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n Puglia, con la L.R. 28/2006, si è deciso di creare questo sistema di vantaggi orientando il flusso delle risorse pubbliche verso le aziende che garantiscono un corretto impiego di manodopera (</a:t>
            </a:r>
            <a:r>
              <a:rPr b="1" lang="it-IT" sz="2200" spc="-1" strike="noStrike">
                <a:solidFill>
                  <a:srgbClr val="000000"/>
                </a:solidFill>
                <a:latin typeface="Trebuchet MS"/>
              </a:rPr>
              <a:t>parametro di normalità tecnica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CasellaDiTesto 4"/>
          <p:cNvSpPr/>
          <p:nvPr/>
        </p:nvSpPr>
        <p:spPr>
          <a:xfrm>
            <a:off x="169560" y="38160"/>
            <a:ext cx="32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Ovale 2"/>
          <p:cNvSpPr/>
          <p:nvPr/>
        </p:nvSpPr>
        <p:spPr>
          <a:xfrm>
            <a:off x="1440000" y="2781360"/>
            <a:ext cx="6264000" cy="1008000"/>
          </a:xfrm>
          <a:prstGeom prst="ellipse">
            <a:avLst/>
          </a:prstGeom>
          <a:solidFill>
            <a:srgbClr val="64ea8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ome individuare queste aziend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Ovale 4"/>
          <p:cNvSpPr/>
          <p:nvPr/>
        </p:nvSpPr>
        <p:spPr>
          <a:xfrm>
            <a:off x="549360" y="4292640"/>
            <a:ext cx="3600360" cy="1728720"/>
          </a:xfrm>
          <a:prstGeom prst="ellips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ccorre uno Strumento che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metta di far emergere le realtà irregol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1" name="Rettangolo arrotondato 5"/>
          <p:cNvGrpSpPr/>
          <p:nvPr/>
        </p:nvGrpSpPr>
        <p:grpSpPr>
          <a:xfrm>
            <a:off x="5578560" y="5145120"/>
            <a:ext cx="3120840" cy="817560"/>
            <a:chOff x="5578560" y="5145120"/>
            <a:chExt cx="3120840" cy="817560"/>
          </a:xfrm>
        </p:grpSpPr>
        <p:pic>
          <p:nvPicPr>
            <p:cNvPr id="142" name="Rettangolo arrotondato 5" descr=""/>
            <p:cNvPicPr/>
            <p:nvPr/>
          </p:nvPicPr>
          <p:blipFill>
            <a:blip r:embed="rId1"/>
            <a:stretch/>
          </p:blipFill>
          <p:spPr>
            <a:xfrm>
              <a:off x="5578560" y="5145120"/>
              <a:ext cx="31208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629320" y="5195880"/>
              <a:ext cx="30193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Permette la stima del fabbisogno di lavor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" name="Freccia in giù 6"/>
          <p:cNvSpPr/>
          <p:nvPr/>
        </p:nvSpPr>
        <p:spPr>
          <a:xfrm>
            <a:off x="2124000" y="3809880"/>
            <a:ext cx="74628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Freccia in giù 7"/>
          <p:cNvSpPr/>
          <p:nvPr/>
        </p:nvSpPr>
        <p:spPr>
          <a:xfrm rot="15198600">
            <a:off x="4708440" y="4052880"/>
            <a:ext cx="363600" cy="124632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ttangolo 9"/>
          <p:cNvSpPr/>
          <p:nvPr/>
        </p:nvSpPr>
        <p:spPr>
          <a:xfrm>
            <a:off x="5789880" y="423216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DICE DI CONGRUIT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Freccia in giù 6"/>
          <p:cNvSpPr/>
          <p:nvPr/>
        </p:nvSpPr>
        <p:spPr>
          <a:xfrm>
            <a:off x="6948360" y="4602240"/>
            <a:ext cx="360360" cy="426960"/>
          </a:xfrm>
          <a:prstGeom prst="down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contenuto 2"/>
          <p:cNvSpPr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L’indice di congruità è un numero di giornate di lavoro che per ettaro e capo di bestiame/ coltura esprime il fabbisogno di lavoro (stimato sulla base di alcuni dati RICA e sulla ordinarietà di coltivazio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Questi numeri presentati in una tabella per tutte le colture/capi di allevamento diventano il riferimento per valutare le dichiarazioni delle imprese relative ai loro costi del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CasellaDiTesto 4"/>
          <p:cNvSpPr/>
          <p:nvPr/>
        </p:nvSpPr>
        <p:spPr>
          <a:xfrm>
            <a:off x="183240" y="38160"/>
            <a:ext cx="76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stima dei fabbisogni di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contenuto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Le tabelle vengono adottate anche per verificare l’idoneità ai fondi della PAC 1 e 2 pilastro. Pertanto in tutti i bandi che danno accesso alla presentazione di istanze per ricevere finanziamenti pubblici vengono fatte le verifiche per evidenziare l’eventuale distacco del dichiarato da quanto stimabile sulla base degli ind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CasellaDiTesto 4"/>
          <p:cNvSpPr/>
          <p:nvPr/>
        </p:nvSpPr>
        <p:spPr>
          <a:xfrm>
            <a:off x="183240" y="38160"/>
            <a:ext cx="76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stima dei fabbisogni di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CasellaDiTesto 4"/>
          <p:cNvSpPr/>
          <p:nvPr/>
        </p:nvSpPr>
        <p:spPr>
          <a:xfrm>
            <a:off x="188640" y="38160"/>
            <a:ext cx="74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i limiti delle tabelle adot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Segnaposto contenuto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ò spesso le discordanze riscontrate non sono degli illeciti. Occorre quindi avere maggiori informazion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Si richiede un’integrazione di informazioni, orientate a giustificare razionalmente l’eventuale scollamento con la stima fatta con gli indici di congruit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ondizioni non concorrenziali nel mercato di sboc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Utilizzo di personale ester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roduttività particolarmente elevata dovuta ad investiment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alamità naturali ed eventi accidenta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Immagine 6" descr=""/>
          <p:cNvPicPr/>
          <p:nvPr/>
        </p:nvPicPr>
        <p:blipFill>
          <a:blip r:embed="rId1"/>
          <a:stretch/>
        </p:blipFill>
        <p:spPr>
          <a:xfrm>
            <a:off x="1096920" y="196056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160" name="Immagine 8" descr=""/>
          <p:cNvPicPr/>
          <p:nvPr/>
        </p:nvPicPr>
        <p:blipFill>
          <a:blip r:embed="rId2"/>
          <a:stretch/>
        </p:blipFill>
        <p:spPr>
          <a:xfrm>
            <a:off x="1096920" y="4267080"/>
            <a:ext cx="2752920" cy="1552680"/>
          </a:xfrm>
          <a:prstGeom prst="rect">
            <a:avLst/>
          </a:prstGeom>
          <a:ln w="0">
            <a:noFill/>
          </a:ln>
        </p:spPr>
      </p:pic>
      <p:sp>
        <p:nvSpPr>
          <p:cNvPr id="161" name="Rettangolo arrotondato 4"/>
          <p:cNvSpPr/>
          <p:nvPr/>
        </p:nvSpPr>
        <p:spPr>
          <a:xfrm>
            <a:off x="4361040" y="1960560"/>
            <a:ext cx="4387680" cy="1252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Un nuovo strumento metodologico (flessibile, aggiornabile e dalla chiara e comprensibile strutturazione) per una corretta valutazione del fabbisogno di lavoro nelle imprese agrico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ttangolo arrotondato 5"/>
          <p:cNvSpPr/>
          <p:nvPr/>
        </p:nvSpPr>
        <p:spPr>
          <a:xfrm>
            <a:off x="4484520" y="4568760"/>
            <a:ext cx="4264200" cy="731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Nuovi Indicatori di congruit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CasellaDiTesto 6"/>
          <p:cNvSpPr/>
          <p:nvPr/>
        </p:nvSpPr>
        <p:spPr>
          <a:xfrm>
            <a:off x="611280" y="11970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on la programmazione 2014/2020 la Regione Puglia si è chiesta cosa potesse migliorare l’attuazione del PSR ai fini della stima dei fabbisogni di lavoro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ttangolo arrotondato 7"/>
          <p:cNvSpPr/>
          <p:nvPr/>
        </p:nvSpPr>
        <p:spPr>
          <a:xfrm>
            <a:off x="4149720" y="3355920"/>
            <a:ext cx="2405160" cy="911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Garantisca obiettivi di efficienza aziendale tenendo conto del contesto di merca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ttangolo arrotondato 8"/>
          <p:cNvSpPr/>
          <p:nvPr/>
        </p:nvSpPr>
        <p:spPr>
          <a:xfrm>
            <a:off x="6854760" y="3355920"/>
            <a:ext cx="2268720" cy="911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Tenga conto dei principi a Salvaguardia e tutela dell’occupazi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46:11Z</dcterms:created>
  <dc:creator>Tatiana Castellotti</dc:creator>
  <dc:description/>
  <dc:language>en-US</dc:language>
  <cp:lastModifiedBy>Valued Acer Customer</cp:lastModifiedBy>
  <dcterms:modified xsi:type="dcterms:W3CDTF">2017-12-10T22:56:06Z</dcterms:modified>
  <cp:revision>356</cp:revision>
  <dc:subject/>
  <dc:title>Quali politiche e quali governances per i piccoli comuni</dc:title>
</cp:coreProperties>
</file>