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743A-0B6B-4ADC-90E7-74E8FAA47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A688-DD05-4B70-AE54-AE840697C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BFF6-746A-410F-97E0-6588EF61E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0B6E-D31E-4C64-BF60-32AE46ECB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7EA2F-189D-432F-8FEF-2693E2897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9FD6F-18B6-46BC-AA39-26D26CE1D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FD575-B173-4C6C-9A0F-A0AFA78F4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A95A9-992C-4CBE-BD4D-130DB7DF8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53D52-F07E-4E34-A8F3-DF05B6EDF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7775C-0497-4EE5-8265-E78ED4997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889FB-3673-4F0A-B4F9-0039889B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7094-09A5-415D-B826-74EDFC171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03947-77BF-46D8-A6CB-4ED2F51A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1A9D5-B510-4600-909C-8996EF88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E0B3C-C81C-491D-94A9-113141334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8F132-C554-457F-8928-4FD076ABC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8A95C-55F4-4F2C-B040-80F320EAA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9463-85C2-4E51-8574-91EFE2742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31F4-AA8A-4280-AC28-2E8857F36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3952-E4A1-44BF-AE49-D2C155AC2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3E30-0830-477C-9199-32C452ED1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41B7-D9B0-4CD0-B5DC-B74184276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F082-BB4A-483E-BB0D-0B9AFCF1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9655-B0EA-4BF1-8A71-72FF96F4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11FC2-7314-4FFF-A101-BCAA79F16A8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EC9A3-DD0B-4475-AFBB-039AB347A13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Verdana"/>
              </a:rPr>
              <a:t>Legge 199/2016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84000" y="3428640"/>
            <a:ext cx="7802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Azioni virtuose e criticit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Picture 4" descr="Risultato immagine per LOGO FLAI CGIL"/>
          <p:cNvPicPr/>
          <p:nvPr/>
        </p:nvPicPr>
        <p:blipFill>
          <a:blip r:embed="rId1"/>
          <a:stretch/>
        </p:blipFill>
        <p:spPr>
          <a:xfrm>
            <a:off x="179280" y="189000"/>
            <a:ext cx="723960" cy="8953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6"/>
          <p:cNvSpPr/>
          <p:nvPr/>
        </p:nvSpPr>
        <p:spPr>
          <a:xfrm>
            <a:off x="0" y="272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-8280" y="2721960"/>
            <a:ext cx="1686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1476360" y="691200"/>
            <a:ext cx="532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Franklin Gothic Book"/>
                <a:ea typeface="Calibri"/>
              </a:rPr>
              <a:t>Federazione Lavoratori Agroindustria LECC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Verdana"/>
              </a:rPr>
              <a:t>GRAZI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Monica Accogl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Flai CGIL Lecc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2023560" y="548280"/>
            <a:ext cx="414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Franklin Gothic Book"/>
                <a:ea typeface="Calibri"/>
              </a:rPr>
              <a:t>Federazione Lavoratori Agroindustria LECC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Picture 5" descr="Risultato immagine per LOGO FLAI CGIL"/>
          <p:cNvPicPr/>
          <p:nvPr/>
        </p:nvPicPr>
        <p:blipFill>
          <a:blip r:embed="rId1"/>
          <a:stretch/>
        </p:blipFill>
        <p:spPr>
          <a:xfrm>
            <a:off x="179280" y="189000"/>
            <a:ext cx="72396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39280" y="2492280"/>
            <a:ext cx="8001000" cy="35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Azioni repressive (attraverso le forze dell’ordine e attività di contrasto)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Potenziamento della Rete del lavoro Agricolo di Qualità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4" descr="Risultato immagine per LOGO FLAI CGIL"/>
          <p:cNvPicPr/>
          <p:nvPr/>
        </p:nvPicPr>
        <p:blipFill>
          <a:blip r:embed="rId1"/>
          <a:stretch/>
        </p:blipFill>
        <p:spPr>
          <a:xfrm>
            <a:off x="179280" y="189000"/>
            <a:ext cx="723960" cy="89532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6"/>
          <p:cNvSpPr/>
          <p:nvPr/>
        </p:nvSpPr>
        <p:spPr>
          <a:xfrm>
            <a:off x="0" y="272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-8280" y="2707560"/>
            <a:ext cx="1686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2023560" y="548280"/>
            <a:ext cx="414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Franklin Gothic Book"/>
                <a:ea typeface="Calibri"/>
              </a:rPr>
              <a:t>Federazione Lavoratori Agroindustria LECC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539280" y="1196640"/>
            <a:ext cx="800100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La legge individua percorsi per aggredire: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sfruttamento del lavoro e intermediazione illecit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539280" y="3068640"/>
            <a:ext cx="800100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Tale principio incontrerebbe gli auspici della Regionale (Puglia) 28/2006 e del Protocollo Sperimentale “Cura-legalità e uscita dal Ghetto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Le risorse:POR 2014/202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4" descr="Risultato immagine per LOGO FLAI CGIL"/>
          <p:cNvPicPr/>
          <p:nvPr/>
        </p:nvPicPr>
        <p:blipFill>
          <a:blip r:embed="rId1"/>
          <a:stretch/>
        </p:blipFill>
        <p:spPr>
          <a:xfrm>
            <a:off x="179280" y="189000"/>
            <a:ext cx="723960" cy="8953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539280" y="1341360"/>
            <a:ext cx="8001000" cy="15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Ipotesi:individuazione di un ”soggetto regionale“ di contrasto al lavoro nero e caporala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2023560" y="548280"/>
            <a:ext cx="414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Franklin Gothic Book"/>
                <a:ea typeface="Calibri"/>
              </a:rPr>
              <a:t>Federazione Lavoratori Agroindustria LECC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000" y="1052280"/>
            <a:ext cx="80010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Verdana"/>
              </a:rPr>
              <a:t>INCONTRO DOMANDA/OFFERTA DI LAVORO</a:t>
            </a: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0920" y="1915920"/>
            <a:ext cx="8001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Costituzione presso i CpI di “sezione per il mercato del lavoro in agricoltura”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Attivazione sportelli mobili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Formazione degli operatori dei Cp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4" descr="Risultato immagine per LOGO FLAI CGIL"/>
          <p:cNvPicPr/>
          <p:nvPr/>
        </p:nvPicPr>
        <p:blipFill>
          <a:blip r:embed="rId1"/>
          <a:stretch/>
        </p:blipFill>
        <p:spPr>
          <a:xfrm>
            <a:off x="179280" y="189000"/>
            <a:ext cx="723960" cy="89532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5"/>
          <p:cNvSpPr/>
          <p:nvPr/>
        </p:nvSpPr>
        <p:spPr>
          <a:xfrm>
            <a:off x="2023560" y="548280"/>
            <a:ext cx="414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Franklin Gothic Book"/>
                <a:ea typeface="Calibri"/>
              </a:rPr>
              <a:t>Federazione Lavoratori Agroindustria LECC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ACCOGLIEN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Utilizzo delle risorse (legge di bilancio regionale Puglia 2016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Utilizzo risorse previste nel Piano Regionale per le Politiche Abitative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Progetti sperimentali “campi di Ospitalita” (Protocollo di Lecce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Progetti sperimentali Enti bilaterali del settore Agricolo (CASSA AMICA LECCE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2023560" y="548280"/>
            <a:ext cx="414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Franklin Gothic Book"/>
                <a:ea typeface="Calibri"/>
              </a:rPr>
              <a:t>Federazione Lavoratori Agroindustria LECC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Picture 5" descr="Risultato immagine per LOGO FLAI CGIL"/>
          <p:cNvPicPr/>
          <p:nvPr/>
        </p:nvPicPr>
        <p:blipFill>
          <a:blip r:embed="rId1"/>
          <a:stretch/>
        </p:blipFill>
        <p:spPr>
          <a:xfrm>
            <a:off x="179280" y="189000"/>
            <a:ext cx="72396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TRASPORT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Fondi FESR (Asse 7 trasporto pubblico locale)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Istituzione di Protocolli specifici con i Comuni (Protocollo di Lecce)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Previsione di un sistema incentivante per le imprese che utilizzano trasporto pubblic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2023560" y="548280"/>
            <a:ext cx="414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Franklin Gothic Book"/>
                <a:ea typeface="Calibri"/>
              </a:rPr>
              <a:t>Federazione Lavoratori Agroindustria LECC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Picture 5" descr="Risultato immagine per LOGO FLAI CGIL"/>
          <p:cNvPicPr/>
          <p:nvPr/>
        </p:nvPicPr>
        <p:blipFill>
          <a:blip r:embed="rId1"/>
          <a:stretch/>
        </p:blipFill>
        <p:spPr>
          <a:xfrm>
            <a:off x="179280" y="189000"/>
            <a:ext cx="72396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000000"/>
                </a:solidFill>
                <a:latin typeface="Verdana"/>
              </a:rPr>
              <a:t>EDUCAZIONE ALLA LEGALITÀ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Art. 1 Legge regionale 28/2006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Protocolli d’intesa tra pubbliche amministrazioni e OO.DD. e OO.SS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Azioni di monitoraggio degli indici di congruità in agricoltura (regolamento n. 31/2009)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2023560" y="548280"/>
            <a:ext cx="414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Franklin Gothic Book"/>
                <a:ea typeface="Calibri"/>
              </a:rPr>
              <a:t>Federazione Lavoratori Agroindustria LECC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Picture 5" descr="Risultato immagine per LOGO FLAI CGIL"/>
          <p:cNvPicPr/>
          <p:nvPr/>
        </p:nvPicPr>
        <p:blipFill>
          <a:blip r:embed="rId1"/>
          <a:stretch/>
        </p:blipFill>
        <p:spPr>
          <a:xfrm>
            <a:off x="179280" y="189000"/>
            <a:ext cx="72396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765000"/>
            <a:ext cx="8001000" cy="7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0000"/>
                </a:solidFill>
                <a:latin typeface="Verdana"/>
              </a:rPr>
              <a:t>Protocollo d’Intesa Lec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Stato dell’arte e criticit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Picture 4" descr="Risultato immagine per LOGO FLAI CGIL"/>
          <p:cNvPicPr/>
          <p:nvPr/>
        </p:nvPicPr>
        <p:blipFill>
          <a:blip r:embed="rId1"/>
          <a:stretch/>
        </p:blipFill>
        <p:spPr>
          <a:xfrm>
            <a:off x="179280" y="189000"/>
            <a:ext cx="723960" cy="8953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5"/>
          <p:cNvSpPr/>
          <p:nvPr/>
        </p:nvSpPr>
        <p:spPr>
          <a:xfrm>
            <a:off x="2023560" y="548280"/>
            <a:ext cx="414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Franklin Gothic Book"/>
                <a:ea typeface="Calibri"/>
              </a:rPr>
              <a:t>Federazione Lavoratori Agroindustria LECC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000000"/>
                </a:solidFill>
                <a:latin typeface="Verdana"/>
              </a:rPr>
              <a:t>Attività sindacali FLAI CGIL</a:t>
            </a:r>
            <a:br>
              <a:rPr sz="3400"/>
            </a:br>
            <a:r>
              <a:rPr b="0" lang="it-IT" sz="3400" spc="-1" strike="noStrike">
                <a:solidFill>
                  <a:srgbClr val="000000"/>
                </a:solidFill>
                <a:latin typeface="Verdana"/>
              </a:rPr>
              <a:t>(oltre la Legge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Attività “Ancora in campo”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Progetto “Formazione SPRAR E CAS”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10T15:38:31Z</dcterms:created>
  <dc:creator>Monica</dc:creator>
  <dc:description/>
  <dc:language>en-US</dc:language>
  <cp:lastModifiedBy>Maria Carmela Macri</cp:lastModifiedBy>
  <dcterms:modified xsi:type="dcterms:W3CDTF">2017-12-12T10:49:58Z</dcterms:modified>
  <cp:revision>6</cp:revision>
  <dc:subject/>
  <dc:title>Legge 199/2016</dc:title>
</cp:coreProperties>
</file>