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59B-13B3-4031-9A7B-9F254A56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F73-6985-4B61-B3B4-4061920A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4E5-1259-4DEF-AF27-75A005CB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EBA-67B8-434B-B0BB-E3301AB4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8CCC-DCF9-47C1-8E2F-4D8D6621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AF37-43E8-4511-8B95-9418E047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F39C-704E-46AB-921C-819FBF3E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1B07-AB7E-4EC1-893F-F6C90CD9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1C52-1D5A-4E45-833B-8781349A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D6E6-D2A2-4CE7-BF95-54B23C58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F930-390D-4012-AD90-52889995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72D-B1F7-49C6-B3BC-B5038802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59DF-BDEF-4EA5-BF32-4B247A99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F720-132A-4DA5-9D3A-D2CBC298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4109-C6CE-449A-A52B-BB6DC1D1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05E0-E3BF-4DEF-B672-80EB0D25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CDA4-9D78-4C40-A0BB-4886E56A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E23-CFE1-4D79-BC4F-84036680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2DE-73E7-43C6-A9A7-443B164F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6DD-0280-4FEA-A403-7EFCAE27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551-6743-47FB-8945-C61B301C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061-7D7C-433D-AF4F-FA1F0641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64C-E172-4A7F-9796-F631B720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9B1-C3EB-48D7-AD41-F01E7C9C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BFA6-5D14-4731-A0E3-CE82F94E60D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E1E1-A3BA-4573-90F1-CA8B5E01EB0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Legge 199/201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3428640"/>
            <a:ext cx="7802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zioni virtuose e critic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8280" y="27219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69120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GRAZ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onica Accog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lai CGIL Lec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249228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epressive (attraverso le forze dell’ordine e attività di contrasto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otenziamento della Rete del lavoro Agricolo di Qualità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-8280" y="27075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legge individua percorsi per aggredire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fruttamento del lavoro e intermediazione illec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3068640"/>
            <a:ext cx="8001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e principio incontrerebbe gli auspici della Regionale (Puglia) 28/2006 e del Protocollo Sperimentale “Cura-legalità e uscita dal Ghett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isorse:POR 2014/20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001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potesi:individuazione di un ”soggetto regionale“ di contrasto al lavoro nero e capora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NCONTRO DOMANDA/OFFERTA DI LAVOR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stituzione presso i CpI di “sezione per il mercato del lavoro in agricoltura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azione sportelli mobili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rmazione degli operatori dei C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CCOGLI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delle risorse (legge di bilancio regionale Puglia 2016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risorse previste nel Piano Regionale per le Politiche Abitative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“campi di Ospitalita” (Protocollo di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Enti bilaterali del settore Agricolo (CASSA AMICA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RASPOR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ndi FESR (Asse 7 trasporto pubblico local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stituzione di Protocolli specifici con i Comuni (Protocollo di Lec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evisione di un sistema incentivante per le imprese che utilizzano trasporto pubbl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EDUCAZIONE ALLA LEGALIT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rt. 1 Legge regionale 28/2006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tocolli d’intesa tra pubbliche amministrazioni e OO.DD. e OO.S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di monitoraggio degli indici di congruità in agricoltura (regolamento n. 31/2009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76500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rotocollo d’Intesa Lec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tato dell’arte e criti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ttività sindacali FLAI CGIL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(oltre la Legg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ità “Ancora in campo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getto “Formazione SPRAR E CAS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15:38:31Z</dcterms:created>
  <dc:creator>Monica</dc:creator>
  <dc:description/>
  <dc:language>en-US</dc:language>
  <cp:lastModifiedBy>Maria Carmela Macri</cp:lastModifiedBy>
  <dcterms:modified xsi:type="dcterms:W3CDTF">2017-12-12T10:49:58Z</dcterms:modified>
  <cp:revision>6</cp:revision>
  <dc:subject/>
  <dc:title>Legge 199/2016</dc:title>
</cp:coreProperties>
</file>