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4552-1019-492D-9862-F3DAAFA2213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673D-A36C-4449-A04F-E016C266DF2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1C24-10FA-4CE0-BBA4-A48AD54732B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11A-0FBE-4D63-8E8F-4BF97F84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A92-9F28-4565-950B-DC4899A1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581-0326-465F-9E6F-3D420DF1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824-4027-4357-9362-FFFE2282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5B9-AA18-41F3-8CE9-96FED708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B69-8281-42B0-85D2-6CE5476D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42D-B2DB-4E66-AD28-CD29B955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A17-9CDC-44BF-B799-8F2BD7D2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845-8FC7-44C2-86CC-BEDFEDB2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9E44-5992-454E-B052-D9383056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AC9-BFCC-43D4-B882-16989037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A01-FB75-4A30-AEE4-AD0DBABC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CFF0-F8E1-4595-B403-4E7E79E8AB33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’occupazione nei  P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326880" y="28440"/>
            <a:ext cx="76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. Proposte metodologiche per la programmazione delle politiche e buone prati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CasellaDiTesto 1"/>
          <p:cNvSpPr/>
          <p:nvPr/>
        </p:nvSpPr>
        <p:spPr>
          <a:xfrm>
            <a:off x="1187280" y="1844640"/>
            <a:ext cx="66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agricoltu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vestimenti in azienda agricola e silvic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iuto avviamento attività imprenditor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lle aree rur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versificazione econom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per la popol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uppi operativi (ricerca e innovazio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di svil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ttangolo 2"/>
          <p:cNvSpPr/>
          <p:nvPr/>
        </p:nvSpPr>
        <p:spPr>
          <a:xfrm>
            <a:off x="250920" y="171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ccup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Calcolo dell’occupazione nei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ttangolo 1"/>
          <p:cNvSpPr/>
          <p:nvPr/>
        </p:nvSpPr>
        <p:spPr>
          <a:xfrm>
            <a:off x="1403280" y="119700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8) promuovere un’occupazione sostenibile e di qualità e sostenere la mobilità dei lavoratori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9) promuovere l’inclusione sociale e combattere la povertà e ogni discriminazione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ttangolo 1"/>
          <p:cNvSpPr/>
          <p:nvPr/>
        </p:nvSpPr>
        <p:spPr>
          <a:xfrm>
            <a:off x="1187280" y="473544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lementi strutturanti definiti nel quadro di regolamentazione. Per contribuire al finanziamento della strategia Europa 2020, i fondi SIE concentrano il sostegno su un numero limitato di obiettivi tematici comun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ttangolo 1"/>
          <p:cNvSpPr/>
          <p:nvPr/>
        </p:nvSpPr>
        <p:spPr>
          <a:xfrm>
            <a:off x="2050920" y="2133720"/>
            <a:ext cx="641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doperarsi per l’inclusione soci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la riduzione della povertà e lo sviluppo economico nelle zone rurali, con particolare riguardo ai seguenti aspetti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) favorire la diversificazione, la creazione e lo sviluppo di piccole imprese nonché de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ccup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) stimolare lo sviluppo locale nelle zone rural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) promuovere l’accessibilità, l’uso e la qualità delle tecnologie dell’informazione e della comunicazione (TIC) nelle zone rurali.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Immagine 1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3168720" cy="446724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2"/>
          <p:cNvSpPr/>
          <p:nvPr/>
        </p:nvSpPr>
        <p:spPr>
          <a:xfrm>
            <a:off x="5378760" y="1989000"/>
            <a:ext cx="33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rifica del raggiung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i valori obiettivo a livello d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cus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Immagine 3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Immagine 1" descr=""/>
          <p:cNvPicPr/>
          <p:nvPr/>
        </p:nvPicPr>
        <p:blipFill>
          <a:blip r:embed="rId2"/>
          <a:stretch/>
        </p:blipFill>
        <p:spPr>
          <a:xfrm>
            <a:off x="1692360" y="860400"/>
            <a:ext cx="4895640" cy="501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Immagine 2" descr=""/>
          <p:cNvPicPr/>
          <p:nvPr/>
        </p:nvPicPr>
        <p:blipFill>
          <a:blip r:embed="rId2"/>
          <a:stretch/>
        </p:blipFill>
        <p:spPr>
          <a:xfrm>
            <a:off x="2124000" y="1004760"/>
            <a:ext cx="5112000" cy="48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Immagine 1" descr=""/>
          <p:cNvPicPr/>
          <p:nvPr/>
        </p:nvPicPr>
        <p:blipFill>
          <a:blip r:embed="rId2"/>
          <a:stretch/>
        </p:blipFill>
        <p:spPr>
          <a:xfrm>
            <a:off x="5230800" y="1268280"/>
            <a:ext cx="3887640" cy="4241880"/>
          </a:xfrm>
          <a:prstGeom prst="rect">
            <a:avLst/>
          </a:prstGeom>
          <a:ln w="0">
            <a:noFill/>
          </a:ln>
        </p:spPr>
      </p:pic>
      <p:pic>
        <p:nvPicPr>
          <p:cNvPr id="151" name="Immagine 3" descr=""/>
          <p:cNvPicPr/>
          <p:nvPr/>
        </p:nvPicPr>
        <p:blipFill>
          <a:blip r:embed="rId3"/>
          <a:stretch/>
        </p:blipFill>
        <p:spPr>
          <a:xfrm>
            <a:off x="1116000" y="1274760"/>
            <a:ext cx="39337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Maria Carmela Macri</cp:lastModifiedBy>
  <dcterms:modified xsi:type="dcterms:W3CDTF">2017-12-14T12:53:04Z</dcterms:modified>
  <cp:revision>337</cp:revision>
  <dc:subject/>
  <dc:title>Quali politiche e quali governances per i piccoli comuni</dc:title>
</cp:coreProperties>
</file>