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4608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A20C-A222-4756-AA48-88FA97247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9A72-6806-4B89-8B93-8D9ECBC10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C1AC-08FE-421D-8925-E516FCA6C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728C-17EB-4D2E-AE29-5739432A1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C882-0D95-4C5E-AFB1-D09EB71F7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8241-E493-4800-B8CF-5A31F33097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7A90-76F0-4350-A99A-9F3BE22997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9150-7B2A-438B-9588-4197C0135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608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0DF2-2152-4119-AB56-B2C458DA77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438D-D7E3-4F8E-9502-840958B1D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71600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EE1-5D74-4D41-9A16-C3F393BC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25E-5E23-4C8E-8EBA-3CDEA480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734-5E52-4DF1-B749-5379B28A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1E8-3F35-4EE0-8820-446D6735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7EDC-5EFC-4DE7-876C-1C678A65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D935-FE92-41FA-9856-1B9999C2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5722-7D7D-46CF-A5E9-FF2114F3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D7EB-5BE5-497A-906E-6E888C5A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C748-8D70-4C87-AEB6-E60762B8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3C8E-1596-42DA-B38F-DBE375A4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DAC3-102B-4FFE-A245-3652339E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E04-F524-4EC7-84BB-9C2353E4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7702-6119-48CC-8DA5-3115EC5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F08E-D200-430D-B9E0-E6C253B6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B877-4F16-4E3E-900A-6EE1CD31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EC9F-2922-4102-89E5-55FDF403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BC47-AC27-4C95-AE75-DB3DCB08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274B-9E3F-469A-BB79-786F8329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92FFC-9E13-4024-92BE-D86A07D7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9C35-72A3-4254-8C48-84FD787B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AA70-4808-49F9-9747-304182AD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8F7E-E877-4300-AEC6-CF4F8F26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046-D97B-462B-B977-414436D1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9A38-3904-4A63-ACAC-49381E58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C752-03A7-4645-A788-D25BA02D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B57B-9CA5-4884-80F6-72A91C60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0AD9-20E6-4B8F-AD9F-E842485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ADA5-B175-4B70-951F-61D3E411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B6381-E384-4399-82D1-73D3A25E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B0F8-C298-474D-BEC0-1D3FE1DA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E73A-B2C2-4413-A00A-D97CB13A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DC84-FB97-4855-B9F4-7768576C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9031-D59A-476C-B9A0-5E22068E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1D4-B906-45EC-B696-0445FE5E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981DB-FEBF-49CE-B8B4-7133A30B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45C52-6695-4970-AA70-E19EEFFE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B7AC3-31FC-49D9-80C2-9B88EE93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069D9-E633-4E49-B201-B0F82C58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38CE8-1F78-43B1-B059-E6C0134D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B1E2E-DC70-41ED-AB9D-BCAA0B50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17CE-AB6D-413F-95A8-0180553F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146E3-1D2B-42A8-97E0-0CE61A3A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038D-5C1C-40C0-B31D-F5BCCA40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CACC-81CC-410F-8AC3-1789B2C1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9A8-AD93-4D1C-A080-22C52AF5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5DD09-2C1A-4A13-BDFD-001702BD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6FBC8-BCF5-4019-B271-305A9260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1C49-D620-4B50-91C6-CBFE362F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3B2FA-D320-4439-A5D3-0BD26CA4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CACA-3FB3-421A-BF7F-E6FAA540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9F3DF-A53B-4AC7-A4DF-06CEA550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EFF1D-E87C-4AAD-9A8C-EC09EBF7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A5DF-3750-4A4B-94D5-3EF531EE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AC82B-34F3-4514-BADB-21AB11D6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10CD7-D413-4729-B727-76BD58B5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644-8755-416E-B952-AE2F1CDD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5A078-D066-4543-901D-CC5E39B9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2A7D4-AA33-4766-83B3-8BC1E7B4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97C03-3EB3-4487-B4CD-F25EF3DD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FECD1-78BD-409B-B621-CFC424E6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23AFE-9B19-4DBF-AB08-AECFF8D6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C7FD2-9ADF-4CAA-811B-5E3DBC93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6F1C-4744-4348-80A9-2780A080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F11D0-D3B7-4FE2-9FE9-42F1730F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343D8-3CC2-4BE8-9B4F-23F73BEB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AF9E7-8BD5-4E15-B266-A2D03FCA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3C5-2244-4905-98CD-44ADEE92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87B5-4D7E-4638-A7D0-0B8DCE8F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BC30E-2847-499A-914C-D903D25F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35A3F-6228-46A5-93F0-2131CFD0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F92-2CCA-44F5-B94D-C7070E30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738-CD66-4FDC-A7FF-B8B552A5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5252-47DA-46E6-9704-4039468FCC44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B2AF-8C80-4928-95D3-F81B0DB5704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4F90-4B66-4D3D-AEFA-57FC4724203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593F-3F90-456D-BFF6-323C9411016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09E4-2330-4721-9DF6-40C12FE5C1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F85A-5BCD-4498-AAEE-93F3E5153A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Q&amp;As on</a:t>
            </a: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AIR technical template and reporting on results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6 December 2015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4741-A2E2-491B-B98C-3653C972F487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Reporting on results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 priority for all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Rural development well prepared!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MES developed with MS/stakeholders over 4 yea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ed to demonstrate results at RDP and EU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and evaluation combine to show full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51CE-BF42-42CE-B634-D34E078F143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Simplification of result reporting for 2014-2020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umber of indicators reduce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ll target indicator values obtained from simple monitoring dat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re complex result indicators addressed through evalu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"Standard" AIR based only on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 evaluation assessment in AIR 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8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C3D0-FB92-42BB-AD3E-DB49CC94CE2C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6760" y="76356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nnual result reporting (Standard AIR)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26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Target indicator values per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om monitoring 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hows achievements/progress to targ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ly programmed operations (primary effec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Additional contributions to Focus Area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penditure on operations flagged as having a secondary contribu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ve: only an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+ve: no new data or analysis, simple data ex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2854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/propor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o new requiremen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682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2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160C-78C2-44BB-A3EC-76E3317B20B0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context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ed to show full extent of RDP achievement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 reality many operations contribute to more than one focus area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Too complex to capture from simple monito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6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F23B-8B19-40A8-8365-1609E67E5DB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181440" y="907920"/>
            <a:ext cx="943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ssessment of secondary contributions: solution 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Common agreement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Multiple contributions to target indicators "built-in" for Priority 4 and parts of Priority 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aptured through monito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For other Focus Areas, operations are "flagged" when encoded in the Operations Databas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Allows evaluators to identify relevant pro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Discussed in ExCo, Expert group mee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valuators will quantify secondary contributions, and complementary result indicators, for the enhanced AI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Task shifted from M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25956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Not required every y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74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0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E53D-8050-449B-BF05-67AA6AD5220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Flagging of secondary contributi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4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05" name="Picture 2" descr=""/>
          <p:cNvPicPr/>
          <p:nvPr/>
        </p:nvPicPr>
        <p:blipFill>
          <a:blip r:embed="rId1"/>
          <a:srcRect l="29791" t="7505" r="37096" b="79746"/>
          <a:stretch/>
        </p:blipFill>
        <p:spPr>
          <a:xfrm>
            <a:off x="66600" y="1484280"/>
            <a:ext cx="6677280" cy="1403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rcRect l="30486" t="71123" r="37106" b="3433"/>
          <a:stretch/>
        </p:blipFill>
        <p:spPr>
          <a:xfrm>
            <a:off x="208080" y="2860560"/>
            <a:ext cx="6535800" cy="2800440"/>
          </a:xfrm>
          <a:prstGeom prst="rect">
            <a:avLst/>
          </a:prstGeom>
          <a:ln w="0">
            <a:noFill/>
          </a:ln>
        </p:spPr>
      </p:pic>
      <p:sp>
        <p:nvSpPr>
          <p:cNvPr id="307" name="Oval 1"/>
          <p:cNvSpPr/>
          <p:nvPr/>
        </p:nvSpPr>
        <p:spPr>
          <a:xfrm>
            <a:off x="4541760" y="4627440"/>
            <a:ext cx="1584360" cy="57636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08" name="Straight Arrow Connector 3"/>
          <p:cNvCxnSpPr>
            <a:stCxn id="307" idx="7"/>
          </p:cNvCxnSpPr>
          <p:nvPr/>
        </p:nvCxnSpPr>
        <p:spPr>
          <a:xfrm flipV="1">
            <a:off x="5893920" y="4627080"/>
            <a:ext cx="118440" cy="84960"/>
          </a:xfrm>
          <a:prstGeom prst="straightConnector1">
            <a:avLst/>
          </a:prstGeom>
          <a:ln w="0">
            <a:noFill/>
          </a:ln>
        </p:spPr>
      </p:cxnSp>
      <p:sp>
        <p:nvSpPr>
          <p:cNvPr id="309" name="TextBox 6"/>
          <p:cNvSpPr/>
          <p:nvPr/>
        </p:nvSpPr>
        <p:spPr>
          <a:xfrm>
            <a:off x="6743880" y="1628640"/>
            <a:ext cx="24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f nature of operations is known, no need to go at application level, whole set of operations simil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0" name="Straight Arrow Connector 8"/>
          <p:cNvCxnSpPr>
            <a:stCxn id="307" idx="7"/>
            <a:endCxn id="309" idx="1"/>
          </p:cNvCxnSpPr>
          <p:nvPr/>
        </p:nvCxnSpPr>
        <p:spPr>
          <a:xfrm flipV="1">
            <a:off x="5894280" y="2320200"/>
            <a:ext cx="850320" cy="239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Oval 16"/>
          <p:cNvSpPr/>
          <p:nvPr/>
        </p:nvSpPr>
        <p:spPr>
          <a:xfrm>
            <a:off x="4419720" y="5153040"/>
            <a:ext cx="2350800" cy="728640"/>
          </a:xfrm>
          <a:prstGeom prst="ellipse">
            <a:avLst/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TextBox 17"/>
          <p:cNvSpPr/>
          <p:nvPr/>
        </p:nvSpPr>
        <p:spPr>
          <a:xfrm>
            <a:off x="6831000" y="4627440"/>
            <a:ext cx="240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where nature is not known in advance, coded on processing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13" name="Straight Arrow Connector 11"/>
          <p:cNvCxnSpPr>
            <a:stCxn id="311" idx="7"/>
            <a:endCxn id="312" idx="1"/>
          </p:cNvCxnSpPr>
          <p:nvPr/>
        </p:nvCxnSpPr>
        <p:spPr>
          <a:xfrm flipV="1">
            <a:off x="6426360" y="4997160"/>
            <a:ext cx="405360" cy="26208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arrow" w="med"/>
          </a:ln>
        </p:spPr>
      </p:cxnSp>
      <p:sp>
        <p:nvSpPr>
          <p:cNvPr id="314" name="Rectangle 2"/>
          <p:cNvSpPr/>
          <p:nvPr/>
        </p:nvSpPr>
        <p:spPr>
          <a:xfrm>
            <a:off x="5334120" y="1484280"/>
            <a:ext cx="1685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276A-499C-448F-970E-AF62C8D606B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4960" y="907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Capturing secondary contribuiton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3760" y="134136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gnoring secondary effects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leads to  underestimation of RDP achie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2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8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687240" y="3159000"/>
            <a:ext cx="7413840" cy="3380040"/>
          </a:xfrm>
          <a:prstGeom prst="rect">
            <a:avLst/>
          </a:prstGeom>
          <a:ln w="0">
            <a:noFill/>
          </a:ln>
        </p:spPr>
      </p:pic>
      <p:sp>
        <p:nvSpPr>
          <p:cNvPr id="320" name="Oval 1"/>
          <p:cNvSpPr/>
          <p:nvPr/>
        </p:nvSpPr>
        <p:spPr>
          <a:xfrm>
            <a:off x="1474920" y="5084640"/>
            <a:ext cx="1009440" cy="865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2843280" y="3357720"/>
            <a:ext cx="2200320" cy="21589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6732720" y="5192640"/>
            <a:ext cx="1008000" cy="86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323" name="Straight Arrow Connector 3"/>
          <p:cNvCxnSpPr/>
          <p:nvPr/>
        </p:nvCxnSpPr>
        <p:spPr>
          <a:xfrm>
            <a:off x="5043600" y="4581000"/>
            <a:ext cx="969120" cy="14756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Straight Arrow Connector 15"/>
          <p:cNvCxnSpPr/>
          <p:nvPr/>
        </p:nvCxnSpPr>
        <p:spPr>
          <a:xfrm flipH="1">
            <a:off x="5218920" y="5568840"/>
            <a:ext cx="1513800" cy="488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Straight Arrow Connector 17"/>
          <p:cNvCxnSpPr>
            <a:stCxn id="320" idx="2"/>
          </p:cNvCxnSpPr>
          <p:nvPr/>
        </p:nvCxnSpPr>
        <p:spPr>
          <a:xfrm>
            <a:off x="1474560" y="5516640"/>
            <a:ext cx="1080" cy="434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Straight Arrow Connector 23"/>
          <p:cNvCxnSpPr/>
          <p:nvPr/>
        </p:nvCxnSpPr>
        <p:spPr>
          <a:xfrm>
            <a:off x="2406240" y="5392440"/>
            <a:ext cx="2431080" cy="8406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5-11-17T11:17:17Z</cp:lastPrinted>
  <dcterms:modified xsi:type="dcterms:W3CDTF">2015-12-16T14:01:26Z</dcterms:modified>
  <cp:revision>477</cp:revision>
  <dc:subject/>
  <dc:title>Slide 1</dc:title>
</cp:coreProperties>
</file>