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0B57-8344-4833-AE96-8CA1E25136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F96E-39C9-4A7B-A4B4-BC87EB37C7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30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3089-8B6B-464A-A01D-E3114918B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7E47-358F-4C02-8376-9499611F4F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BEC-4598-49F5-8DDD-9CB2F7FF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C13-48CE-49DC-8A08-873C8099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FFB-DB7C-411D-842B-AB97E617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1BB-6330-4B68-A9AB-79CBBB11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9133-605E-4764-AB98-46DE7ECB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F74B-3833-41F0-878A-90D860A1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A3CD-5FC8-4CAA-AC64-CA6D96A2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45AE-82C0-4C30-83B4-EFC2BFF3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AC6B-D790-4346-84E0-93668E10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113C-E051-4DAB-AD4B-2A760E86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478F-D968-44E7-BADA-FA797A64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55E-9952-4C7E-89B0-AC561122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C7A3-D062-40C4-8EC5-B327270E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6912-D431-4F5F-AF85-B960C712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1F21-6F80-4227-86BC-6EAB36ED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761A-8700-43A6-A527-AD114591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6EF1-3261-428D-B966-8A12C6B3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789C-CC0C-42A7-9019-EE30DC6A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0ED0C-B021-474F-8376-696383A9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C1305-2A6E-4CAA-B433-BB970814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82E8-41F2-4A86-8D91-1C0BED05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24502-0C11-4325-BB6A-5D202956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0AB-87A5-4E07-B4DD-8C39AD9E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B0D99-4795-4AAB-836F-D00A3037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1C316-4C34-44B0-AB0C-ED68E1BC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FA8FA-0135-40E1-B694-C7B16CC1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4DEB4-C12B-45F4-99EC-372BE261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DA3A1-33F6-4209-90DD-3DB01994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664B2-F042-4B02-97E9-070075C1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1B196-573E-439B-90E0-A0746F35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759D0-E991-44C8-9895-2C9BA7E5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C82F-1D24-4577-A2A6-53BBD982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F6672-3354-4558-891D-7294AFA7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741-5342-43D6-9A7A-657E5FD7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45113-4190-4FAD-9CBD-794CE444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BB9A8-B242-4223-9FF3-2FB148CD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B7592-DA9C-4F7A-BB37-5AB4FDA3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2924F-BF40-45A2-9D24-2BEA8777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026B5-F7DC-42A2-8EED-840170B2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E9D42-4CB4-4BA1-9521-6D9954C3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5D5DF-7BB2-43E8-AAAF-2186BC0B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B888C-B620-4B2C-BAAA-91FEAEAF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CC86C-F007-43B2-8646-C6E5DECC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81671-D90F-40D3-B510-922E315A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DBE-4773-468E-BBA4-FEDEC805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63682-E947-4085-B99F-8938FF7B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CF653-B90A-495D-B5A5-4AAA4E3D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67F1D-55E3-4504-BE50-6C11B693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F2875-CD8C-480F-924A-33639397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BA570-0877-424F-810B-1D59B72F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47374-B5BC-446B-AB47-B700A220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08CA2-7829-4E58-993A-60CAFB11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BF0F1-20A0-4E24-987A-806102C9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27C11-3332-43B6-8940-DF8B71CC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EEAA7-A5F8-42C6-BF5B-27B16785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45F-DEAD-4DDE-A28B-50DB5F46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B5156-0D0D-4439-9307-E5EBC026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B9141-BAEC-4BB9-822A-85693086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C52FC-AD9C-4512-8BC5-79D2EBC6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A1F4A-80AC-4C0C-85D1-A6F0676D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4E3F1-7FCF-4A9F-A0F8-AC4C894D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B8134-561A-4161-AD6D-5CC5399A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D4644-EA0F-4293-8ED3-45FA822F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396F9-B510-41F0-9ADC-08382091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00C02-1C1A-44F4-B827-02E65515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FFED2-FD33-4787-8480-CD0F7A86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FA3-5475-4B70-9692-D066C608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1CFB3-9359-47F2-A8CE-0F8B1023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E6C99-196A-4872-A65F-0B92B5AE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B4CFB-F5A1-4B35-8EBF-48615443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5D1-EC66-4677-B951-99C28880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207-1CF8-4EFD-BAFF-D40160C8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4F17-20A5-45E8-A17D-86B59C4695E3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EFED-7190-4EE0-BA0D-EE5F2A10C46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8C3B-B160-47A0-A01F-69167ACBA25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C89F-05B9-429C-81B6-E09C15C6E8D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CA87-8EC0-42DB-85C9-160A5902D36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3ACB-60D6-4EB6-8389-9A03FD824C4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SFC2014 EAFRD Annual Implementation report (AIR) Technical Guidance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Didier Bonaert (DG AGRI Unit H.2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Christophe Derzelle (DG AGRI Unit H.3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7 February 2016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B7C6-9049-413C-938D-4E4095C7A0D2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6000" y="1123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IR -  Draft Document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Q&amp;As on SFC2014 AIR technical guid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pdate of the SFC2014 AIR technical guidance (following Q&amp;As)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Draft technical structure of the Annual Implementation Report (AIR) for information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encoding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It does not correspond to final AIR Report Snapshot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FC2014 AIR technical guidance for NRN Programm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Monitoring indicator tables (Encoding tables): Excel tables presented in September 2015 RDC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1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rticle 66 1(b) of Regulation 1305/2013 (committed expenditure/Table A): submission by 31 January 2016: remaining missing submissions for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20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RDP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first Submission of BAIDP (January 2016), it should cover expenditure committed from beginning 2014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first Submission of BAIDP (January 2016), it should cover expenditure committed from 1</a:t>
            </a:r>
            <a:r>
              <a:rPr b="0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September 2015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7923-1016-4CC5-B0E6-B9B35C872064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57D8-B197-4D07-AED5-65F267097DE9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rcRect l="-1803" t="-3304" r="58333" b="59799"/>
          <a:stretch/>
        </p:blipFill>
        <p:spPr>
          <a:xfrm>
            <a:off x="-150840" y="1197000"/>
            <a:ext cx="8874000" cy="4846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2195640" y="5300640"/>
            <a:ext cx="28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2185920" y="5076720"/>
            <a:ext cx="296244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809640"/>
          <a:ext cx="9144000" cy="57261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AIR: Financial Part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3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50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5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75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From 2016 […] </a:t>
                      </a:r>
                      <a:r>
                        <a:rPr b="0" lang="fr-BE" sz="1400" spc="-1" strike="noStrike" u="sng">
                          <a:solidFill>
                            <a:srgbClr val="0f5494"/>
                          </a:solidFill>
                          <a:uFillTx/>
                          <a:latin typeface="Verdana"/>
                        </a:rPr>
                        <a:t>Member States</a:t>
                      </a: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shall submit to the Commission an Annual Report on implementation of the programme …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By 30 June 2016 and each subsequent year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report submitted in 2016 shall cover the calendar years 2014 and 2015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2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- AIR shall set out key information of the programme and its priorities by reference to the financial data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– […] AIR shall include information inter alia on financial commitments and expenditure by measure[…]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6 – In order to be deemed admissible, the AIR reports […] shall contain all the information required [in paragraph 1 to 5 of Art 50] and in fund specific rules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6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36(3)(c)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ach interim payment shall be made by the Commission subject to compliance with the following requirements :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[…]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ransmission to the Commission of the last annual progress report on the implementation of the RDP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9ADE-5F4B-45CA-A915-50FDCCBBF4B6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566640" y="1844640"/>
          <a:ext cx="8325000" cy="3157560"/>
        </p:xfrm>
        <a:graphic>
          <a:graphicData uri="http://schemas.openxmlformats.org/drawingml/2006/table">
            <a:tbl>
              <a:tblPr/>
              <a:tblGrid>
                <a:gridCol w="8325000"/>
              </a:tblGrid>
              <a:tr h="615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808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4 art 15 – Annex VII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4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inancial implementation data giving, during the previous calendar year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or each measure and focus area,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 statement of the expenditure incurred and declared in the declarations of expenditure.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t shall cover :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total incurred public expenditure as well a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financial recoveries and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corrections brought by the Member State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C9C5-D3E4-45F6-B870-8572EE21515F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07800" y="1844640"/>
          <a:ext cx="8583840" cy="3389400"/>
        </p:xfrm>
        <a:graphic>
          <a:graphicData uri="http://schemas.openxmlformats.org/drawingml/2006/table">
            <a:tbl>
              <a:tblPr/>
              <a:tblGrid>
                <a:gridCol w="8583840"/>
              </a:tblGrid>
              <a:tr h="523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ew, Improved, Simplified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659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ll data are in the system and reports can be easily generated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additional or new requirements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port takes into account the corrections to expenditure declared in quarterly declarations made in annual accounts (Diff-X table)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IR  is a report from MS to the Commission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MS are responsible of the correctness of the data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420920" y="3068640"/>
          <a:ext cx="6148440" cy="1512720"/>
        </p:xfrm>
        <a:graphic>
          <a:graphicData uri="http://schemas.openxmlformats.org/drawingml/2006/table">
            <a:tbl>
              <a:tblPr/>
              <a:tblGrid>
                <a:gridCol w="1046160"/>
                <a:gridCol w="1625400"/>
                <a:gridCol w="1776600"/>
                <a:gridCol w="1700280"/>
              </a:tblGrid>
              <a:tr h="8413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cus Area /                Priority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incurred and declared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djustments made by the Member States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fference between the annual declaration and the cumulative quarterly declaration (Diff X table)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976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b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c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2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2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6B08-F0DA-463A-A103-02D4E669EFCD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1 - Information on implementation of the programme and its priorities by reference to the financial data [ For each measure]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8000" y="2924280"/>
          <a:ext cx="8578800" cy="248436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) = (b) + (c) +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445C-A012-4271-81B6-D4F02895D0F1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2 - Financial implementation – Calendar year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08000" y="2924280"/>
          <a:ext cx="8578800" cy="244944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') = (b') + (c') +(d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9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F316-AB12-4FF1-8265-70E0BD94AA13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3 Financial implementation - aggregated table from the beginning of the programming period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6360" y="2852640"/>
          <a:ext cx="7596000" cy="1656000"/>
        </p:xfrm>
        <a:graphic>
          <a:graphicData uri="http://schemas.openxmlformats.org/drawingml/2006/table">
            <a:tbl>
              <a:tblPr/>
              <a:tblGrid>
                <a:gridCol w="1114200"/>
                <a:gridCol w="1575000"/>
                <a:gridCol w="1549440"/>
                <a:gridCol w="1736640"/>
                <a:gridCol w="1620720"/>
              </a:tblGrid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Financing plan in force  on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EAFRD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') = (e') + (f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Requested / Financing plan. (%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') = (b'') / 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vailable to declare for the remaining period as at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') = (a") - (b"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352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2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18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…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88B7-5B17-4B49-B805-B10927F3DE5D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4 State of play at the end of the calendar ye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AIR – SFC2014 developmen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826920" y="2421000"/>
          <a:ext cx="7490160" cy="2533680"/>
        </p:xfrm>
        <a:graphic>
          <a:graphicData uri="http://schemas.openxmlformats.org/drawingml/2006/table">
            <a:tbl>
              <a:tblPr/>
              <a:tblGrid>
                <a:gridCol w="1648080"/>
                <a:gridCol w="1871640"/>
                <a:gridCol w="1881000"/>
                <a:gridCol w="208944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 Encoding modul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pdf report Snapsho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87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/03/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(partial) 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1" lang="en-US" sz="4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29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 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ION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6-02-15T14:37:02Z</cp:lastPrinted>
  <dcterms:modified xsi:type="dcterms:W3CDTF">2016-02-16T15:37:28Z</dcterms:modified>
  <cp:revision>460</cp:revision>
  <dc:subject/>
  <dc:title>Slide 1</dc:title>
</cp:coreProperties>
</file>