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A0AA-8B1E-4351-AB2D-DC87199081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1A41-CD34-438A-A384-A1B4B0979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C589-E060-4D0D-BA00-6C8375516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DFF0-6C2B-4CB4-8B06-35D0907DBD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DF8-C358-4EEF-BD81-2F4C1D38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AE0-6D58-4FD0-8732-21A87A23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01E-8B4B-4831-AA03-103A4F64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F3E-54FD-4F21-9A97-21C1365B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A8F4-2ECD-4777-8592-435F199D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6533-4805-4198-B9EA-EBC3EA2C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4521-5112-4722-96E9-69EF6805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8D1A-8E7D-42AD-B144-03FC859C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C6D1-CC7F-4539-87F4-F93C0A1F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EDF6-652F-4863-8993-8A077434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2658-0D1A-47A3-90FB-AE9A06CA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B64-9E4B-4DC9-A89E-5A8A5564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F4AE-AD91-442D-A3CD-946DD8FB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C3D2-62B1-4D8D-A585-23CDE786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D340-2A9E-4C36-A68B-EC8E53D4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AF08-D350-4A04-B0E9-8429EF93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84D8-DE86-4785-B8CC-F7396B54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CE65-148E-444D-90BC-B92C9DCE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1EF4-0D0C-4E27-9A45-27DD3121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993B-4550-43DB-A352-E5721B5F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6247-39BF-456A-A9A2-4D060AE5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0ADD-989E-4159-9CB4-2B0CDD35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C6B-9623-475A-8187-04310DB6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AE50-9757-4ED2-BD53-2BB36D04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9F18-F1F8-49D5-84CC-E50DCF8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CF50F-7832-48EF-A3AA-95BE052B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18354-1278-4064-A0EB-54FD84D7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BBC1-CA7B-44CE-98CC-B8AAF660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331A9-1124-4F75-B34B-8C879F99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A4D9-9C70-40A7-93DB-DDF328BB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49550-B0D4-4CCF-8C4C-731B39D4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8D0E8-3873-408A-B3B2-09A175B6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F06BB-7B4C-4833-8B6F-870CF11B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DEE-A8AB-470A-B517-7D452858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8CF58-350A-46E0-9CDA-0D8B5E2D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A4F1B-0F52-4A78-9D95-40F1514F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5EB2-E1C5-423D-A471-17FDDBEA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8B135-B1B6-433D-91AD-DC9B5A14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ABCE0-B9BB-4A60-A458-6623477E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8B00D-85A0-44D7-AABC-F3DD9A97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45B3-3614-4316-AAB7-2F69077C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CD5F-3606-4CEF-A808-69CB17AD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8089-E70F-4473-A83B-444DDE01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C0FE3-384C-4F0B-94B2-A3F38C3E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734-8ECF-4F83-8AD9-50544875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6CF75-178A-4821-B8ED-7CAB0DEE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EC561-23CF-4EE7-BFFF-83DE6D9C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4CAA-BC13-414F-9848-CBF448A9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8EA46-C40B-4A98-9408-0F1EA47F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6B2F0-AA75-4E74-BC3D-76D201FF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8F281-237C-48E7-9B30-7D623DD8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C2F81-5501-4DB3-9C84-11FE1D3E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8F28-8664-42E9-9E89-C963DC0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2F5D9-128F-41D5-9EA2-987F369B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2E3B-8501-4A79-B9FC-D8EFFF50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65D-8372-493F-B137-022F2B32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31B4D-EBFF-4BA5-A69C-C1DD622E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40A12-E0A9-432C-833E-761DC8A7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6B8CF-B313-4968-8359-51B80ED3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2D41-768F-458E-ADD8-A7254C0C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0314E-E5D5-4130-8801-A43CCC3C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14088-0467-48F1-AE19-4B68630C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3F9FD-7C5E-44B0-AC05-D89EF983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4F404-FF64-4A3D-949D-7EC22BA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4DEB2-DD92-425A-B7D5-65AA2003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D5D54-98FD-4436-9412-4BA6DD1C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46B-3C3C-47C2-A411-A78144C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7AD39-CB28-4391-8669-EA73EF31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7F70B-31DB-40AE-960B-11305266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1C02A-7884-4348-B5CC-49020A7F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CCB-3D21-4416-8FF8-D2B5EE0B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981-181E-4AEB-8DD7-4DA8A83F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F7F8-9A58-4FC7-BFF6-366AD0CD7DD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93CB-910D-4B56-A7DD-04013BB3732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5604-417E-40A9-A199-2BF993C7501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D019-3B21-45E5-A5DC-AF841DEE99B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F82F-F6DB-4906-8C9D-BB3D9566E92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53E7-C664-4AAC-A9D1-03D4CEE7D6D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FC2014 EAFRD Annual Implementation report (AIR) Technical Guidanc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Didier Bonaert (DG AGRI Unit H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Christophe Derzelle (DG AGRI Unit H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7 February 2016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4F13-7E96-41A2-8C10-FFDE7AB52856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000" y="1123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IR -  Draft Document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Q&amp;As on SFC2014 AIR technical guid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pdate of the SFC2014 AIR technical guidance (following Q&amp;As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raft technical structure of the Annual Implementation Report (AIR) for information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ncoding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It does not correspond to final AIR Report Snapsho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FC2014 AIR technical guidance for NRN Programm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onitoring indicator tables (Encoding tables): Excel tables presented in September 2015 RD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1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rticle 66 1(b) of Regulation 1305/2013 (committed expenditure/Table A): submission by 31 January 2016: remaining missing submissions for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20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RDP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first Submission of BAIDP (January 2016), it should cover expenditure committed from beginning 2014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first Submission of BAIDP (January 2016), it should cover expenditure committed from 1</a:t>
            </a:r>
            <a:r>
              <a:rPr b="0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September 2015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735F-6E3D-4082-B112-754856F6BDB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498C-F494-44CE-AD40-4F66852A147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-1803" t="-3304" r="58333" b="59799"/>
          <a:stretch/>
        </p:blipFill>
        <p:spPr>
          <a:xfrm>
            <a:off x="-150840" y="1197000"/>
            <a:ext cx="8874000" cy="484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2195640" y="5300640"/>
            <a:ext cx="28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185920" y="5076720"/>
            <a:ext cx="29624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809640"/>
          <a:ext cx="9144000" cy="5726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AIR: Financial Part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3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50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5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75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From 2016 […] </a:t>
                      </a:r>
                      <a:r>
                        <a:rPr b="0" lang="fr-BE" sz="1400" spc="-1" strike="noStrike" u="sng">
                          <a:solidFill>
                            <a:srgbClr val="0f5494"/>
                          </a:solidFill>
                          <a:uFillTx/>
                          <a:latin typeface="Verdana"/>
                        </a:rPr>
                        <a:t>Member States</a:t>
                      </a: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hall submit to the Commission an Annual Report on implementation of the programme …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By 30 June 2016 and each subsequent year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report submitted in 2016 shall cover the calendar years 2014 and 2015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- AIR shall set out key information of the programme and its priorities by reference to the financial data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– […] AIR shall include information inter alia on financial commitments and expenditure by measure[…]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6 – In order to be deemed admissible, the AIR reports […] shall contain all the information required [in paragraph 1 to 5 of Art 50] and in fund specific rules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6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36(3)(c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ach interim payment shall be made by the Commission subject to compliance with the following requirements :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[…]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ransmission to the Commission of the last annual progress report on the implementation of the RDP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941F-4B54-46A1-AE91-52EB95B6940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566640" y="1844640"/>
          <a:ext cx="8325000" cy="3157560"/>
        </p:xfrm>
        <a:graphic>
          <a:graphicData uri="http://schemas.openxmlformats.org/drawingml/2006/table">
            <a:tbl>
              <a:tblPr/>
              <a:tblGrid>
                <a:gridCol w="832500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8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4 art 15 – Annex VII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inancial implementation data giving, during the previous calendar year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each measure and focus area,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 statement of the expenditure incurred and declared in the declarations of expenditure.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 shall cover :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total incurred public expenditure as well a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financial recoveries and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orrections brought by the Member State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B726-B353-482A-B02D-868B22FFBF9F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07800" y="1844640"/>
          <a:ext cx="8583840" cy="3389400"/>
        </p:xfrm>
        <a:graphic>
          <a:graphicData uri="http://schemas.openxmlformats.org/drawingml/2006/table">
            <a:tbl>
              <a:tblPr/>
              <a:tblGrid>
                <a:gridCol w="8583840"/>
              </a:tblGrid>
              <a:tr h="52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ew, Improved, Simplified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659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ll data are in the system and reports can be easily generated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additional or new requirements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port takes into account the corrections to expenditure declared in quarterly declarations made in annual accounts (Diff-X table)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IR  is a report from MS to the Commission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MS are responsible of the correctness of the data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0920" y="3068640"/>
          <a:ext cx="6148440" cy="1512720"/>
        </p:xfrm>
        <a:graphic>
          <a:graphicData uri="http://schemas.openxmlformats.org/drawingml/2006/table">
            <a:tbl>
              <a:tblPr/>
              <a:tblGrid>
                <a:gridCol w="1046160"/>
                <a:gridCol w="1625400"/>
                <a:gridCol w="1776600"/>
                <a:gridCol w="1700280"/>
              </a:tblGrid>
              <a:tr h="8413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cus Area /                Priorit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incurred and declared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djustments made by the Member States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ce between the annual declaration and the cumulative quarterly declaration (Diff X table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b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c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2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9712-1C0B-4189-B732-6B2F6C5FE9C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1 - Information on implementation of the programme and its priorities by reference to the financial data [ For each measure]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2924280"/>
          <a:ext cx="8578800" cy="248436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) = (b) + (c) +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4854-4701-42D5-801F-65DE3466783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2 - Financial implementation – Calendar yea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8000" y="2924280"/>
          <a:ext cx="8578800" cy="244944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') = (b') + (c') +(d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9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1D25-2FB3-4ABF-ABBE-9E9FEF4721D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3 Financial implementation - aggregated table from the beginning of the programming perio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6360" y="2852640"/>
          <a:ext cx="7596000" cy="1656000"/>
        </p:xfrm>
        <a:graphic>
          <a:graphicData uri="http://schemas.openxmlformats.org/drawingml/2006/table">
            <a:tbl>
              <a:tblPr/>
              <a:tblGrid>
                <a:gridCol w="1114200"/>
                <a:gridCol w="1575000"/>
                <a:gridCol w="1549440"/>
                <a:gridCol w="1736640"/>
                <a:gridCol w="16207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Financing plan in force  on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EAFRD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') = (e') + (f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Requested / Financing plan. (%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') = (b'') / 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vailable to declare for the remaining period as at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') = (a") - (b"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52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6760-3FA2-4870-AF55-603124105EE0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4 State of play at the end of the calendar ye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AIR – SFC2014 developmen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6920" y="2421000"/>
          <a:ext cx="7490160" cy="2533680"/>
        </p:xfrm>
        <a:graphic>
          <a:graphicData uri="http://schemas.openxmlformats.org/drawingml/2006/table">
            <a:tbl>
              <a:tblPr/>
              <a:tblGrid>
                <a:gridCol w="1648080"/>
                <a:gridCol w="1871640"/>
                <a:gridCol w="1881000"/>
                <a:gridCol w="20894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 Encoding modul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pdf report Snapsho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8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/03/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(partial) 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1" lang="en-US" sz="4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9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6-02-15T14:37:02Z</cp:lastPrinted>
  <dcterms:modified xsi:type="dcterms:W3CDTF">2016-02-16T15:37:28Z</dcterms:modified>
  <cp:revision>460</cp:revision>
  <dc:subject/>
  <dc:title>Slide 1</dc:title>
</cp:coreProperties>
</file>