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0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Img"/>
          </p:nvPr>
        </p:nvSpPr>
        <p:spPr>
          <a:xfrm>
            <a:off x="946080" y="744120"/>
            <a:ext cx="49672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ftr" idx="20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 type="sldNum" idx="21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00F8-A0DE-4C6E-8BF0-B9030E59BB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A9E1-820F-4F06-86B1-02BDB159E4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716000"/>
            <a:ext cx="5029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204B-9B36-493A-B1B9-D84167190E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44DB-1D86-4E2E-9C0C-93B27F5412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7756-29A7-4E64-91B9-54D1305BDE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0A6C-8FA1-4D31-89C5-F4D7FA2A16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A295-7059-4F4B-8710-73738A18BF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4CBA-1259-4492-AA64-10AF20FDC0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DBDC-1E72-429D-B717-E2906F5FF6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2640-C9FB-4FED-9744-0B5ACA3599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716000"/>
            <a:ext cx="5029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C24E-6AC2-49B1-B958-425A791E1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4ED1-1701-4F8D-976C-06F3102B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B424-A225-4ED1-BA55-C4023AD74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249A-9A4B-4E03-8A12-582362A4E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BFC28-5546-4D21-9714-CE69486B9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EE102-29B7-468C-B6F4-165ABD73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414C-D633-42AE-8572-5D97014D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F3C7-0568-4C56-942B-AB794E31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75C8-40F7-4794-9F64-DF76582F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C04D-4CAF-4869-BF77-0F8D88F0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3716-B30F-4B99-90AD-50194ECC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D032-1B8D-46C6-B2AB-14724E9D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2B28-52A9-469B-B30B-44649983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514F-1DC8-499C-9EEA-65A02C18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8CE0-B951-4FD3-89BA-0AFD797B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0670-51B3-48C3-8EFA-3A68C0BDB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5A7CE-0C94-45F1-8944-9FC93AE5C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6451F-038A-4FA3-8B5F-268BA3213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A25E1-2E52-47B6-B835-69829AE5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890D9-5007-487B-86E0-11785D1A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E607B-9CA9-446E-844C-C6A83255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45452-4A0C-4102-91A1-D2AE277F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11B2-CF63-4B87-9921-866A9D2B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6CC3B-00B2-449B-AE9F-7BC47AB5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98442-5618-4D68-8169-D8ED8085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E7168-E197-409B-9C0C-1D946931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775BA-C284-4868-9472-3BDBCC8F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1A4B2-A93B-4447-8DF7-54999360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C1BA1-31F9-4305-BD41-081D32A6D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C41F9-F911-472A-B950-096D7E05C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F8521-1C7B-4132-9584-B68D75126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290AC-5101-4C57-92B2-7AC532BC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D2192-EEA6-446E-AEEC-C9B31BD8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E7B9-97C7-4D9C-AA0D-B1B42F91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A7C8D-3DE7-40B8-9064-F16C0168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E2B3D-2993-49E3-A42C-A3D8CF02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F20EC-0D9D-43B8-92F4-FE2183E9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9FCCE-281E-4776-855F-6C17EDD6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B97ED-5D14-4C3D-AE99-A3B6C76A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B5079-44E2-4C57-809A-A8FF25B9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859C5-7CEC-4434-B5B3-C09D7A8B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D703C-63E8-4D71-97B9-8C115B352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FF8E0-DAB2-4603-AE5D-6A42585C3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80171-5421-4009-B08F-FF36857DD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5506-03CD-4A35-AE87-DCB31E08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8C4F4-EB1F-4293-A884-FB09BB69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B1B63-886A-400E-A12E-C7A9969A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957C6-FFDE-4736-97DD-FE03C3C2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BBBEF-ABEA-4B85-911C-5DDC3015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C2EA7-25D5-4299-9C8D-B3DF33CB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30939-955E-467B-BB57-12B98C6B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B2794-76BC-4A67-8CA7-0DC68E3D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997A5-6D3F-40D0-B06C-74EEEC3F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20328-F513-4E0C-839A-B76E2E6D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ADE51-CAE1-412C-8467-FC89C5058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EA37-7B5F-4F74-96E3-3B221F64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FD304-E088-447F-B238-4F616C4D3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7F901-D4FA-4303-9F36-3604B2537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33C08-B0CD-4468-8116-1F376464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8C7C2-AEC5-4047-AB7F-BEC1F5AD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D0ED8-6070-4491-BE99-49CC7800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159B8-B85B-49B9-954A-E1678414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F94E5-12E3-4F58-AD2E-E6CBC15B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961F1-792B-4989-8A11-83B8B452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79DCF-4C24-4C42-B557-AE2B8031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40DD3-E757-4A14-84B0-1984966B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8DF3-1745-4A57-914C-DF9530FE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C9B76-95AF-4619-ABA3-AF245A33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1960D-EA9B-4D5B-A8F3-2DA95CBB8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15908-B9F0-417C-90CA-A5E5CFA99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071C-C94C-4E6C-BC6E-071C0153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C29F-370F-429A-929D-ED2642BF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ADA0-7B71-4ACA-A01B-D05315F5D924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4EF8-04CE-482A-9EFC-6F57AE943ECD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G:\D_Repository\A_Workzone\10_Future of CAP (post 2013)\11_Legal Proposals\7_ppts\pictures 2013\99894606.jpg"/>
          <p:cNvPicPr/>
          <p:nvPr/>
        </p:nvPicPr>
        <p:blipFill>
          <a:blip r:embed="rId2"/>
          <a:stretch/>
        </p:blipFill>
        <p:spPr>
          <a:xfrm>
            <a:off x="1811160" y="4151160"/>
            <a:ext cx="2316240" cy="27162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0"/>
          <p:cNvSpPr/>
          <p:nvPr/>
        </p:nvSpPr>
        <p:spPr>
          <a:xfrm>
            <a:off x="4127400" y="965160"/>
            <a:ext cx="502128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G:\D_Repository\A_Workzone\10_Future of CAP (post 2013)\11_Legal Proposals\7_ppts\pictures 2013\93789739.jpg"/>
          <p:cNvPicPr/>
          <p:nvPr/>
        </p:nvPicPr>
        <p:blipFill>
          <a:blip r:embed="rId5"/>
          <a:stretch/>
        </p:blipFill>
        <p:spPr>
          <a:xfrm>
            <a:off x="0" y="4151160"/>
            <a:ext cx="1811160" cy="2716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G:\D_Repository\A_Workzone\10_Future of CAP (post 2013)\11_Legal Proposals\7_ppts\pictures 2013\200392720-001.jpg"/>
          <p:cNvPicPr/>
          <p:nvPr/>
        </p:nvPicPr>
        <p:blipFill>
          <a:blip r:embed="rId6"/>
          <a:stretch/>
        </p:blipFill>
        <p:spPr>
          <a:xfrm>
            <a:off x="0" y="958680"/>
            <a:ext cx="2127240" cy="3208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G:\D_Repository\A_Workzone\10_Future of CAP (post 2013)\11_Legal Proposals\7_ppts\pictures 2013\55843765.jpg"/>
          <p:cNvPicPr/>
          <p:nvPr/>
        </p:nvPicPr>
        <p:blipFill>
          <a:blip r:embed="rId7"/>
          <a:stretch/>
        </p:blipFill>
        <p:spPr>
          <a:xfrm>
            <a:off x="2127240" y="2766960"/>
            <a:ext cx="1001880" cy="1400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G:\D_Repository\A_Workzone\10_Future of CAP (post 2013)\11_Legal Proposals\7_ppts\pictures 2013\95510563.jpg"/>
          <p:cNvPicPr/>
          <p:nvPr/>
        </p:nvPicPr>
        <p:blipFill>
          <a:blip r:embed="rId8"/>
          <a:stretch/>
        </p:blipFill>
        <p:spPr>
          <a:xfrm>
            <a:off x="3127320" y="2724120"/>
            <a:ext cx="1000080" cy="144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G:\D_Repository\A_Workzone\10_Future of CAP (post 2013)\11_Legal Proposals\7_ppts\pictures 2013\137221180_copy.jpg"/>
          <p:cNvPicPr/>
          <p:nvPr/>
        </p:nvPicPr>
        <p:blipFill>
          <a:blip r:embed="rId9"/>
          <a:stretch/>
        </p:blipFill>
        <p:spPr>
          <a:xfrm>
            <a:off x="2127240" y="958680"/>
            <a:ext cx="2000160" cy="1822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5600-EC27-4D57-B9F5-F894D4B87EB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0"/>
          <p:cNvSpPr/>
          <p:nvPr/>
        </p:nvSpPr>
        <p:spPr>
          <a:xfrm>
            <a:off x="4127400" y="965160"/>
            <a:ext cx="502128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14E5-F65F-422E-96C0-E4F802742FB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0"/>
          <p:cNvSpPr/>
          <p:nvPr/>
        </p:nvSpPr>
        <p:spPr>
          <a:xfrm>
            <a:off x="0" y="965160"/>
            <a:ext cx="481320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7694-6E12-4662-822D-C39DE0DC9E5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3" descr="2851026377_bf871ff1dc_o"/>
          <p:cNvPicPr/>
          <p:nvPr/>
        </p:nvPicPr>
        <p:blipFill>
          <a:blip r:embed="rId2"/>
          <a:stretch/>
        </p:blipFill>
        <p:spPr>
          <a:xfrm>
            <a:off x="-12600" y="965160"/>
            <a:ext cx="9156600" cy="5905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3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4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16B4-8A07-4C44-8D83-37A60CEC1A3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560" y="2133360"/>
            <a:ext cx="87138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Verdana"/>
              </a:rPr>
              <a:t>Q&amp;As on</a:t>
            </a:r>
            <a:br>
              <a:rPr sz="3200"/>
            </a:br>
            <a:r>
              <a:rPr b="1" lang="fr-BE" sz="3200" spc="-1" strike="noStrike">
                <a:solidFill>
                  <a:srgbClr val="ffffff"/>
                </a:solidFill>
                <a:latin typeface="Verdana"/>
              </a:rPr>
              <a:t>AIR technical template and reporting on results</a:t>
            </a:r>
            <a:endParaRPr b="1" lang="en-US" sz="32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0" name="Subtitle 6"/>
          <p:cNvSpPr/>
          <p:nvPr/>
        </p:nvSpPr>
        <p:spPr>
          <a:xfrm>
            <a:off x="1187280" y="4149720"/>
            <a:ext cx="77630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Verdana"/>
              </a:rPr>
              <a:t>RDC, 16 December 2015</a:t>
            </a:r>
            <a:r>
              <a:rPr b="0" i="1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DA1E-AB14-4FA6-93F9-89AF9817747E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66760" y="76356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Reporting on results 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4920" y="1483920"/>
            <a:ext cx="9026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A priority for all polici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Rural development well prepared!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CMES developed with MS/stakeholders over 4 year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Designed to demonstrate results at RDP and EU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Monitoring and evaluation combine to show full RDP achievement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84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4E18-3A4A-4E62-84E4-3EE37394D711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66760" y="76356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Simplification of result reporting for 2014-2020 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4920" y="1483920"/>
            <a:ext cx="9026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Number of indicators reduced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All target indicator values obtained from simple monitoring data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More complex result indicators addressed through evaluat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"Standard" AIR based only on monitoring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1</a:t>
            </a:r>
            <a:r>
              <a:rPr b="1" lang="en-US" sz="1800" spc="-1" strike="noStrike" baseline="30000">
                <a:solidFill>
                  <a:srgbClr val="0f5494"/>
                </a:solidFill>
                <a:latin typeface="Verdana"/>
              </a:rPr>
              <a:t>st</a:t>
            </a: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 evaluation assessment in AIR 2017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88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7542-CB31-42D1-9011-1DBB9095CA76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66760" y="76356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Annual result reporting (Standard AIR) 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4920" y="1483920"/>
            <a:ext cx="9026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Target indicator values per focus area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rom monitoring da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hows achievements/progress to targe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Only programmed operations (primary effect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Additional contributions to Focus Area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xpenditure on operations flagged as having a secondary contribu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ve: only an esti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+ve: no new data or analysis, simple data extra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alance/proportional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No new requirements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682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92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AB36-8CA6-4DFA-9036-8A66102A4CC2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181440" y="907920"/>
            <a:ext cx="9433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2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ssessment of secondary contributions: context 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9036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Common agreement: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Need to show full extent of RDP achievement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In reality many operations contribute to more than one focus area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Too complex to capture from simple monitoring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96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CE99-CF2D-483B-9C0B-7488D9140C5B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181440" y="907920"/>
            <a:ext cx="9433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2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ssessment of secondary contributions: solution 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9036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74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Common agreement: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Multiple contributions to target indicators "built-in" for Priority 4 and parts of Priority 5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98760" indent="-25956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Captured through monito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For other Focus Areas, operations are "flagged" when encoded in the Operations Databas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98760" indent="-25956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Allows evaluators to identify relevant proje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98760" indent="-25956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Discussed in ExCo, Expert group mee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Evaluators will quantify secondary contributions, and complementary result indicators, for the enhanced AIR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98760" indent="-25956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Task shifted from M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98760" indent="-25956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Not required every y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4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300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91E4-3F95-492A-B5EA-5D1B775EED66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64960" y="90792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Flagging of secondary contributions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9036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304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  <p:pic>
        <p:nvPicPr>
          <p:cNvPr id="305" name="Picture 2" descr=""/>
          <p:cNvPicPr/>
          <p:nvPr/>
        </p:nvPicPr>
        <p:blipFill>
          <a:blip r:embed="rId1"/>
          <a:srcRect l="29791" t="7505" r="37096" b="79746"/>
          <a:stretch/>
        </p:blipFill>
        <p:spPr>
          <a:xfrm>
            <a:off x="66600" y="1484280"/>
            <a:ext cx="6677280" cy="1403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" descr=""/>
          <p:cNvPicPr/>
          <p:nvPr/>
        </p:nvPicPr>
        <p:blipFill>
          <a:blip r:embed="rId2"/>
          <a:srcRect l="30486" t="71123" r="37106" b="3433"/>
          <a:stretch/>
        </p:blipFill>
        <p:spPr>
          <a:xfrm>
            <a:off x="208080" y="2860560"/>
            <a:ext cx="6535800" cy="2800440"/>
          </a:xfrm>
          <a:prstGeom prst="rect">
            <a:avLst/>
          </a:prstGeom>
          <a:ln w="0">
            <a:noFill/>
          </a:ln>
        </p:spPr>
      </p:pic>
      <p:sp>
        <p:nvSpPr>
          <p:cNvPr id="307" name="Oval 1"/>
          <p:cNvSpPr/>
          <p:nvPr/>
        </p:nvSpPr>
        <p:spPr>
          <a:xfrm>
            <a:off x="4541760" y="4627440"/>
            <a:ext cx="1584360" cy="576360"/>
          </a:xfrm>
          <a:prstGeom prst="ellipse">
            <a:avLst/>
          </a:prstGeom>
          <a:noFill/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cxnSp>
        <p:nvCxnSpPr>
          <p:cNvPr id="308" name="Straight Arrow Connector 3"/>
          <p:cNvCxnSpPr>
            <a:stCxn id="307" idx="7"/>
          </p:cNvCxnSpPr>
          <p:nvPr/>
        </p:nvCxnSpPr>
        <p:spPr>
          <a:xfrm flipV="1">
            <a:off x="5893920" y="4627080"/>
            <a:ext cx="118440" cy="84960"/>
          </a:xfrm>
          <a:prstGeom prst="straightConnector1">
            <a:avLst/>
          </a:prstGeom>
          <a:ln w="0">
            <a:noFill/>
          </a:ln>
        </p:spPr>
      </p:cxnSp>
      <p:sp>
        <p:nvSpPr>
          <p:cNvPr id="309" name="TextBox 6"/>
          <p:cNvSpPr/>
          <p:nvPr/>
        </p:nvSpPr>
        <p:spPr>
          <a:xfrm>
            <a:off x="6743880" y="1628640"/>
            <a:ext cx="2400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If nature of operations is known, no need to go at application level, whole set of operations similar 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cxnSp>
        <p:nvCxnSpPr>
          <p:cNvPr id="310" name="Straight Arrow Connector 8"/>
          <p:cNvCxnSpPr>
            <a:stCxn id="307" idx="7"/>
            <a:endCxn id="309" idx="1"/>
          </p:cNvCxnSpPr>
          <p:nvPr/>
        </p:nvCxnSpPr>
        <p:spPr>
          <a:xfrm flipV="1">
            <a:off x="5894280" y="2320200"/>
            <a:ext cx="850320" cy="239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1" name="Oval 16"/>
          <p:cNvSpPr/>
          <p:nvPr/>
        </p:nvSpPr>
        <p:spPr>
          <a:xfrm>
            <a:off x="4419720" y="5153040"/>
            <a:ext cx="2350800" cy="728640"/>
          </a:xfrm>
          <a:prstGeom prst="ellipse">
            <a:avLst/>
          </a:prstGeom>
          <a:noFill/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2" name="TextBox 17"/>
          <p:cNvSpPr/>
          <p:nvPr/>
        </p:nvSpPr>
        <p:spPr>
          <a:xfrm>
            <a:off x="6831000" y="4627440"/>
            <a:ext cx="2400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where nature is not known in advance, coded on processing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cxnSp>
        <p:nvCxnSpPr>
          <p:cNvPr id="313" name="Straight Arrow Connector 11"/>
          <p:cNvCxnSpPr>
            <a:stCxn id="311" idx="7"/>
            <a:endCxn id="312" idx="1"/>
          </p:cNvCxnSpPr>
          <p:nvPr/>
        </p:nvCxnSpPr>
        <p:spPr>
          <a:xfrm flipV="1">
            <a:off x="6426360" y="4997160"/>
            <a:ext cx="405360" cy="262080"/>
          </a:xfrm>
          <a:prstGeom prst="straightConnector1">
            <a:avLst/>
          </a:prstGeom>
          <a:ln w="9360">
            <a:solidFill>
              <a:srgbClr val="2f2f98"/>
            </a:solidFill>
            <a:miter/>
            <a:tailEnd len="med" type="arrow" w="med"/>
          </a:ln>
        </p:spPr>
      </p:cxnSp>
      <p:sp>
        <p:nvSpPr>
          <p:cNvPr id="314" name="Rectangle 2"/>
          <p:cNvSpPr/>
          <p:nvPr/>
        </p:nvSpPr>
        <p:spPr>
          <a:xfrm>
            <a:off x="5334120" y="1484280"/>
            <a:ext cx="1685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210C-468E-4996-AC93-CAAB9A2A5302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64960" y="90792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Capturing secondary contribuitons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3760" y="1341360"/>
            <a:ext cx="9036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gnoring secondary effects </a:t>
            </a:r>
            <a:r>
              <a:rPr b="0" lang="en-GB" sz="1800" spc="-1" strike="noStrike" u="sng">
                <a:solidFill>
                  <a:srgbClr val="0f5494"/>
                </a:solidFill>
                <a:uFillTx/>
                <a:latin typeface="Verdana"/>
              </a:rPr>
              <a:t>leads to  underestimation of RDP achievements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318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  <p:pic>
        <p:nvPicPr>
          <p:cNvPr id="319" name="Picture 3" descr=""/>
          <p:cNvPicPr/>
          <p:nvPr/>
        </p:nvPicPr>
        <p:blipFill>
          <a:blip r:embed="rId1"/>
          <a:stretch/>
        </p:blipFill>
        <p:spPr>
          <a:xfrm>
            <a:off x="687240" y="3159000"/>
            <a:ext cx="7413840" cy="3380040"/>
          </a:xfrm>
          <a:prstGeom prst="rect">
            <a:avLst/>
          </a:prstGeom>
          <a:ln w="0">
            <a:noFill/>
          </a:ln>
        </p:spPr>
      </p:pic>
      <p:sp>
        <p:nvSpPr>
          <p:cNvPr id="320" name="Oval 1"/>
          <p:cNvSpPr/>
          <p:nvPr/>
        </p:nvSpPr>
        <p:spPr>
          <a:xfrm>
            <a:off x="1474920" y="5084640"/>
            <a:ext cx="1009440" cy="86544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1" name="Oval 9"/>
          <p:cNvSpPr/>
          <p:nvPr/>
        </p:nvSpPr>
        <p:spPr>
          <a:xfrm>
            <a:off x="2843280" y="3357720"/>
            <a:ext cx="2200320" cy="2158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2" name="Oval 11"/>
          <p:cNvSpPr/>
          <p:nvPr/>
        </p:nvSpPr>
        <p:spPr>
          <a:xfrm>
            <a:off x="6732720" y="5192640"/>
            <a:ext cx="1008000" cy="86364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cxnSp>
        <p:nvCxnSpPr>
          <p:cNvPr id="323" name="Straight Arrow Connector 3"/>
          <p:cNvCxnSpPr/>
          <p:nvPr/>
        </p:nvCxnSpPr>
        <p:spPr>
          <a:xfrm>
            <a:off x="5043600" y="4581000"/>
            <a:ext cx="969120" cy="14756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4" name="Straight Arrow Connector 15"/>
          <p:cNvCxnSpPr/>
          <p:nvPr/>
        </p:nvCxnSpPr>
        <p:spPr>
          <a:xfrm flipH="1">
            <a:off x="5218920" y="5568840"/>
            <a:ext cx="1513800" cy="488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5" name="Straight Arrow Connector 17"/>
          <p:cNvCxnSpPr>
            <a:stCxn id="320" idx="2"/>
          </p:cNvCxnSpPr>
          <p:nvPr/>
        </p:nvCxnSpPr>
        <p:spPr>
          <a:xfrm>
            <a:off x="1474560" y="5516640"/>
            <a:ext cx="1080" cy="434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6" name="Straight Arrow Connector 23"/>
          <p:cNvCxnSpPr/>
          <p:nvPr/>
        </p:nvCxnSpPr>
        <p:spPr>
          <a:xfrm>
            <a:off x="2406240" y="5392440"/>
            <a:ext cx="2431080" cy="8406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324000" y="2492280"/>
            <a:ext cx="85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GB" sz="3600" spc="-1" strike="noStrike">
                <a:solidFill>
                  <a:srgbClr val="ffffff"/>
                </a:solidFill>
                <a:latin typeface="Verdana"/>
              </a:rPr>
              <a:t>Thank you for your attention!</a:t>
            </a:r>
            <a:endParaRPr b="1" lang="en-US" sz="3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PAYNE Victoria (AGRI)</cp:lastModifiedBy>
  <cp:lastPrinted>2015-11-17T11:17:17Z</cp:lastPrinted>
  <dcterms:modified xsi:type="dcterms:W3CDTF">2015-12-16T14:01:26Z</dcterms:modified>
  <cp:revision>477</cp:revision>
  <dc:subject/>
  <dc:title>Slide 1</dc:title>
</cp:coreProperties>
</file>