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0E06-BC82-4CA1-B7C0-76C090C29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499E-1557-4D81-9FF3-BB37287EC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060E-546C-4DE2-A4D7-6DA103EDEC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E277-7FB6-47BE-B826-D76E1AB2D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9DD8-7C92-4DD6-8FFB-2EECFF9B63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9A86-B8E0-4969-9B87-2941806129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965E-4D3A-48D7-9551-093676527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D4CE-69F3-461C-AC5C-4E61C8686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1845-F916-4179-8F84-A11F2DD38A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637C-416C-4070-8B94-8599732933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773-7BC7-4B66-9648-994FE090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41F-C251-459D-8451-F69D06AA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5B8-DBF5-4ACB-9E2E-1236CF74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F6A-AEBF-43DB-8623-02808FCF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5E1F-BB02-4466-B34E-00384711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C8EE-8BF3-4048-85B2-579D9E5E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FB78-D94F-4A39-9571-4316CCF6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D795-DE70-4910-9469-C4787C1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FB04-7045-46A6-AF85-4DAC47D1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537C-5D60-4E34-B558-B6189E51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969D-2857-47D7-9E76-2AF8CCB7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DBE-4400-4576-93BC-FE0A406A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3C5B-A000-487D-93D5-FDA76035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6FDD-C2CB-4596-BFFF-000E930C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3B89-05DF-43AF-ABCA-D42ED2C7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B2E1-EAE9-464A-9F44-47C0CDCF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2600-9924-4E16-9038-2E6E7F1D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9E4B-BA1C-460F-8387-269E6954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3934-0257-4264-8B21-44F0279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1536-D035-41A9-81CD-F3124269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389D-F217-4B5A-9F09-EEC19DD1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924D-8B38-4CD5-A57B-4B1C89E8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AA7-4958-4640-95AA-8194B3DB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DC3A-49E1-4AE7-8E83-33CE00F6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5012-1122-475A-AD84-E5460247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A800-D665-4D3D-B7C1-9886ECAC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D64D-07CB-4AA9-9893-3DFAB2DF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F2B1-5A6C-4E1B-AC7D-E96473D5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B3CA-DBEB-40EC-AC10-AAAF0BA7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F8D8-FF52-4C09-A0E2-48711128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8A06-366F-44C3-8429-BE0C2CFC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7E971-9277-4354-81AE-9334D081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1D4B-7E36-42A2-B4CD-6B563D3B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162-39A7-4AE6-BB1E-AD92B969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B9A9-A2B8-44D8-BEDB-55D7CDC4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A453-D023-4843-AB82-FB56E0E7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9C6B4-A2F1-4BAB-B284-65E94404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C7E2-6550-43A1-B256-833F8DF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DFE4-A7EC-4799-A9E0-04E23D46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3ACEF-4381-42C2-BBD4-48FDCDC2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BF91B-94F3-4BEA-BA40-78A0F6D8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6838F-4590-4207-8742-804BD1E3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179D8-BDDB-44EC-AB2E-6DE9EF0C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08F45-2A2A-4BAC-86E6-5825286A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68C-2E9E-47C2-803E-BBA297C6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A426-2AA9-485B-95EF-F445CAC1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15F8A-BF05-48D1-8150-49950BD8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A17A-7659-4E5C-87BB-027C6E0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69755-1AD9-40C6-B8AF-5DDEDDCF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B9A6C-F3BC-406D-B20B-DC6D37D8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FA5B-3016-4D81-90B5-44F5F50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D579F-1553-4751-A8DE-9A072344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3FE7-73A5-4340-A690-4C02759C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E592-A941-4FB5-BC7B-F2F3DEE5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E685C-E739-4FBC-A044-4B7F56C2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928-B2C0-4526-8511-D2808284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93DCC-9D93-40B2-95C7-8906B4ED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8F418-48D6-45DA-99F7-BEF3217E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EB232-89B2-4D5C-A436-DAE8ACAB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924F9-F99C-4B70-95C7-5533D043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60447-35E6-4276-93C1-0A66AFCE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7C90E-19BC-4E6E-BBF4-8FEA1102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D5A27-CB7B-4A8E-A541-361EC914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D3176-B4BC-4871-B82B-44E9F942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B3593-3BCB-40C5-AB48-4B655F23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44E69-15F7-4DAD-B401-83D7E4DB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DCC-8AE7-450F-963C-5EC48886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C3415-9067-4564-B4C9-D7340FB3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9278-3F6B-4D73-ADF5-BFF81F13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3702-9BCC-4ADD-96FA-7C6DD4A6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40D-EE39-463E-BB2F-E7DB11C2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F30-53AE-45A7-897E-8DC65BC6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01F0-8085-4A90-803F-098A1B44784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26F9-C0E1-4BA8-8E5C-A5F74E0305F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2B4F-73A2-4552-8971-45ABA1F026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B979-89E5-4FD3-AEBE-4FE55EBCC69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405E-62CC-4A59-9CC3-A0FD61963DB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7104-3E40-43FF-A661-23F1EF27DE2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Q&amp;As on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AIR technical template and reporting on results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6 December 2015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A246-1B9A-4386-ABD4-B04F9459A240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Reporting on results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 priority for all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ural development well prepared!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MES developed with MS/stakeholders over 4 yea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ed to demonstrate results at RDP and EU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and evaluation combine to show full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45F-4854-44FD-8C0E-10A5F87C263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Simplification of result reporting for 2014-2020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umber of indicators reduce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ll target indicator values obtained from simple monitoring da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re complex result indicators addressed through e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"Standard" AIR based only on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 evaluation assessment in AIR 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AAA2-6EF7-46AE-9CA0-DD608E2A26E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nnual result reporting (Standard AIR)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arget indicator values per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om monitoring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ws achievements/progress to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ly programmed operations (primary effec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dditional contributions to Focus Are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enditure on operations flagged as having a secondary con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ve: only an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ve: no new data or analysis, simple data ex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/propor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new requiremen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2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874F-B14C-4FE8-9149-8B3D3A231BBC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context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ed to show full extent of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 reality many operations contribute to more than one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Too complex to capture from simple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6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F777-A7C9-4ABA-90DC-07A248F8FFA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solution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Multiple contributions to target indicators "built-in" for Priority 4 and parts of Priority 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aptured through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For other Focus Areas, operations are "flagged" when encoded in the Operations Databas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Allows evaluators to identify releva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Discussed in ExCo, Expert group mee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valuators will quantify secondary contributions, and complementary result indicators, for the enhanced AI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Task shifted from 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Not required every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0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64C1-CC32-4CF1-82B4-3FCC68195BF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Flagging of secondary contributi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05" name="Picture 2" descr=""/>
          <p:cNvPicPr/>
          <p:nvPr/>
        </p:nvPicPr>
        <p:blipFill>
          <a:blip r:embed="rId1"/>
          <a:srcRect l="29791" t="7505" r="37096" b="79746"/>
          <a:stretch/>
        </p:blipFill>
        <p:spPr>
          <a:xfrm>
            <a:off x="66600" y="1484280"/>
            <a:ext cx="6677280" cy="14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rcRect l="30486" t="71123" r="37106" b="3433"/>
          <a:stretch/>
        </p:blipFill>
        <p:spPr>
          <a:xfrm>
            <a:off x="208080" y="2860560"/>
            <a:ext cx="6535800" cy="2800440"/>
          </a:xfrm>
          <a:prstGeom prst="rect">
            <a:avLst/>
          </a:prstGeom>
          <a:ln w="0">
            <a:noFill/>
          </a:ln>
        </p:spPr>
      </p:pic>
      <p:sp>
        <p:nvSpPr>
          <p:cNvPr id="307" name="Oval 1"/>
          <p:cNvSpPr/>
          <p:nvPr/>
        </p:nvSpPr>
        <p:spPr>
          <a:xfrm>
            <a:off x="4541760" y="4627440"/>
            <a:ext cx="1584360" cy="57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08" name="Straight Arrow Connector 3"/>
          <p:cNvCxnSpPr>
            <a:stCxn id="307" idx="7"/>
          </p:cNvCxnSpPr>
          <p:nvPr/>
        </p:nvCxnSpPr>
        <p:spPr>
          <a:xfrm flipV="1">
            <a:off x="5893920" y="4627080"/>
            <a:ext cx="11844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09" name="TextBox 6"/>
          <p:cNvSpPr/>
          <p:nvPr/>
        </p:nvSpPr>
        <p:spPr>
          <a:xfrm>
            <a:off x="6743880" y="1628640"/>
            <a:ext cx="24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f nature of operations is known, no need to go at application level, whole set of operations simil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0" name="Straight Arrow Connector 8"/>
          <p:cNvCxnSpPr>
            <a:stCxn id="307" idx="7"/>
            <a:endCxn id="309" idx="1"/>
          </p:cNvCxnSpPr>
          <p:nvPr/>
        </p:nvCxnSpPr>
        <p:spPr>
          <a:xfrm flipV="1">
            <a:off x="5894280" y="2320200"/>
            <a:ext cx="850320" cy="239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Oval 16"/>
          <p:cNvSpPr/>
          <p:nvPr/>
        </p:nvSpPr>
        <p:spPr>
          <a:xfrm>
            <a:off x="4419720" y="5153040"/>
            <a:ext cx="2350800" cy="72864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6831000" y="4627440"/>
            <a:ext cx="24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where nature is not known in advance, coded on processing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3" name="Straight Arrow Connector 11"/>
          <p:cNvCxnSpPr>
            <a:stCxn id="311" idx="7"/>
            <a:endCxn id="312" idx="1"/>
          </p:cNvCxnSpPr>
          <p:nvPr/>
        </p:nvCxnSpPr>
        <p:spPr>
          <a:xfrm flipV="1">
            <a:off x="6426360" y="4997160"/>
            <a:ext cx="405360" cy="262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sp>
        <p:nvSpPr>
          <p:cNvPr id="314" name="Rectangle 2"/>
          <p:cNvSpPr/>
          <p:nvPr/>
        </p:nvSpPr>
        <p:spPr>
          <a:xfrm>
            <a:off x="5334120" y="1484280"/>
            <a:ext cx="1685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6852-C832-488A-AFCD-E8F5D3A9C62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Capturing secondary contribuit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376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gnoring secondary effects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leads to  underestimation of RDP achie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687240" y="3159000"/>
            <a:ext cx="7413840" cy="3380040"/>
          </a:xfrm>
          <a:prstGeom prst="rect">
            <a:avLst/>
          </a:prstGeom>
          <a:ln w="0">
            <a:noFill/>
          </a:ln>
        </p:spPr>
      </p:pic>
      <p:sp>
        <p:nvSpPr>
          <p:cNvPr id="320" name="Oval 1"/>
          <p:cNvSpPr/>
          <p:nvPr/>
        </p:nvSpPr>
        <p:spPr>
          <a:xfrm>
            <a:off x="1474920" y="5084640"/>
            <a:ext cx="1009440" cy="865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843280" y="3357720"/>
            <a:ext cx="2200320" cy="2158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6732720" y="5192640"/>
            <a:ext cx="100800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23" name="Straight Arrow Connector 3"/>
          <p:cNvCxnSpPr/>
          <p:nvPr/>
        </p:nvCxnSpPr>
        <p:spPr>
          <a:xfrm>
            <a:off x="5043600" y="4581000"/>
            <a:ext cx="969120" cy="147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15"/>
          <p:cNvCxnSpPr/>
          <p:nvPr/>
        </p:nvCxnSpPr>
        <p:spPr>
          <a:xfrm flipH="1">
            <a:off x="5218920" y="5568840"/>
            <a:ext cx="1513800" cy="488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Straight Arrow Connector 17"/>
          <p:cNvCxnSpPr>
            <a:stCxn id="320" idx="2"/>
          </p:cNvCxnSpPr>
          <p:nvPr/>
        </p:nvCxnSpPr>
        <p:spPr>
          <a:xfrm>
            <a:off x="1474560" y="5516640"/>
            <a:ext cx="1080" cy="434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Straight Arrow Connector 23"/>
          <p:cNvCxnSpPr/>
          <p:nvPr/>
        </p:nvCxnSpPr>
        <p:spPr>
          <a:xfrm>
            <a:off x="2406240" y="5392440"/>
            <a:ext cx="2431080" cy="840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5-11-17T11:17:17Z</cp:lastPrinted>
  <dcterms:modified xsi:type="dcterms:W3CDTF">2015-12-16T14:01:26Z</dcterms:modified>
  <cp:revision>477</cp:revision>
  <dc:subject/>
  <dc:title>Slide 1</dc:title>
</cp:coreProperties>
</file>