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8CD8-54EF-4E57-9079-EFDDF33A0E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5A6C-6C5B-43FF-8CC0-62AF70EDC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ED87-4607-4AB4-B860-49F172DE4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A37-1D86-4FFA-8408-DE7B2303C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B7BA-02EE-4C6C-AD7B-A5E739884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DDFF-C01A-43A7-9221-82C7365301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9FA5-4734-4F84-AA73-D56BF68960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162C-CE7A-4495-A0A9-8A26CCE8A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6386-5C17-4CD9-90F4-F6EE6F43B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1E68-EDD7-40E1-BE8C-C2B7DDA61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E9E-422E-48B3-8729-39954041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C11-ABAB-4655-851C-BF98EE4F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DA3-F85F-4105-B77A-8E6FB00E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8F7-506A-46F0-BB7B-E1FFC879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4D31-7C91-4D28-9CA7-970B786F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11DB-E27F-4391-A58A-5CF59C10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3DD3-96C8-4764-B708-B768E188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9609-87B6-4D34-ADA1-B971D264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F9ED-6C2C-4AB1-9897-3791DC9C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4A65-2F58-478C-BBB7-2482985A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7062-9CAC-45C2-A40D-81155676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301-84CC-4661-AFBE-185EC758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B8C9-F4C9-482A-A980-213CD132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6DF5-5DCD-4E1A-850A-F996A7DC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D550-4543-4E7B-A576-2D5F598B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50A1-7264-467D-841C-998937AB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3D25-65D1-46BE-87FE-2E2E0B10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FDE16-4683-48A3-AF02-6C7237C7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FA11-BEC0-4CF9-9724-D38D2AC2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2EFB-384B-409A-B244-45831090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4D86-3455-42C4-9FFC-1FE4C154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631A-9CC2-4760-88B2-F2029D97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355-F807-4985-ABCA-6D82EA6D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68F1-F3D8-48CD-930B-108D8DE7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7D5F-56BB-41F2-9659-573C31B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39BB-A25F-4721-A71A-A93C832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92AC-5FDC-4942-91E8-C1C04CD8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FD60-AC93-487E-8CEB-AE6E630D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C597-81BA-455E-8F10-710DDD98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3A9E4-08F5-4888-BED5-DFEC5E92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A53D6-BAB0-42B0-B0B3-1677F509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F21EA-40BA-4CAD-880F-1EC55A78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CF878-55AC-45C7-855A-9F5C4ACB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C3B-A772-47E3-81A8-62571F7C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D978C-D764-45D3-875C-B92DA09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01F5-3603-4CF1-86D3-0538539E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B549-5CFA-4D8D-A68B-9C300E77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7BB78-8F67-49BB-B83A-6ACCE746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1AB7-46E9-48E5-8813-9F9DD9EB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B384-006C-4D68-9A83-1CC30146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B816-B145-40B5-83DE-25E46370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AB14-4E84-4781-9861-6EDD3B87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858C-6874-4896-A385-CA6A82FF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35C03-FAF2-4890-9B38-9C32E6DC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D3E-913C-46A9-B138-4BBAFEAC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7E780-B8DF-4E5C-BA96-B167F350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CF725-CB9C-4D17-967C-4E99EB08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D01C7-DFD2-4E1E-ABD4-0F6A5A98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5114B-01DA-4786-BDA2-C002F429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5895F-16BD-4703-929D-E5D9851E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1C153-823B-4FE3-960E-28037C7D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E61F8-70DE-4EF1-8F9F-41874BBB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B7107-0CBA-4AF8-A5F4-BA77C7AC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3225D-5C27-41BC-A192-EBB2B35E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A776C-9CF9-48C3-82C9-1CB3A104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D99-0A60-4FB8-99C4-D094007C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D62D2-2530-4C2B-BB60-44EBFE5B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678A2-7D01-49B1-844E-1775A030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8851A-4758-4FE8-8795-9D275D9A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B63A8-4706-45E9-BA08-AAAD9A82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308A2-50DA-4878-8556-B0D03D99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4902C-E8FB-4C44-B763-BB772055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6BD49-F7F5-4C5A-A932-3E32EBFB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9507C-F060-4414-80D6-7D7695FD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95B18-2260-4FC6-A2D3-1B4B6C93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FC6CB-42DF-41B6-87D2-9591E25A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CA5-9E52-437B-A1E1-22CC8340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C9C0F-FE21-46BC-B2B4-1A699F71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EA634-986D-44CE-B558-D0A6FCDA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0F92C-8D8E-4EAA-9EBF-2E3DABDC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4C1-402A-4AB2-943E-243C06F5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68E-4F8A-4965-A862-D73D68C7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D063-1692-4081-9937-2614E6AC692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D416-FE8B-4EEF-9E0E-AD2C659F7FF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07DD-ABD1-42BF-9EF0-EB47ED74AFD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8F5B-283F-472B-88BE-7AA7102E387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B63F-7CE1-4F74-8F14-95075F2C44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D96F-4325-433C-9113-FBC85CBE161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Q&amp;As on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AIR technical template and reporting on results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6 December 2015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6ADC-BA0F-43BF-B0C1-00A4246BAF96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Reporting on results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 priority for all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ural development well prepared!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MES developed with MS/stakeholders over 4 yea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ed to demonstrate results at RDP and EU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and evaluation combine to show full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3202-C1C3-4D44-97FF-77C47BC91CF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Simplification of result reporting for 2014-2020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umber of indicators reduce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ll target indicator values obtained from simple monitoring da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re complex result indicators addressed through e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"Standard" AIR based only on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 evaluation assessment in AIR 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BFA4-46A8-40B1-87D1-784E5358389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nnual result reporting (Standard AIR)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arget indicator values per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om monitoring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ws achievements/progress to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ly programmed operations (primary effec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dditional contributions to Focus Are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enditure on operations flagged as having a secondary con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ve: only an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ve: no new data or analysis, simple data ex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/propor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new requiremen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2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010F-7939-4F34-A780-7C033BF83C0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context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ed to show full extent of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 reality many operations contribute to more than one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Too complex to capture from simple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6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1466-8DBA-4C6B-B528-E2CF94CD742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solution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Multiple contributions to target indicators "built-in" for Priority 4 and parts of Priority 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aptured through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For other Focus Areas, operations are "flagged" when encoded in the Operations Databas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Allows evaluators to identify releva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Discussed in ExCo, Expert group mee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valuators will quantify secondary contributions, and complementary result indicators, for the enhanced AI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Task shifted from 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Not required every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0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A1BB-0D08-4099-84D1-57061CB9E86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Flagging of secondary contributi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05" name="Picture 2" descr=""/>
          <p:cNvPicPr/>
          <p:nvPr/>
        </p:nvPicPr>
        <p:blipFill>
          <a:blip r:embed="rId1"/>
          <a:srcRect l="29791" t="7505" r="37096" b="79746"/>
          <a:stretch/>
        </p:blipFill>
        <p:spPr>
          <a:xfrm>
            <a:off x="66600" y="1484280"/>
            <a:ext cx="6677280" cy="14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rcRect l="30486" t="71123" r="37106" b="3433"/>
          <a:stretch/>
        </p:blipFill>
        <p:spPr>
          <a:xfrm>
            <a:off x="208080" y="2860560"/>
            <a:ext cx="6535800" cy="2800440"/>
          </a:xfrm>
          <a:prstGeom prst="rect">
            <a:avLst/>
          </a:prstGeom>
          <a:ln w="0">
            <a:noFill/>
          </a:ln>
        </p:spPr>
      </p:pic>
      <p:sp>
        <p:nvSpPr>
          <p:cNvPr id="307" name="Oval 1"/>
          <p:cNvSpPr/>
          <p:nvPr/>
        </p:nvSpPr>
        <p:spPr>
          <a:xfrm>
            <a:off x="4541760" y="4627440"/>
            <a:ext cx="1584360" cy="57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08" name="Straight Arrow Connector 3"/>
          <p:cNvCxnSpPr>
            <a:stCxn id="307" idx="7"/>
          </p:cNvCxnSpPr>
          <p:nvPr/>
        </p:nvCxnSpPr>
        <p:spPr>
          <a:xfrm flipV="1">
            <a:off x="5893920" y="4627080"/>
            <a:ext cx="11844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09" name="TextBox 6"/>
          <p:cNvSpPr/>
          <p:nvPr/>
        </p:nvSpPr>
        <p:spPr>
          <a:xfrm>
            <a:off x="6743880" y="1628640"/>
            <a:ext cx="24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f nature of operations is known, no need to go at application level, whole set of operations simil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0" name="Straight Arrow Connector 8"/>
          <p:cNvCxnSpPr>
            <a:stCxn id="307" idx="7"/>
            <a:endCxn id="309" idx="1"/>
          </p:cNvCxnSpPr>
          <p:nvPr/>
        </p:nvCxnSpPr>
        <p:spPr>
          <a:xfrm flipV="1">
            <a:off x="5894280" y="2320200"/>
            <a:ext cx="850320" cy="239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Oval 16"/>
          <p:cNvSpPr/>
          <p:nvPr/>
        </p:nvSpPr>
        <p:spPr>
          <a:xfrm>
            <a:off x="4419720" y="5153040"/>
            <a:ext cx="2350800" cy="72864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6831000" y="4627440"/>
            <a:ext cx="24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where nature is not known in advance, coded on processing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3" name="Straight Arrow Connector 11"/>
          <p:cNvCxnSpPr>
            <a:stCxn id="311" idx="7"/>
            <a:endCxn id="312" idx="1"/>
          </p:cNvCxnSpPr>
          <p:nvPr/>
        </p:nvCxnSpPr>
        <p:spPr>
          <a:xfrm flipV="1">
            <a:off x="6426360" y="4997160"/>
            <a:ext cx="405360" cy="262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sp>
        <p:nvSpPr>
          <p:cNvPr id="314" name="Rectangle 2"/>
          <p:cNvSpPr/>
          <p:nvPr/>
        </p:nvSpPr>
        <p:spPr>
          <a:xfrm>
            <a:off x="5334120" y="1484280"/>
            <a:ext cx="1685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E69D-F0B0-4206-8440-61ED305F4B1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Capturing secondary contribuit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376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gnoring secondary effects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leads to  underestimation of RDP achie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687240" y="3159000"/>
            <a:ext cx="7413840" cy="3380040"/>
          </a:xfrm>
          <a:prstGeom prst="rect">
            <a:avLst/>
          </a:prstGeom>
          <a:ln w="0">
            <a:noFill/>
          </a:ln>
        </p:spPr>
      </p:pic>
      <p:sp>
        <p:nvSpPr>
          <p:cNvPr id="320" name="Oval 1"/>
          <p:cNvSpPr/>
          <p:nvPr/>
        </p:nvSpPr>
        <p:spPr>
          <a:xfrm>
            <a:off x="1474920" y="5084640"/>
            <a:ext cx="1009440" cy="865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843280" y="3357720"/>
            <a:ext cx="2200320" cy="2158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6732720" y="5192640"/>
            <a:ext cx="100800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23" name="Straight Arrow Connector 3"/>
          <p:cNvCxnSpPr/>
          <p:nvPr/>
        </p:nvCxnSpPr>
        <p:spPr>
          <a:xfrm>
            <a:off x="5043600" y="4581000"/>
            <a:ext cx="969120" cy="147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15"/>
          <p:cNvCxnSpPr/>
          <p:nvPr/>
        </p:nvCxnSpPr>
        <p:spPr>
          <a:xfrm flipH="1">
            <a:off x="5218920" y="5568840"/>
            <a:ext cx="1513800" cy="488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Straight Arrow Connector 17"/>
          <p:cNvCxnSpPr>
            <a:stCxn id="320" idx="2"/>
          </p:cNvCxnSpPr>
          <p:nvPr/>
        </p:nvCxnSpPr>
        <p:spPr>
          <a:xfrm>
            <a:off x="1474560" y="5516640"/>
            <a:ext cx="1080" cy="434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Straight Arrow Connector 23"/>
          <p:cNvCxnSpPr/>
          <p:nvPr/>
        </p:nvCxnSpPr>
        <p:spPr>
          <a:xfrm>
            <a:off x="2406240" y="5392440"/>
            <a:ext cx="2431080" cy="840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5-11-17T11:17:17Z</cp:lastPrinted>
  <dcterms:modified xsi:type="dcterms:W3CDTF">2015-12-16T14:01:26Z</dcterms:modified>
  <cp:revision>477</cp:revision>
  <dc:subject/>
  <dc:title>Slide 1</dc:title>
</cp:coreProperties>
</file>