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EBE4-ED7E-4AB2-AAFB-8AE35EE03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26E5-3E93-478C-A0B1-45EFA5952D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30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C949-1888-4BC7-9F19-E798475C2A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E86C-DD0B-4F5E-AAEE-5961D8BA4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3400" cy="3730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07920" y="4723920"/>
            <a:ext cx="4989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3E7-02C4-412E-99ED-010C594D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B84-0A45-4E4D-AA92-B407E5E5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86D-E7E4-4B18-800E-F8B475C7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958-5C13-43B8-81D3-89DA107A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134F-66C1-4A86-9377-83D0DE2D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3E86-80CF-4914-AE9A-C5E87934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9A21-C970-4A30-A7B5-8CE09A21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2DF5-987C-46C4-8286-C0BD98B5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030F-1B85-46A1-AA28-A3626AFE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362A-7D93-472E-B42C-CF7703EF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799F-AAE6-4FF7-8B66-1C15A5D6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E0F-B597-446F-8228-234297E4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A614-8D30-4016-B4AA-4A606A9E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2A0A-C350-4F2B-B27F-17F4F16A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F8A5-0C60-4ED5-9F49-DBCB7868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FB49-140B-4EA8-9580-382E77F9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9045-B95A-4F61-A776-0E5A97AF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95665-9AE4-4261-BDCD-602610E6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0D9A-843E-4763-8137-3F65A5A1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ADA94-FC71-4495-B3E4-4BD38858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B4999-FA9D-4137-A49A-0C316FC9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ADCDA-90C5-451D-82C8-0B94D544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4E9-681B-4781-9606-CB1DFD05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EDCE3-6314-4593-A64E-FAD6B734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E7044-CCFE-44F4-9D1B-2BAC1092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2F5F5-B0D0-4679-801D-7A6908F4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7F55-F125-4DF9-BAB6-14BB304E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52155-BB0A-431D-A545-EDC4A50F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5A83F-F37E-41DB-90F0-DDFFB57A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43E7A-8D23-49B3-BEAE-BEE2A9EB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9CF05-4CA1-40FB-A5AF-B792FE57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F73A7-06D8-4FD2-B0BC-CAF7B1FD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9378F-C6F5-4350-AAC9-447E8FF6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2AE-DD15-48FB-A599-03AD083F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0A969-0248-452C-91F0-F3AC8C0E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8EEC1-258A-41DC-8E42-F4EC4D9A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91249-2F39-4289-9377-A7FC23AE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B3346-25EC-47BB-88C4-1A60A908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23D26-D0E8-442D-B609-813CB1C9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F21D-590C-42E4-B04D-D6C588D6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71E9-AE4B-46BE-A4A3-3F375E25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9F386-9804-432D-BB0E-50A8BDE3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2D896-E96E-4D7D-A8A2-68EF6378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F9C07-7C82-4301-AF48-FB23F805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926-7186-4847-AA2E-ACD1A442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50B3C-30EF-43B9-9FE9-A1F36BEC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BA8E1-1691-4213-B770-59CC367A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68ED2-A9ED-476A-9DC9-441E6647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C17F2-4EB9-4C09-8D93-AB74C83F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ADFE7-9456-4E2A-BADA-699AC428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0CA00-2504-42F0-9482-F772989B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E068C-D8D3-4623-99B7-9C23D1DA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8C079-71C0-46AE-B2DB-94E33725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3F83A-0E2F-47D3-9D67-706921F8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18FBD-26A8-49D4-9E0C-71D65D80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33E-8467-4743-9A35-162DDD2D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2AF39-A007-4B02-AD40-266A1112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371AE-C75B-4180-827D-71449C9A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A6BEF-2D02-4C63-83C4-B0C4A9B2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6A7E1-67AB-439E-89BB-ECCEBB00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6E5FD-F989-4539-A406-9329E6C2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FF1C4-A2B6-4EC8-8E17-A4677903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4768B-6F0F-43CE-B193-EDF7AEC6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062C4-E4EF-411E-8B2B-3A22F77D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E1EFE-9758-491A-8342-55D5AEF8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E76E8-1C0D-4B53-BB45-AD628894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973-CF8A-4F00-BDC3-DA573B36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447C5-909A-46D5-8EFE-05AE407A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80460-619D-4A6C-B1F2-F2020BFC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2A6AA-DD78-4746-BDC9-18256A61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DB6-F75B-4654-9DF2-47008F43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C26-FA03-485C-AE08-4A0192C0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787F-2482-4C80-BF26-50D64A581E6E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D018-7436-43E7-8798-E7DD8FE93179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8C1A-81B5-4C1F-996E-6CDDB586E6D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DD0B-0773-4D1C-84F4-9B47CFB8CD6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7278-B5FD-40FF-91A1-CAF75EFA656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B9C6-9CA7-4AB5-AA28-B40C4C84C9E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7138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BE" sz="3200" spc="-1" strike="noStrike">
                <a:solidFill>
                  <a:srgbClr val="ffffff"/>
                </a:solidFill>
                <a:latin typeface="Verdana"/>
              </a:rPr>
              <a:t>SFC2014 EAFRD Annual Implementation report (AIR) Technical Guidance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0" name="Subtitle 6"/>
          <p:cNvSpPr/>
          <p:nvPr/>
        </p:nvSpPr>
        <p:spPr>
          <a:xfrm>
            <a:off x="1187280" y="4149720"/>
            <a:ext cx="77630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Didier Bonaert (DG AGRI Unit H.2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Christophe Derzelle (DG AGRI Unit H.3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RDC, 17 February 2016</a:t>
            </a: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7ADC-0F58-4FC9-9C91-902705D4D17E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6000" y="1123920"/>
            <a:ext cx="858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AIR -  Draft Documents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903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Q&amp;As on SFC2014 AIR technical guid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pdate of the SFC2014 AIR technical guidance (following Q&amp;As)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Draft technical structure of the Annual Implementation Report (AIR) for information </a:t>
            </a: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encoding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 It does not correspond to final AIR Report Snapshot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FC2014 AIR technical guidance for NRN Programm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Monitoring indicator tables (Encoding tables): Excel tables presented in September 2015 RDC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6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11" name="Straight Arrow Connector 2"/>
          <p:cNvCxnSpPr/>
          <p:nvPr/>
        </p:nvCxnSpPr>
        <p:spPr>
          <a:xfrm>
            <a:off x="-3205080" y="148428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rticle 66 1(b) of Regulation 1305/2013 (committed expenditure/Table A): submission by 31 January 2016: remaining missing submissions for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20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RDP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first Submission of BAIDP (January 2016), it should cover expenditure committed from beginning 2014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- If </a:t>
            </a:r>
            <a:r>
              <a:rPr b="0" lang="en-US" sz="1800" spc="-1" strike="noStrike" u="sng">
                <a:solidFill>
                  <a:srgbClr val="0f5494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first Submission of BAIDP (January 2016), it should cover expenditure committed from 1</a:t>
            </a:r>
            <a:r>
              <a:rPr b="0" lang="en-US" sz="18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September 2015 until 31 December 2015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EA88-B60D-4154-9AA1-5AD5D17DB0B2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42a62a"/>
                </a:solidFill>
                <a:latin typeface="Verdana"/>
              </a:rPr>
              <a:t>Bi-Annual Indicator Data Provision (BAIDP)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9379-21A9-4908-8CCC-3F921929D466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rcRect l="-1803" t="-3304" r="58333" b="59799"/>
          <a:stretch/>
        </p:blipFill>
        <p:spPr>
          <a:xfrm>
            <a:off x="-150840" y="1197000"/>
            <a:ext cx="8874000" cy="4846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"/>
          <p:cNvSpPr/>
          <p:nvPr/>
        </p:nvSpPr>
        <p:spPr>
          <a:xfrm>
            <a:off x="2195640" y="5300640"/>
            <a:ext cx="28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2185920" y="5076720"/>
            <a:ext cx="296244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324000" y="2492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Verdana"/>
              </a:rPr>
              <a:t>Thank you for your attention!</a:t>
            </a:r>
            <a:endParaRPr b="1" lang="en-US" sz="3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809640"/>
          <a:ext cx="9144000" cy="57261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AIR: Financial Part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3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50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5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75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8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From 2016 […] </a:t>
                      </a:r>
                      <a:r>
                        <a:rPr b="0" lang="fr-BE" sz="1400" spc="-1" strike="noStrike" u="sng">
                          <a:solidFill>
                            <a:srgbClr val="0f5494"/>
                          </a:solidFill>
                          <a:uFillTx/>
                          <a:latin typeface="Verdana"/>
                        </a:rPr>
                        <a:t>Member States</a:t>
                      </a: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shall submit to the Commission an Annual Report on implementation of the programme …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1 - By 30 June 2016 and each subsequent year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report submitted in 2016 shall cover the calendar years 2014 and 2015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2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- AIR shall set out key information of the programme and its priorities by reference to the financial data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2 – […] AIR shall include information inter alia on financial commitments and expenditure by measure[…]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§6 – In order to be deemed admissible, the AIR reports […] shall contain all the information required [in paragraph 1 to 5 of Art 50] and in fund specific rules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306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 art 36(3)(c)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ach interim payment shall be made by the Commission subject to compliance with the following requirements :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[…]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ransmission to the Commission of the last annual progress report on the implementation of the RDP.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C5E0-82FD-4CAE-9CE2-104CB284A871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566640" y="1844640"/>
          <a:ext cx="8325000" cy="3157560"/>
        </p:xfrm>
        <a:graphic>
          <a:graphicData uri="http://schemas.openxmlformats.org/drawingml/2006/table">
            <a:tbl>
              <a:tblPr/>
              <a:tblGrid>
                <a:gridCol w="8325000"/>
              </a:tblGrid>
              <a:tr h="615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Legal Basis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(EU) No 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808</a:t>
                      </a:r>
                      <a:r>
                        <a:rPr b="0" lang="lv-LV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/201</a:t>
                      </a:r>
                      <a:r>
                        <a:rPr b="0" lang="fr-BE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4 art 15 – Annex VII 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4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inancial implementation data giving, during the previous calendar year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or each measure and focus area,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 statement of the expenditure incurred and declared in the declarations of expenditure.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t shall cover :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total incurred public expenditure as well a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financial recoveries and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2" marL="1257480" indent="-34308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corrections brought by the Member States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7800" y="1052280"/>
            <a:ext cx="85852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3ACB-A11A-4AFC-87C2-B04CFCFE2202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9240" y="1628640"/>
            <a:ext cx="858204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307800" y="1844640"/>
          <a:ext cx="8583840" cy="3389400"/>
        </p:xfrm>
        <a:graphic>
          <a:graphicData uri="http://schemas.openxmlformats.org/drawingml/2006/table">
            <a:tbl>
              <a:tblPr/>
              <a:tblGrid>
                <a:gridCol w="8583840"/>
              </a:tblGrid>
              <a:tr h="523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ew, Improved, Simplified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659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ll data are in the system and reports can be easily generated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No additional or new requirements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port takes into account the corrections to expenditure declared in quarterly declarations made in annual accounts (Diff-X table)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IR  is a report from MS to the Commission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MS are responsible of the correctness of the data.</a:t>
                      </a: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f5494"/>
                        </a:buClr>
                        <a:buFont typeface="Verdana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420920" y="3068640"/>
          <a:ext cx="6148440" cy="1512720"/>
        </p:xfrm>
        <a:graphic>
          <a:graphicData uri="http://schemas.openxmlformats.org/drawingml/2006/table">
            <a:tbl>
              <a:tblPr/>
              <a:tblGrid>
                <a:gridCol w="1046160"/>
                <a:gridCol w="1625400"/>
                <a:gridCol w="1776600"/>
                <a:gridCol w="1700280"/>
              </a:tblGrid>
              <a:tr h="8413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cus Area /                Priority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incurred and declared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djustments made by the Member States during the calendar yea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fference between the annual declaration and the cumulative quarterly declaration (Diff X table)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976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b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c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2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2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EA0D-1614-44A9-9465-F85105506D9C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1 - Information on implementation of the programme and its priorities by reference to the financial data [ For each measure]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8000" y="2924280"/>
          <a:ext cx="8578800" cy="248436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) = (b) + (c) +(d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96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8CB4-FE45-44AA-A92B-B85F41C138DF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2 - Financial implementation – Calendar year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08000" y="2924280"/>
          <a:ext cx="8578800" cy="2449440"/>
        </p:xfrm>
        <a:graphic>
          <a:graphicData uri="http://schemas.openxmlformats.org/drawingml/2006/table">
            <a:tbl>
              <a:tblPr/>
              <a:tblGrid>
                <a:gridCol w="792000"/>
                <a:gridCol w="1214640"/>
                <a:gridCol w="1047600"/>
                <a:gridCol w="1193760"/>
                <a:gridCol w="1152720"/>
                <a:gridCol w="987480"/>
                <a:gridCol w="1095120"/>
                <a:gridCol w="1095480"/>
              </a:tblGrid>
              <a:tr h="163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 / Type of Region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public expenditures incurred and paid by the paying agency (quarterly declarations of the calendar year)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sulting of the application of the co-financing rate pertaining to the measure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financial adjustments (Irregularities or negligence's recovered by MS during the calendar year 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other adjustments made by the Paying Agency during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on Contribution (EAFRD)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e') = (b') + (c') +(d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of adjustments made in the annual declaration (total of Diff X tables) available as at [date of report] pertaining to the calendar year.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'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mount reimbursed (paid) to MS as at [date of report]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g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968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 of which MS Financial Instrumen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72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0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880D-0A35-405F-B425-879A4963BCA1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85920" y="22543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3 Financial implementation - aggregated table from the beginning of the programming period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2a62a"/>
                </a:solidFill>
                <a:latin typeface="Verdana"/>
              </a:rPr>
              <a:t>AIR: Financial Part</a:t>
            </a:r>
            <a:br>
              <a:rPr sz="2000"/>
            </a:b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6360" y="2852640"/>
          <a:ext cx="7596000" cy="1656000"/>
        </p:xfrm>
        <a:graphic>
          <a:graphicData uri="http://schemas.openxmlformats.org/drawingml/2006/table">
            <a:tbl>
              <a:tblPr/>
              <a:tblGrid>
                <a:gridCol w="1114200"/>
                <a:gridCol w="1575000"/>
                <a:gridCol w="1549440"/>
                <a:gridCol w="1736640"/>
                <a:gridCol w="1620720"/>
              </a:tblGrid>
              <a:tr h="90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asure code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Financing plan in force  on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EAFRD amount requested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'') = (e') + (f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Requested / Financing plan. (%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'') = (b'') / (a''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AFRD available to declare for the remaining period as at 31 Dec of the calendar year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'') = (a") - (b")</a:t>
                      </a:r>
                      <a:endParaRPr b="1" lang="en-US" sz="9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740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3520">
                <a:tc>
                  <a:txBody>
                    <a:bodyPr lIns="60480" rIns="60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02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18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…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38"/>
                        </a:spcBef>
                        <a:spcAft>
                          <a:spcPts val="23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4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F074-6506-4018-8D8B-E425166C6F68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85920" y="22543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.4 State of play at the end of the calendar year 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AIR – SFC2014 developmen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826920" y="2421000"/>
          <a:ext cx="7490160" cy="2533680"/>
        </p:xfrm>
        <a:graphic>
          <a:graphicData uri="http://schemas.openxmlformats.org/drawingml/2006/table">
            <a:tbl>
              <a:tblPr/>
              <a:tblGrid>
                <a:gridCol w="1648080"/>
                <a:gridCol w="1871640"/>
                <a:gridCol w="1881000"/>
                <a:gridCol w="208944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 Encoding module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IR pdf report Snapshot</a:t>
                      </a:r>
                      <a:endParaRPr b="1" lang="en-US" sz="1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87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/03/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S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(partial) </a:t>
                      </a:r>
                      <a:endParaRPr b="1" lang="en-US" sz="24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1" lang="en-US" sz="4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29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 2016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ION</a:t>
                      </a:r>
                      <a:endParaRPr b="1" lang="en-US" sz="1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48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1" lang="en-US" sz="4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PAYNE Victoria (AGRI)</cp:lastModifiedBy>
  <cp:lastPrinted>2016-02-15T14:37:02Z</cp:lastPrinted>
  <dcterms:modified xsi:type="dcterms:W3CDTF">2016-02-16T15:37:28Z</dcterms:modified>
  <cp:revision>460</cp:revision>
  <dc:subject/>
  <dc:title>Slide 1</dc:title>
</cp:coreProperties>
</file>