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532-E813-46EF-B111-EA58F6D0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A28-5D20-48C6-9ABD-D1134DB4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60A-C4BD-4B04-8105-2A34658F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074-64F4-4B53-9AA1-2534AC9C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523-588D-4FE4-AFE3-F40386BC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619-3D49-4AA1-BCB5-5F2700A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32A-C67C-452D-B918-30A7CD21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9DEC-C2C8-4937-91E6-9FEA4D32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18B1-E688-41E2-A6B3-C2A9214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7D7-FF98-40E9-97A7-6D3C841B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41B-9556-4491-8A16-D562EA6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265-C663-41BA-9A4B-D3768928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FC9B-5521-4EEF-81AC-89A2042385B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1F5-DEAB-4483-9CD7-4BB9B6135E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62520" y="4419720"/>
            <a:ext cx="2286000" cy="838080"/>
          </a:xfrm>
          <a:prstGeom prst="wedgeRoundRectCallout">
            <a:avLst>
              <a:gd name="adj1" fmla="val -74166"/>
              <a:gd name="adj2" fmla="val -79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arms have different financial reporting obligations from companies, so data is not always compar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600200"/>
            <a:ext cx="2286000" cy="838080"/>
          </a:xfrm>
          <a:prstGeom prst="wedgeRoundRectCallout">
            <a:avLst>
              <a:gd name="adj1" fmla="val 1805"/>
              <a:gd name="adj2" fmla="val 12556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rief written supplementary guidance to CMEF as was provided for GVA would be helpfu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600200"/>
            <a:ext cx="2286000" cy="838080"/>
          </a:xfrm>
          <a:prstGeom prst="wedgeRoundRectCallout">
            <a:avLst>
              <a:gd name="adj1" fmla="val -16875"/>
              <a:gd name="adj2" fmla="val 10643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national statistics are showing different numbers compared to Eurostat.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1981080" cy="838080"/>
          </a:xfrm>
          <a:prstGeom prst="wedgeRoundRectCallout">
            <a:avLst>
              <a:gd name="adj1" fmla="val -10254"/>
              <a:gd name="adj2" fmla="val -15378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ta gathering should be recognized as highly important by MA, so “ongoing and priority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276720"/>
            <a:ext cx="2286000" cy="838080"/>
          </a:xfrm>
          <a:prstGeom prst="wedgeRoundRectCallout">
            <a:avLst>
              <a:gd name="adj1" fmla="val -91250"/>
              <a:gd name="adj2" fmla="val 655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to collect data for farming and diversification measures, accountancy systems do not collect enoug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5257800"/>
            <a:ext cx="2286000" cy="838080"/>
          </a:xfrm>
          <a:prstGeom prst="wedgeRoundRectCallout">
            <a:avLst>
              <a:gd name="adj1" fmla="val 42569"/>
              <a:gd name="adj2" fmla="val 5871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deal with the time gaps (2-3 years) between the availability of data of Eurostat which is used for the baseline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qualitative assessment methodologies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FC4-D031-4C69-B73A-3731ADA68A0C}" type="slidenum">
              <a:t>10</a:t>
            </a:fld>
          </a:p>
        </p:txBody>
      </p:sp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114800" y="3657600"/>
            <a:ext cx="2286000" cy="609480"/>
          </a:xfrm>
          <a:prstGeom prst="wedgeRoundRectCallout">
            <a:avLst>
              <a:gd name="adj1" fmla="val -57986"/>
              <a:gd name="adj2" fmla="val 361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what data should be coll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523880"/>
            <a:ext cx="2286000" cy="838440"/>
          </a:xfrm>
          <a:prstGeom prst="wedgeRoundRectCallout">
            <a:avLst>
              <a:gd name="adj1" fmla="val -95138"/>
              <a:gd name="adj2" fmla="val 7026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dicators provided in the CMEF are mostly quantitative, while Leader is an approach to develop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600200"/>
            <a:ext cx="1981080" cy="1219320"/>
          </a:xfrm>
          <a:prstGeom prst="wedgeRoundRectCallout">
            <a:avLst>
              <a:gd name="adj1" fmla="val 115462"/>
              <a:gd name="adj2" fmla="val 11224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st challenges are time gap between the launch of the measures and the moment when impacts are visib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562720"/>
            <a:ext cx="2286000" cy="609480"/>
          </a:xfrm>
          <a:prstGeom prst="wedgeRoundRectCallout">
            <a:avLst>
              <a:gd name="adj1" fmla="val 65625"/>
              <a:gd name="adj2" fmla="val 5234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lack of previous experience in the evaluation of Leade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5257800"/>
            <a:ext cx="2286000" cy="990720"/>
          </a:xfrm>
          <a:prstGeom prst="wedgeRoundRectCallout">
            <a:avLst>
              <a:gd name="adj1" fmla="val 75763"/>
              <a:gd name="adj2" fmla="val -100000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lementation period is rather short and the amount of money allocated is rather small. The impact will be evident over a longer period of tim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809880"/>
            <a:ext cx="2286000" cy="1143000"/>
          </a:xfrm>
          <a:prstGeom prst="wedgeRoundRectCallout">
            <a:avLst>
              <a:gd name="adj1" fmla="val 96736"/>
              <a:gd name="adj2" fmla="val 45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ment of Beneficiaries will be difficult since they are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5E2-60E1-4E04-BE22-DCB465D02AF1}" type="slidenum">
              <a:t>11</a:t>
            </a:fld>
          </a:p>
        </p:txBody>
      </p:sp>
    </p:spTree>
  </p:cSld>
  <p:transition>
    <p:pull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038480" y="3352680"/>
            <a:ext cx="2286000" cy="1143000"/>
          </a:xfrm>
          <a:prstGeom prst="wedgeRoundRectCallout">
            <a:avLst>
              <a:gd name="adj1" fmla="val -46875"/>
              <a:gd name="adj2" fmla="val -876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overlapping of EQ (common and horizontal) results in confusion, risk to receive similar answers to many different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523880"/>
            <a:ext cx="2286000" cy="914400"/>
          </a:xfrm>
          <a:prstGeom prst="wedgeRoundRectCallout">
            <a:avLst>
              <a:gd name="adj1" fmla="val -60694"/>
              <a:gd name="adj2" fmla="val 486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iculties in wording of EQ […]. with different words, the same things are asked. Evaluator will probably produce very similar answers for th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answers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5562720"/>
            <a:ext cx="2286000" cy="685800"/>
          </a:xfrm>
          <a:prstGeom prst="wedgeRoundRectCallout">
            <a:avLst>
              <a:gd name="adj1" fmla="val -55763"/>
              <a:gd name="adj2" fmla="val -17245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compare EU wide when local methods and definitions are applied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3581280"/>
            <a:ext cx="1524240" cy="838440"/>
          </a:xfrm>
          <a:prstGeom prst="wedgeRoundRectCallout">
            <a:avLst>
              <a:gd name="adj1" fmla="val -42601"/>
              <a:gd name="adj2" fmla="val 16496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 lack  of precise definition of terms and concepts used in their form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209680"/>
            <a:ext cx="1752480" cy="762120"/>
          </a:xfrm>
          <a:prstGeom prst="wedgeRoundRectCallout">
            <a:avLst>
              <a:gd name="adj1" fmla="val 27717"/>
              <a:gd name="adj2" fmla="val 1331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connection between Common indicators and CEQ: develop a matrix!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4495680"/>
            <a:ext cx="1828800" cy="609840"/>
          </a:xfrm>
          <a:prstGeom prst="wedgeRoundRectCallout">
            <a:avLst>
              <a:gd name="adj1" fmla="val 41407"/>
              <a:gd name="adj2" fmla="val -116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rizontal questions are more makro level than programme leve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638680"/>
            <a:ext cx="1828800" cy="685800"/>
          </a:xfrm>
          <a:prstGeom prst="wedgeRoundRectCallout">
            <a:avLst>
              <a:gd name="adj1" fmla="val 60851"/>
              <a:gd name="adj2" fmla="val -1002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me questions are “summaries” of other ques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C04-6164-4C33-8F4F-E4892A940578}" type="slidenum">
              <a:t>12</a:t>
            </a:fld>
          </a:p>
        </p:txBody>
      </p:sp>
    </p:spTree>
  </p:cSld>
  <p:transition>
    <p:pull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068-5F73-4B86-8C6A-0D12275B9F0B}" type="slidenum">
              <a:t>13</a:t>
            </a:fld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B29-0D1C-47C8-9E81-D4278F6DDADF}" type="slidenum">
              <a:t>14</a:t>
            </a:fld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C198-1740-4A53-8718-A6755A646DA8}" type="slidenum">
              <a:t>15</a:t>
            </a:fld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741-5578-4B0F-B381-8BF00DA3F5F3}" type="slidenum">
              <a:t>16</a:t>
            </a:fld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B0B-DD37-4178-893F-8A24B10B7A9E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3C6-9FF6-4E60-8DE1-1A0B37C82DA8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CD6-6ADA-4ECA-8B27-A5C4070A43C0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2E2-2C44-4C49-8694-0D0788709E48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49B-3397-4D26-A879-BFC34E6B96F6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B49B-E744-4376-B515-E29885E52D88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14800" y="4572000"/>
            <a:ext cx="2286000" cy="990720"/>
          </a:xfrm>
          <a:prstGeom prst="wedgeRoundRectCallout">
            <a:avLst>
              <a:gd name="adj1" fmla="val -29097"/>
              <a:gd name="adj2" fmla="val 9663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 RDP is at a very early stage of implementation (…)  with the exception of the measures continued from the past period (axis 2 mesur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523880"/>
            <a:ext cx="2286000" cy="1447920"/>
          </a:xfrm>
          <a:prstGeom prst="wedgeRoundRectCallout">
            <a:avLst>
              <a:gd name="adj1" fmla="val -86666"/>
              <a:gd name="adj2" fmla="val 613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clear focus on effects but the RDP has not yet provided a great number of effects. Rather, this evaluation should focus on how projects and processes are established and how they can be integrated in their contexts and in the programme struct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486400"/>
            <a:ext cx="2286000" cy="685800"/>
          </a:xfrm>
          <a:prstGeom prst="wedgeRoundRectCallout">
            <a:avLst>
              <a:gd name="adj1" fmla="val 17916"/>
              <a:gd name="adj2" fmla="val -30231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ubt about whether CMEF offers the right indicator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600200"/>
            <a:ext cx="2286000" cy="1295280"/>
          </a:xfrm>
          <a:prstGeom prst="wedgeRoundRectCallout">
            <a:avLst>
              <a:gd name="adj1" fmla="val -47083"/>
              <a:gd name="adj2" fmla="val 7916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to demonstrate the wider relevance and importance of impact assessment and evaluation to beneficiaries in order to encourage their participation and strengthen their inpu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DB4-2BAD-48DE-84FA-C254EFAB94D6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38480" y="3581280"/>
            <a:ext cx="2286000" cy="1143000"/>
          </a:xfrm>
          <a:prstGeom prst="wedgeRoundRectCallout">
            <a:avLst>
              <a:gd name="adj1" fmla="val -82361"/>
              <a:gd name="adj2" fmla="val 22083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 which level should impacts be calculated? sectoral? or for the whole national economy? at the level of a holding or for the whole secto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2286000" cy="838440"/>
          </a:xfrm>
          <a:prstGeom prst="wedgeRoundRectCallout">
            <a:avLst>
              <a:gd name="adj1" fmla="val 32499"/>
              <a:gd name="adj2" fmla="val 134467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aggregate impacts at programme level estimated by measurements at case study level or regional level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800600"/>
            <a:ext cx="2286000" cy="609480"/>
          </a:xfrm>
          <a:prstGeom prst="wedgeRoundRectCallout">
            <a:avLst>
              <a:gd name="adj1" fmla="val 31458"/>
              <a:gd name="adj2" fmla="val -18229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pass from case study to regional assessment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5562720"/>
            <a:ext cx="2286000" cy="685800"/>
          </a:xfrm>
          <a:prstGeom prst="wedgeRoundRectCallout">
            <a:avLst>
              <a:gd name="adj1" fmla="val -79444"/>
              <a:gd name="adj2" fmla="val -16898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RDP effects of other programme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1523880"/>
            <a:ext cx="1981080" cy="609840"/>
          </a:xfrm>
          <a:prstGeom prst="wedgeRoundRectCallout">
            <a:avLst>
              <a:gd name="adj1" fmla="val 15546"/>
              <a:gd name="adj2" fmla="val 207032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separate external impacts from impacts of RDP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057400"/>
            <a:ext cx="1904760" cy="1143000"/>
          </a:xfrm>
          <a:prstGeom prst="wedgeRoundRectCallout">
            <a:avLst>
              <a:gd name="adj1" fmla="val -70833"/>
              <a:gd name="adj2" fmla="val 649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net out deadweight, displacement and multiplier effects to obtain net additional value for economic indicator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5638680"/>
            <a:ext cx="1828800" cy="685800"/>
          </a:xfrm>
          <a:prstGeom prst="wedgeRoundRectCallout">
            <a:avLst>
              <a:gd name="adj1" fmla="val 30990"/>
              <a:gd name="adj2" fmla="val -12060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ow to measure the impact in the same year of the paymen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FAF-2C23-46A9-8B6B-1CEA01388330}" type="slidenum">
              <a:t>8</a:t>
            </a:fld>
          </a:p>
        </p:txBody>
      </p:sp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14800" y="4876920"/>
            <a:ext cx="2286000" cy="685800"/>
          </a:xfrm>
          <a:prstGeom prst="wedgeRoundRectCallout">
            <a:avLst>
              <a:gd name="adj1" fmla="val 40416"/>
              <a:gd name="adj2" fmla="val 137731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here is a need for support on how to use GIS for environmental indicato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600200"/>
            <a:ext cx="2286000" cy="990720"/>
          </a:xfrm>
          <a:prstGeom prst="wedgeRoundRectCallout">
            <a:avLst>
              <a:gd name="adj1" fmla="val 80555"/>
              <a:gd name="adj2" fmla="val -512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gression analysis is used for 3 economic impact indicators and gives advantage to measure net ef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666880"/>
            <a:ext cx="2286000" cy="838440"/>
          </a:xfrm>
          <a:prstGeom prst="wedgeRoundRectCallout">
            <a:avLst>
              <a:gd name="adj1" fmla="val -75416"/>
              <a:gd name="adj2" fmla="val 79925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hift and share” analysis is used for the measurement of the 3 economic impact indica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105520"/>
            <a:ext cx="2286000" cy="838080"/>
          </a:xfrm>
          <a:prstGeom prst="wedgeRoundRectCallout">
            <a:avLst>
              <a:gd name="adj1" fmla="val 14791"/>
              <a:gd name="adj2" fmla="val -18257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IS analysis at very low scale of all indicators contributing to biodiversity could provide very useful additional information to impact indicator 4 .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A83-C32C-4F9F-97F0-3C70740BE343}" type="slidenum">
              <a:t>9</a:t>
            </a:fld>
          </a:p>
        </p:txBody>
      </p:sp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3:52Z</dcterms:modified>
  <cp:revision>169</cp:revision>
  <dc:subject/>
  <dc:title>Needs Assessment 2009</dc:title>
</cp:coreProperties>
</file>