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F6F87-72FC-429F-B619-8523DBBA6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400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3739320"/>
            <a:ext cx="6400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9D02F-A696-496E-A002-CDAC90CA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DFCFD-2553-41D3-87CD-264B84A8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182880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182880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373932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373932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373932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4378B-BDDA-40C8-A885-19E321927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44430-0276-482A-A0F7-E6927093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A88C7-9BE4-4406-81F7-8A50CF54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4C312-B603-46D1-9C75-5B10CF1D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00A81-8535-4A18-9398-121FE58D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52725-301F-49AE-A92A-47A7E8B1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549000"/>
            <a:ext cx="7772400" cy="45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DC517-8DB0-4214-9FDE-56736C24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DAD4F-A9A9-44E1-A60E-1053502E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BBCC5-320C-4F0C-942D-E0141D02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BB8E2-FCB1-4767-9B27-8AFC0393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3739320"/>
            <a:ext cx="6400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BD2CD-2E51-4FAA-9346-2C124938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400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3739320"/>
            <a:ext cx="6400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3E244-F996-4FD4-8150-3181C652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947C2-B5F3-4E5B-9B8F-2B22682F8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182880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182880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373932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373932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373932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72094-F015-450C-A0A2-7A8EB13D7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D3CA9-4FBF-41CF-9668-0E0FDB3B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5DB41-9751-4664-8EB4-50A74A4D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6DB88-82DD-40A7-A342-C5E4C570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549000"/>
            <a:ext cx="7772400" cy="45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875E9-29C4-4A19-8661-83DDD829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222FD-2A6E-4822-ABDA-90AB6DD6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1A796-4865-4445-87BA-0BB29C75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3739320"/>
            <a:ext cx="6400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0D0B5-0569-4BF2-B4C1-4550EAC4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50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4d4d4d"/>
                </a:solidFill>
                <a:latin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4d4d4d"/>
                </a:solidFill>
                <a:latin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8580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4d4d4d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6659-5514-407A-A673-022046B8AC3C}" type="slidenum">
              <a:rPr b="0" lang="sv-SE" sz="1000" spc="-1" strike="noStrike">
                <a:solidFill>
                  <a:srgbClr val="4d4d4d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4d4d4d"/>
                </a:solidFill>
                <a:latin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2A4A-1C94-4223-8DB1-8F98C6CC4055}" type="datetime">
              <a:rPr b="0" lang="sv-SE" sz="1000" spc="-1" strike="noStrike">
                <a:solidFill>
                  <a:srgbClr val="4d4d4d"/>
                </a:solidFill>
                <a:latin typeface="Arial Unicode MS"/>
              </a:rPr>
              <a:t>26-07-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57200" y="304920"/>
            <a:ext cx="1143000" cy="9666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0" y="5183280"/>
            <a:ext cx="1295280" cy="121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4d4d4d"/>
                </a:solidFill>
                <a:latin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4d4d4d"/>
                </a:solidFill>
                <a:latin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4d4d4d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FC09-363F-447F-AA29-53EF37265E15}" type="slidenum">
              <a:rPr b="0" lang="sv-SE" sz="1000" spc="-1" strike="noStrike">
                <a:solidFill>
                  <a:srgbClr val="4d4d4d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6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4d4d4d"/>
                </a:solidFill>
                <a:latin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130B-DA1D-4A3C-9A7D-69545D4301EC}" type="datetime">
              <a:rPr b="0" lang="sv-SE" sz="1000" spc="-1" strike="noStrike">
                <a:solidFill>
                  <a:srgbClr val="4d4d4d"/>
                </a:solidFill>
                <a:latin typeface="Arial Unicode MS"/>
              </a:rPr>
              <a:t>26-07-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57200" y="304920"/>
            <a:ext cx="1143000" cy="966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0" y="5183280"/>
            <a:ext cx="1295280" cy="1217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17480" y="609480"/>
            <a:ext cx="72450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Arial Unicode MS"/>
              </a:rPr>
              <a:t>The Swedish Board of Agricultur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"/>
          <p:cNvSpPr/>
          <p:nvPr/>
        </p:nvSpPr>
        <p:spPr>
          <a:xfrm>
            <a:off x="2502000" y="1865160"/>
            <a:ext cx="550548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Arial Unicode MS"/>
              </a:rPr>
              <a:t>Per Pers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Arial Unicode MS"/>
              </a:rPr>
              <a:t>The Swedish Board of Agri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Jordbruksverket 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551 82  Jönköping 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SWEDEN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Telephone: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+46 (0)36-15 50 00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Fax: +46 (0)36-19 05 46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Email: </a:t>
            </a:r>
            <a:r>
              <a:rPr b="0" lang="sv-SE" sz="2400" spc="-1" strike="noStrike">
                <a:solidFill>
                  <a:srgbClr val="3333cc"/>
                </a:solidFill>
                <a:latin typeface="Arial Unicode MS"/>
              </a:rPr>
              <a:t>jordbruksverket@sjv.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918D340F-43E3-4931-84A6-5C993ABF57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797120" y="250920"/>
            <a:ext cx="707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Situations before – after 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System with no control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08400" y="2392200"/>
            <a:ext cx="0" cy="34149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00480" y="5797440"/>
            <a:ext cx="5165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70600" y="4319640"/>
            <a:ext cx="0" cy="147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60880" y="4313160"/>
            <a:ext cx="130176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92880" y="4189320"/>
            <a:ext cx="103320" cy="122400"/>
          </a:xfrm>
          <a:custGeom>
            <a:avLst/>
            <a:gdLst>
              <a:gd name="textAreaLeft" fmla="*/ 0 w 103320"/>
              <a:gd name="textAreaRight" fmla="*/ 37440 w 103320"/>
              <a:gd name="textAreaTop" fmla="*/ 2880 h 122400"/>
              <a:gd name="textAreaBottom" fmla="*/ 119520 h 12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4775040" y="3052800"/>
            <a:ext cx="1315800" cy="920880"/>
            <a:chOff x="4775040" y="3052800"/>
            <a:chExt cx="1315800" cy="920880"/>
          </a:xfrm>
        </p:grpSpPr>
        <p:sp>
          <p:nvSpPr>
            <p:cNvPr id="260" name=""/>
            <p:cNvSpPr/>
            <p:nvPr/>
          </p:nvSpPr>
          <p:spPr>
            <a:xfrm>
              <a:off x="4775040" y="3052800"/>
              <a:ext cx="1315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gress with sup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694120" y="3325680"/>
              <a:ext cx="218880" cy="64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5214960" y="4876920"/>
            <a:ext cx="97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dc4c04"/>
                </a:solidFill>
                <a:latin typeface="Arial"/>
              </a:rPr>
              <a:t>Last registered 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26160" y="4341960"/>
            <a:ext cx="3240" cy="542880"/>
          </a:xfrm>
          <a:prstGeom prst="line">
            <a:avLst/>
          </a:prstGeom>
          <a:ln w="12600">
            <a:solidFill>
              <a:srgbClr val="ff66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213000" y="3521160"/>
            <a:ext cx="968400" cy="836640"/>
            <a:chOff x="3213000" y="3521160"/>
            <a:chExt cx="968400" cy="836640"/>
          </a:xfrm>
        </p:grpSpPr>
        <p:sp>
          <p:nvSpPr>
            <p:cNvPr id="265" name=""/>
            <p:cNvSpPr/>
            <p:nvPr/>
          </p:nvSpPr>
          <p:spPr>
            <a:xfrm>
              <a:off x="3213000" y="3521160"/>
              <a:ext cx="968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neral prog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22760" y="3976920"/>
              <a:ext cx="1540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7000920" y="394668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0000"/>
                </a:solidFill>
                <a:latin typeface="Arial"/>
              </a:rPr>
              <a:t>Deadwe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999120" y="4159080"/>
            <a:ext cx="195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External eff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4160" y="1863720"/>
            <a:ext cx="112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onomic prog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635360" y="5964120"/>
            <a:ext cx="107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02400" y="564660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084640" y="3850920"/>
            <a:ext cx="1303560" cy="4539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5072040" y="4020840"/>
            <a:ext cx="1303200" cy="2919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00800" y="3863880"/>
            <a:ext cx="112680" cy="163440"/>
          </a:xfrm>
          <a:custGeom>
            <a:avLst/>
            <a:gdLst>
              <a:gd name="textAreaLeft" fmla="*/ 0 w 112680"/>
              <a:gd name="textAreaRight" fmla="*/ 40680 w 112680"/>
              <a:gd name="textAreaTop" fmla="*/ 3960 h 163440"/>
              <a:gd name="textAreaBottom" fmla="*/ 159480 h 16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91440" y="4027320"/>
            <a:ext cx="112680" cy="146160"/>
          </a:xfrm>
          <a:custGeom>
            <a:avLst/>
            <a:gdLst>
              <a:gd name="textAreaLeft" fmla="*/ 0 w 112680"/>
              <a:gd name="textAreaRight" fmla="*/ 40680 w 112680"/>
              <a:gd name="textAreaTop" fmla="*/ 3600 h 146160"/>
              <a:gd name="textAreaBottom" fmla="*/ 142560 h 14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997680" y="3727440"/>
            <a:ext cx="195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Effect of the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56320" y="4098960"/>
            <a:ext cx="5176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39040" y="4260960"/>
            <a:ext cx="492120" cy="5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540480" y="3873240"/>
            <a:ext cx="51588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24520" y="5784840"/>
            <a:ext cx="98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ff"/>
                </a:solidFill>
                <a:latin typeface="Arial"/>
              </a:rPr>
              <a:t>Full eff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367320" y="4305240"/>
            <a:ext cx="0" cy="146700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2422440" y="4205160"/>
            <a:ext cx="3957840" cy="33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1CB13E-F098-41F7-8A7B-FC1F3931A8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63440" y="1903320"/>
            <a:ext cx="877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72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02809CE6-8894-4151-BE66-28D74D1624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797120" y="250920"/>
            <a:ext cx="707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Simplified scheme of the organization of the evaluation work in Sw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28960" y="1971720"/>
            <a:ext cx="0" cy="332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28960" y="5286240"/>
            <a:ext cx="6686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8200" y="2451240"/>
            <a:ext cx="16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ff"/>
                </a:solidFill>
                <a:latin typeface="Arial"/>
              </a:rPr>
              <a:t>Special appointed evalu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0680" y="3917880"/>
            <a:ext cx="16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The Swedish Board of Agricul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28960" y="53434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71640" y="5343480"/>
            <a:ext cx="87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14680" y="53434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57720" y="53434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00760" y="53434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43440" y="5343480"/>
            <a:ext cx="87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86480" y="53434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29520" y="53434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0760" y="510552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57720" y="512460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14680" y="511488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5105520"/>
            <a:ext cx="0" cy="18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3440" y="5105520"/>
            <a:ext cx="0" cy="18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86480" y="512460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29520" y="5114880"/>
            <a:ext cx="0" cy="16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72560" y="5133960"/>
            <a:ext cx="0" cy="16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30400" y="2641680"/>
            <a:ext cx="363600" cy="52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Ex 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7640" y="2641680"/>
            <a:ext cx="916200" cy="534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Mid-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9440" y="2641680"/>
            <a:ext cx="744840" cy="534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Ex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16080" y="4156200"/>
            <a:ext cx="13543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Monitoring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028960" y="4152960"/>
            <a:ext cx="6076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038320" y="4695840"/>
            <a:ext cx="606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97400" y="4156200"/>
            <a:ext cx="22208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data collecti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26160" y="4156200"/>
            <a:ext cx="25160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descriptive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C8B304-56BA-41D7-A8D6-1232A5F396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797120" y="250920"/>
            <a:ext cx="70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Mid-term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733320" y="1181160"/>
            <a:ext cx="8201160" cy="4943520"/>
            <a:chOff x="733320" y="1181160"/>
            <a:chExt cx="8201160" cy="4943520"/>
          </a:xfrm>
        </p:grpSpPr>
        <p:sp>
          <p:nvSpPr>
            <p:cNvPr id="121" name=""/>
            <p:cNvSpPr/>
            <p:nvPr/>
          </p:nvSpPr>
          <p:spPr>
            <a:xfrm>
              <a:off x="2300400" y="1181160"/>
              <a:ext cx="491148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2400" spc="-1" strike="noStrike">
                  <a:solidFill>
                    <a:srgbClr val="000000"/>
                  </a:solidFill>
                  <a:latin typeface="Arial"/>
                </a:rPr>
                <a:t>Swedish Ministry of Agricul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3320" y="2971800"/>
              <a:ext cx="2421000" cy="2568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Arial"/>
                </a:rPr>
                <a:t>Swedish Board of Agriculture (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Coordination Divisio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Assistant Team/Data se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Enterprise sup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Project sup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Leader sup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Training/information measu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81280" y="2971800"/>
              <a:ext cx="3416400" cy="2466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Arial"/>
                </a:rPr>
                <a:t>Swedish University of Agricultural Sciences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(Department of Economic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Coordin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Group for axis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Group for axis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Group for axis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Group for axis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11400" y="4044960"/>
              <a:ext cx="925560" cy="216000"/>
            </a:xfrm>
            <a:prstGeom prst="leftArrow">
              <a:avLst>
                <a:gd name="adj1" fmla="val 50000"/>
                <a:gd name="adj2" fmla="val 107125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11400" y="4834080"/>
              <a:ext cx="997200" cy="214200"/>
            </a:xfrm>
            <a:prstGeom prst="rightArrow">
              <a:avLst>
                <a:gd name="adj1" fmla="val 50000"/>
                <a:gd name="adj2" fmla="val 116387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22760" y="2184480"/>
              <a:ext cx="2136600" cy="36828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Arial"/>
                </a:rPr>
                <a:t>Mid-term Evalu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3320" y="2184480"/>
              <a:ext cx="2278080" cy="6426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istrator of RD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67080" y="2039760"/>
              <a:ext cx="0" cy="408492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40600" y="2039760"/>
              <a:ext cx="0" cy="40658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67760" y="4159080"/>
              <a:ext cx="1566720" cy="520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Statistics Sweden (SC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49640" y="5780160"/>
              <a:ext cx="2389320" cy="307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Case studies, surveys et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15040" y="4332240"/>
              <a:ext cx="1138320" cy="214200"/>
            </a:xfrm>
            <a:prstGeom prst="leftArrow">
              <a:avLst>
                <a:gd name="adj1" fmla="val 50000"/>
                <a:gd name="adj2" fmla="val 132857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76640" y="5135400"/>
              <a:ext cx="212760" cy="644760"/>
            </a:xfrm>
            <a:prstGeom prst="upArrow">
              <a:avLst>
                <a:gd name="adj1" fmla="val 50000"/>
                <a:gd name="adj2" fmla="val 75761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59360" y="1687680"/>
              <a:ext cx="568440" cy="1350720"/>
            </a:xfrm>
            <a:prstGeom prst="upArrow">
              <a:avLst>
                <a:gd name="adj1" fmla="val 50000"/>
                <a:gd name="adj2" fmla="val 5940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6200000">
              <a:off x="5493960" y="2111400"/>
              <a:ext cx="131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MTE-re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4960" y="3692520"/>
              <a:ext cx="2206440" cy="1806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79880" y="3549600"/>
              <a:ext cx="1779480" cy="158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0EF5AF-F8CC-4030-BBA7-4E38FD48F8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3065400" y="128520"/>
          <a:ext cx="4322880" cy="622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5400" y="128520"/>
                    <a:ext cx="4322880" cy="622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D88D27-1C43-4457-91D5-071D70D07E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107120" y="226044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County Bo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22960" y="3265560"/>
            <a:ext cx="174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The Swedish Board of Agricul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749600" y="615960"/>
            <a:ext cx="5303160" cy="5484600"/>
            <a:chOff x="1749600" y="615960"/>
            <a:chExt cx="5303160" cy="5484600"/>
          </a:xfrm>
        </p:grpSpPr>
        <p:sp>
          <p:nvSpPr>
            <p:cNvPr id="143" name=""/>
            <p:cNvSpPr/>
            <p:nvPr/>
          </p:nvSpPr>
          <p:spPr>
            <a:xfrm>
              <a:off x="3554280" y="615960"/>
              <a:ext cx="3429000" cy="97272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LFA, Agri-environ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211, 212, 2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49600" y="615960"/>
              <a:ext cx="1800360" cy="97128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Investm. sup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Project sup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766760" y="1585800"/>
              <a:ext cx="903960" cy="521640"/>
            </a:xfrm>
            <a:prstGeom prst="downArrow">
              <a:avLst>
                <a:gd name="adj1" fmla="val 57056"/>
                <a:gd name="adj2" fmla="val 57222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37320" y="1585800"/>
              <a:ext cx="903960" cy="521640"/>
            </a:xfrm>
            <a:prstGeom prst="downArrow">
              <a:avLst>
                <a:gd name="adj1" fmla="val 57056"/>
                <a:gd name="adj2" fmla="val 57222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93520" y="2143440"/>
              <a:ext cx="3372480" cy="66996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Scan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92800" y="2143440"/>
              <a:ext cx="1717920" cy="66996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nual hand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17200" y="2814480"/>
              <a:ext cx="516960" cy="522000"/>
            </a:xfrm>
            <a:prstGeom prst="downArrow">
              <a:avLst>
                <a:gd name="adj1" fmla="val 57056"/>
                <a:gd name="adj2" fmla="val 57780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8160" y="3372120"/>
              <a:ext cx="1206360" cy="66960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LB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(databas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06000" y="2815920"/>
              <a:ext cx="903960" cy="522000"/>
            </a:xfrm>
            <a:prstGeom prst="downArrow">
              <a:avLst>
                <a:gd name="adj1" fmla="val 57056"/>
                <a:gd name="adj2" fmla="val 57222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632400" y="3373560"/>
              <a:ext cx="3372480" cy="66996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ARARAT (databas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53880" y="4046400"/>
              <a:ext cx="903600" cy="522000"/>
            </a:xfrm>
            <a:prstGeom prst="downArrow">
              <a:avLst>
                <a:gd name="adj1" fmla="val 57056"/>
                <a:gd name="adj2" fmla="val 57222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680280" y="4604040"/>
              <a:ext cx="3372480" cy="66960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For evaluation (Daw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50680" y="2815920"/>
              <a:ext cx="516960" cy="1759680"/>
            </a:xfrm>
            <a:prstGeom prst="downArrow">
              <a:avLst>
                <a:gd name="adj1" fmla="val 54065"/>
                <a:gd name="adj2" fmla="val 58922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33040" y="4044960"/>
              <a:ext cx="516960" cy="522000"/>
            </a:xfrm>
            <a:prstGeom prst="downArrow">
              <a:avLst>
                <a:gd name="adj1" fmla="val 57056"/>
                <a:gd name="adj2" fmla="val 57780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15840" y="4602240"/>
              <a:ext cx="1694880" cy="66996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EVA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(databas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49000" y="5281200"/>
              <a:ext cx="517320" cy="522000"/>
            </a:xfrm>
            <a:prstGeom prst="downArrow">
              <a:avLst>
                <a:gd name="adj1" fmla="val 57056"/>
                <a:gd name="adj2" fmla="val 57740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28800" y="5763240"/>
              <a:ext cx="163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Daw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7108920" y="665280"/>
            <a:ext cx="16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Farmer / entrepren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74F56B-1BDA-4B1C-B232-6693619B67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797120" y="250920"/>
            <a:ext cx="707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Number of beneficiaries per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24160" y="77616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xis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218760" y="900000"/>
            <a:ext cx="189000" cy="146160"/>
          </a:xfrm>
          <a:custGeom>
            <a:avLst/>
            <a:gdLst>
              <a:gd name="textAreaLeft" fmla="*/ 0 w 189000"/>
              <a:gd name="textAreaRight" fmla="*/ 68040 w 189000"/>
              <a:gd name="textAreaTop" fmla="*/ 3600 h 146160"/>
              <a:gd name="textAreaBottom" fmla="*/ 142560 h 14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191760" y="1060560"/>
            <a:ext cx="206280" cy="4583160"/>
          </a:xfrm>
          <a:custGeom>
            <a:avLst/>
            <a:gdLst>
              <a:gd name="textAreaLeft" fmla="*/ 0 w 206280"/>
              <a:gd name="textAreaRight" fmla="*/ 74520 w 206280"/>
              <a:gd name="textAreaTop" fmla="*/ 119520 h 4583160"/>
              <a:gd name="textAreaBottom" fmla="*/ 4463640 h 458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6"/>
                </a:lnTo>
                <a:cubicBezTo>
                  <a:pt x="10800" y="9906"/>
                  <a:pt x="16200" y="10806"/>
                  <a:pt x="21600" y="10806"/>
                </a:cubicBezTo>
                <a:cubicBezTo>
                  <a:pt x="16200" y="10806"/>
                  <a:pt x="10800" y="11706"/>
                  <a:pt x="10800" y="1260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207600" y="5645160"/>
            <a:ext cx="198360" cy="127080"/>
          </a:xfrm>
          <a:custGeom>
            <a:avLst/>
            <a:gdLst>
              <a:gd name="textAreaLeft" fmla="*/ 0 w 198360"/>
              <a:gd name="textAreaRight" fmla="*/ 71640 w 198360"/>
              <a:gd name="textAreaTop" fmla="*/ 3240 h 127080"/>
              <a:gd name="textAreaBottom" fmla="*/ 12384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97160" y="315612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xis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24160" y="537372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xis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7400" y="5632560"/>
            <a:ext cx="13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56400" y="7300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upport enterprises, 1 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65760" y="960480"/>
            <a:ext cx="27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upport projects, 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49920" y="3209760"/>
            <a:ext cx="28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xis 2, &gt;50 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11760" y="5141880"/>
            <a:ext cx="29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upport enterprises, 8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49920" y="5378400"/>
            <a:ext cx="28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s, 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59280" y="5653080"/>
            <a:ext cx="28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, 1 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440160" y="878040"/>
          <a:ext cx="1841400" cy="4998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0160" y="878040"/>
                    <a:ext cx="18414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3216240" y="5875200"/>
            <a:ext cx="2219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3065400" y="5611320"/>
            <a:ext cx="155520" cy="101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68880" y="1031760"/>
            <a:ext cx="549360" cy="9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5165640" y="914040"/>
            <a:ext cx="549360" cy="4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10280" y="3398760"/>
            <a:ext cx="542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72120" y="5821200"/>
            <a:ext cx="577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175360" y="5595840"/>
            <a:ext cx="54612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178600" y="5376960"/>
            <a:ext cx="545760" cy="30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1200" y="582444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B64C1E-ABBD-4466-95A1-CA379A9B78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797120" y="250920"/>
            <a:ext cx="707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Sub-populations support to enterprises – projects within axis 1 (except 111), 3 and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6160" y="1940040"/>
            <a:ext cx="4016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Support to enterpri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(measure 112, 121, 123, 311, 312 and 31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72120" y="1941480"/>
            <a:ext cx="4319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Support to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(measure 124, 125, 321, 322, 323 and axis 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149480" y="2760840"/>
            <a:ext cx="1137960" cy="966600"/>
            <a:chOff x="1149480" y="2760840"/>
            <a:chExt cx="1137960" cy="966600"/>
          </a:xfrm>
        </p:grpSpPr>
        <p:sp>
          <p:nvSpPr>
            <p:cNvPr id="190" name=""/>
            <p:cNvSpPr/>
            <p:nvPr/>
          </p:nvSpPr>
          <p:spPr>
            <a:xfrm>
              <a:off x="1673280" y="276084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16120" y="2803680"/>
              <a:ext cx="0" cy="922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1149480" y="2811600"/>
              <a:ext cx="558720" cy="9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35200" y="2828880"/>
              <a:ext cx="552240" cy="897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81120" y="3681360"/>
            <a:ext cx="214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Different categ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90560" y="262908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 (900 of 12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335480" y="2646360"/>
            <a:ext cx="4662360" cy="3625920"/>
            <a:chOff x="4335480" y="2646360"/>
            <a:chExt cx="4662360" cy="3625920"/>
          </a:xfrm>
        </p:grpSpPr>
        <p:sp>
          <p:nvSpPr>
            <p:cNvPr id="197" name=""/>
            <p:cNvSpPr/>
            <p:nvPr/>
          </p:nvSpPr>
          <p:spPr>
            <a:xfrm>
              <a:off x="5929200" y="458964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21280" y="27525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79960" y="2813040"/>
              <a:ext cx="733680" cy="888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70800" y="3665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217840" y="2828880"/>
              <a:ext cx="716040" cy="87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738840" y="3735360"/>
              <a:ext cx="733680" cy="889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31120" y="45799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5986080" y="3735360"/>
              <a:ext cx="716040" cy="87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480440" y="4632480"/>
              <a:ext cx="75060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5225760" y="4667400"/>
              <a:ext cx="716040" cy="87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7278840" y="4649760"/>
              <a:ext cx="164880" cy="90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024600" y="2646360"/>
              <a:ext cx="181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1000 (axis 4: 70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24800" y="3517920"/>
              <a:ext cx="148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ng term 1/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335480" y="3611520"/>
              <a:ext cx="148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Short term 2/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04280" y="4309920"/>
              <a:ext cx="1393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Condition genera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653000" y="5483160"/>
              <a:ext cx="110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Economic grow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79960" y="4651200"/>
              <a:ext cx="15588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84840" y="5484960"/>
              <a:ext cx="919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Social welf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853320" y="5483160"/>
              <a:ext cx="110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Economic grow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85160" y="5484960"/>
              <a:ext cx="919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Social welf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62360" y="4449600"/>
              <a:ext cx="129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Direct eff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4765680" y="6051600"/>
              <a:ext cx="317520" cy="21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89680" y="6049800"/>
              <a:ext cx="322200" cy="22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5887800" y="6046920"/>
              <a:ext cx="645840" cy="225360"/>
              <a:chOff x="5887800" y="6046920"/>
              <a:chExt cx="645840" cy="225360"/>
            </a:xfrm>
          </p:grpSpPr>
          <p:sp>
            <p:nvSpPr>
              <p:cNvPr id="221" name=""/>
              <p:cNvSpPr/>
              <p:nvPr/>
            </p:nvSpPr>
            <p:spPr>
              <a:xfrm>
                <a:off x="6210000" y="6046920"/>
                <a:ext cx="0" cy="22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5887800" y="6053400"/>
                <a:ext cx="31716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211800" y="6051960"/>
                <a:ext cx="321840" cy="22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 flipH="1">
              <a:off x="6966000" y="6043680"/>
              <a:ext cx="317520" cy="21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89640" y="6041880"/>
              <a:ext cx="322560" cy="22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8111880" y="6045120"/>
              <a:ext cx="645840" cy="225360"/>
              <a:chOff x="8111880" y="6045120"/>
              <a:chExt cx="645840" cy="225360"/>
            </a:xfrm>
          </p:grpSpPr>
          <p:sp>
            <p:nvSpPr>
              <p:cNvPr id="227" name=""/>
              <p:cNvSpPr/>
              <p:nvPr/>
            </p:nvSpPr>
            <p:spPr>
              <a:xfrm>
                <a:off x="8434080" y="6045120"/>
                <a:ext cx="0" cy="22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8111880" y="6051600"/>
                <a:ext cx="31716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435880" y="6050160"/>
                <a:ext cx="321840" cy="22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AC6131-4229-4797-949B-CFB4648B77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797120" y="250920"/>
            <a:ext cx="70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Classification of 121-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76120" y="1890720"/>
          <a:ext cx="8560080" cy="405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120" y="1890720"/>
                    <a:ext cx="856008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847800" y="18954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5840" y="1905120"/>
            <a:ext cx="1514520" cy="828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95200" y="2162160"/>
            <a:ext cx="119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of fa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6120" y="1895400"/>
            <a:ext cx="8553600" cy="4048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0ABF13-2C43-4715-961B-5C04D1660C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797120" y="250920"/>
            <a:ext cx="707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Evaluation investment – project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Main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047600" y="2352600"/>
            <a:ext cx="7467120" cy="2361960"/>
            <a:chOff x="1047600" y="2352600"/>
            <a:chExt cx="7467120" cy="2361960"/>
          </a:xfrm>
        </p:grpSpPr>
        <p:sp>
          <p:nvSpPr>
            <p:cNvPr id="239" name=""/>
            <p:cNvSpPr/>
            <p:nvPr/>
          </p:nvSpPr>
          <p:spPr>
            <a:xfrm>
              <a:off x="1114200" y="2670480"/>
              <a:ext cx="278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llection of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114200" y="3889800"/>
              <a:ext cx="273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Arial"/>
                </a:rPr>
                <a:t>Use of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3762360" y="2352600"/>
              <a:ext cx="4752360" cy="1180800"/>
              <a:chOff x="3762360" y="2352600"/>
              <a:chExt cx="4752360" cy="1180800"/>
            </a:xfrm>
          </p:grpSpPr>
          <p:sp>
            <p:nvSpPr>
              <p:cNvPr id="242" name=""/>
              <p:cNvSpPr/>
              <p:nvPr/>
            </p:nvSpPr>
            <p:spPr>
              <a:xfrm>
                <a:off x="3790440" y="2403000"/>
                <a:ext cx="277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000000"/>
                    </a:solidFill>
                    <a:latin typeface="Arial"/>
                  </a:rPr>
                  <a:t>Beneficiari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90440" y="3007800"/>
                <a:ext cx="472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000000"/>
                    </a:solidFill>
                    <a:latin typeface="Arial"/>
                  </a:rPr>
                  <a:t>Non beneficiaries (control group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62360" y="2352600"/>
                <a:ext cx="4638240" cy="11808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62360" y="2942640"/>
                <a:ext cx="4638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1056960" y="2352600"/>
              <a:ext cx="2705400" cy="2361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3762360" y="3533400"/>
              <a:ext cx="4752360" cy="1181160"/>
              <a:chOff x="3762360" y="3533400"/>
              <a:chExt cx="4752360" cy="1181160"/>
            </a:xfrm>
          </p:grpSpPr>
          <p:sp>
            <p:nvSpPr>
              <p:cNvPr id="248" name=""/>
              <p:cNvSpPr/>
              <p:nvPr/>
            </p:nvSpPr>
            <p:spPr>
              <a:xfrm>
                <a:off x="3790440" y="3584520"/>
                <a:ext cx="277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000000"/>
                    </a:solidFill>
                    <a:latin typeface="Arial"/>
                  </a:rPr>
                  <a:t>Beneficiari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790440" y="4189320"/>
                <a:ext cx="472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000000"/>
                    </a:solidFill>
                    <a:latin typeface="Arial"/>
                  </a:rPr>
                  <a:t>Non beneficiaries (control group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762360" y="3533400"/>
                <a:ext cx="4638240" cy="11811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762360" y="4123800"/>
                <a:ext cx="4638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1047600" y="3533400"/>
              <a:ext cx="3790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CD6EB6-C55B-4226-9D3C-15B7033A6C7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09:12:48Z</dcterms:created>
  <dc:creator> </dc:creator>
  <dc:description/>
  <dc:language>en-US</dc:language>
  <cp:lastModifiedBy>zaoujjo</cp:lastModifiedBy>
  <dcterms:modified xsi:type="dcterms:W3CDTF">2009-12-08T08:31:32Z</dcterms:modified>
  <cp:revision>52</cp:revision>
  <dc:subject/>
  <dc:title>PowerPoint-presentation</dc:title>
</cp:coreProperties>
</file>