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D561-1975-4077-AE25-521C866B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5688-97C1-4D2A-8CC5-6C051DE3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613A5-5723-42FF-8238-C3A252B7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7B22-FFAE-42CF-83C9-848FCD26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5FAA6-4F89-4F4B-9ED5-66F3B86F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FCAEE-D9FB-4721-8615-ECBC459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57FBB-55DF-4E68-8E28-AA222026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1396D-2826-4807-89A1-3B09EC6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D8FC1-F5B1-41E8-B6F0-542605AC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48CBD-FFC4-4616-AD79-E3B67F23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826C-AFAE-46B7-84BA-6487052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84AB-A62E-476E-9055-7F9A6256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E5CF9-FCE4-4037-888B-B2C40C1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B7FFC-523C-4DB5-97E9-AE2B7E63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6D8B6-5036-4127-A18D-F62A29BC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AC50D-D009-4C2E-AF56-98C6E639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182880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3739320"/>
            <a:ext cx="206064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41730-3F7D-461E-A578-37F79B93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CB91-0EE6-4106-97C7-EBC2E7C8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0D65-16FA-4A27-8CC2-86304739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0E70-3E9E-4029-88E0-30BD35E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49000"/>
            <a:ext cx="7772400" cy="45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5457-49B9-4771-8E0F-0FE02464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B309-3BC0-4E42-9085-8BCE3A96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373932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52A8-70EC-43BE-A9FF-CEB98D1B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1828800"/>
            <a:ext cx="312336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3739320"/>
            <a:ext cx="64008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DB6DA-F682-4DD6-A942-F163200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0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8580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4001-52D6-4EEF-AB3B-ECEC9F51C13C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FAF9-D9F3-4F38-A575-F22E817D9E3C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4d4d4d"/>
                </a:solidFill>
                <a:latin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BF5A-D8B0-4C6F-867C-7405EEC7063F}" type="slidenum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4d4d4d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B6FC-7B7E-4E4F-8BF5-E894D5912F02}" type="datetime">
              <a:rPr b="0" lang="sv-SE" sz="1000" spc="-1" strike="noStrike">
                <a:solidFill>
                  <a:srgbClr val="4d4d4d"/>
                </a:solidFill>
                <a:latin typeface="Arial Unicode MS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0" y="5183280"/>
            <a:ext cx="1295280" cy="121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7480" y="609480"/>
            <a:ext cx="7245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"/>
          <p:cNvSpPr/>
          <p:nvPr/>
        </p:nvSpPr>
        <p:spPr>
          <a:xfrm>
            <a:off x="2502000" y="1865160"/>
            <a:ext cx="550548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Per Per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 Unicode MS"/>
              </a:rPr>
              <a:t>The Swedish Board of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Jordbruksverket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551 82  Jönköping 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SWEDEN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Telephone: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+46 (0)36-15 50 00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Fax: +46 (0)36-19 05 46</a:t>
            </a:r>
            <a:br>
              <a:rPr sz="2400"/>
            </a:br>
            <a:r>
              <a:rPr b="0" lang="sv-SE" sz="2400" spc="-1" strike="noStrike">
                <a:solidFill>
                  <a:srgbClr val="000000"/>
                </a:solidFill>
                <a:latin typeface="Arial Unicode MS"/>
              </a:rPr>
              <a:t>Email: </a:t>
            </a:r>
            <a:r>
              <a:rPr b="0" lang="sv-SE" sz="2400" spc="-1" strike="noStrike">
                <a:solidFill>
                  <a:srgbClr val="3333cc"/>
                </a:solidFill>
                <a:latin typeface="Arial Unicode MS"/>
              </a:rPr>
              <a:t>jordbruksverket@sjv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9C74B04-869A-4651-9BCB-87276AB903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tuations before – after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ystem with no contr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08400" y="2392200"/>
            <a:ext cx="0" cy="3414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00480" y="5797440"/>
            <a:ext cx="516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0600" y="4319640"/>
            <a:ext cx="0" cy="1479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0880" y="4313160"/>
            <a:ext cx="130176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92880" y="4189320"/>
            <a:ext cx="103320" cy="122400"/>
          </a:xfrm>
          <a:custGeom>
            <a:avLst/>
            <a:gdLst>
              <a:gd name="textAreaLeft" fmla="*/ 0 w 103320"/>
              <a:gd name="textAreaRight" fmla="*/ 37440 w 103320"/>
              <a:gd name="textAreaTop" fmla="*/ 2880 h 122400"/>
              <a:gd name="textAreaBottom" fmla="*/ 11952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75040" y="3052800"/>
            <a:ext cx="1315800" cy="920880"/>
            <a:chOff x="4775040" y="3052800"/>
            <a:chExt cx="1315800" cy="920880"/>
          </a:xfrm>
        </p:grpSpPr>
        <p:sp>
          <p:nvSpPr>
            <p:cNvPr id="260" name=""/>
            <p:cNvSpPr/>
            <p:nvPr/>
          </p:nvSpPr>
          <p:spPr>
            <a:xfrm>
              <a:off x="4775040" y="3052800"/>
              <a:ext cx="1315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ess with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4120" y="3325680"/>
              <a:ext cx="21888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5214960" y="4876920"/>
            <a:ext cx="9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dc4c04"/>
                </a:solidFill>
                <a:latin typeface="Arial"/>
              </a:rPr>
              <a:t>Last registered 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6160" y="4341960"/>
            <a:ext cx="3240" cy="54288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213000" y="3521160"/>
            <a:ext cx="968400" cy="836640"/>
            <a:chOff x="3213000" y="3521160"/>
            <a:chExt cx="968400" cy="836640"/>
          </a:xfrm>
        </p:grpSpPr>
        <p:sp>
          <p:nvSpPr>
            <p:cNvPr id="265" name=""/>
            <p:cNvSpPr/>
            <p:nvPr/>
          </p:nvSpPr>
          <p:spPr>
            <a:xfrm>
              <a:off x="3213000" y="3521160"/>
              <a:ext cx="96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neral pro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22760" y="3976920"/>
              <a:ext cx="1540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000920" y="394668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0000"/>
                </a:solidFill>
                <a:latin typeface="Arial"/>
              </a:rPr>
              <a:t>Dead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999120" y="415908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xternal ef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4160" y="18637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onomic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35360" y="5964120"/>
            <a:ext cx="10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02400" y="5646600"/>
            <a:ext cx="59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4640" y="3850920"/>
            <a:ext cx="1303560" cy="453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072040" y="4020840"/>
            <a:ext cx="1303200" cy="2919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863880"/>
            <a:ext cx="112680" cy="163440"/>
          </a:xfrm>
          <a:custGeom>
            <a:avLst/>
            <a:gdLst>
              <a:gd name="textAreaLeft" fmla="*/ 0 w 112680"/>
              <a:gd name="textAreaRight" fmla="*/ 40680 w 112680"/>
              <a:gd name="textAreaTop" fmla="*/ 3960 h 163440"/>
              <a:gd name="textAreaBottom" fmla="*/ 15948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91440" y="4027320"/>
            <a:ext cx="112680" cy="146160"/>
          </a:xfrm>
          <a:custGeom>
            <a:avLst/>
            <a:gdLst>
              <a:gd name="textAreaLeft" fmla="*/ 0 w 112680"/>
              <a:gd name="textAreaRight" fmla="*/ 40680 w 11268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97680" y="372744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Effect of the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6320" y="4098960"/>
            <a:ext cx="517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39040" y="4260960"/>
            <a:ext cx="49212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40480" y="3873240"/>
            <a:ext cx="515880" cy="6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24520" y="5784840"/>
            <a:ext cx="98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ff"/>
                </a:solidFill>
                <a:latin typeface="Arial"/>
              </a:rPr>
              <a:t>Full eff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7320" y="4305240"/>
            <a:ext cx="0" cy="1467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422440" y="4205160"/>
            <a:ext cx="3957840" cy="3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029013-BA37-4E39-B369-9B05B1A467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3440" y="1903320"/>
            <a:ext cx="877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3577250-F7AD-4B78-90E5-C5D2F7101F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implified scheme of the organization of the evaluation work in Sw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8960" y="1971720"/>
            <a:ext cx="0" cy="332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28960" y="5286240"/>
            <a:ext cx="6686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00" y="2451240"/>
            <a:ext cx="16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ff"/>
                </a:solidFill>
                <a:latin typeface="Arial"/>
              </a:rPr>
              <a:t>Special appointed evalu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680" y="3917880"/>
            <a:ext cx="16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289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46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577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0076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3440" y="5343480"/>
            <a:ext cx="87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8648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29520" y="53434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0760" y="510552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772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4680" y="511488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3440" y="5105520"/>
            <a:ext cx="0" cy="18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86480" y="5124600"/>
            <a:ext cx="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9520" y="511488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2560" y="51339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30400" y="2641680"/>
            <a:ext cx="3636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7640" y="2641680"/>
            <a:ext cx="91620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Mid-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9440" y="2641680"/>
            <a:ext cx="744840" cy="53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x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6080" y="4156200"/>
            <a:ext cx="135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Monitorin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28960" y="4152960"/>
            <a:ext cx="6076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038320" y="4695840"/>
            <a:ext cx="60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97400" y="4156200"/>
            <a:ext cx="22208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ata collect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26160" y="4156200"/>
            <a:ext cx="25160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Arial"/>
              </a:rPr>
              <a:t>descriptiv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E0C869-C6E7-4CEA-BA04-23834027C5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id-term orga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33320" y="1181160"/>
            <a:ext cx="8201160" cy="4943520"/>
            <a:chOff x="733320" y="1181160"/>
            <a:chExt cx="8201160" cy="4943520"/>
          </a:xfrm>
        </p:grpSpPr>
        <p:sp>
          <p:nvSpPr>
            <p:cNvPr id="121" name=""/>
            <p:cNvSpPr/>
            <p:nvPr/>
          </p:nvSpPr>
          <p:spPr>
            <a:xfrm>
              <a:off x="2300400" y="1181160"/>
              <a:ext cx="49114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2400" spc="-1" strike="noStrike">
                  <a:solidFill>
                    <a:srgbClr val="000000"/>
                  </a:solidFill>
                  <a:latin typeface="Arial"/>
                </a:rPr>
                <a:t>Swedish Ministry of Agricul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3320" y="2971800"/>
              <a:ext cx="2421000" cy="256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Board of Agriculture (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ion Divis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Assistant Team/Data se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Enterprise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Leader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Training/information measu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971800"/>
              <a:ext cx="3416400" cy="246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Arial"/>
                </a:rPr>
                <a:t>Swedish University of Agricultural Sciences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(Department of Economic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Group for axis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1400" y="4044960"/>
              <a:ext cx="925560" cy="216000"/>
            </a:xfrm>
            <a:prstGeom prst="leftArrow">
              <a:avLst>
                <a:gd name="adj1" fmla="val 50000"/>
                <a:gd name="adj2" fmla="val 107125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11400" y="4834080"/>
              <a:ext cx="997200" cy="214200"/>
            </a:xfrm>
            <a:prstGeom prst="rightArrow">
              <a:avLst>
                <a:gd name="adj1" fmla="val 50000"/>
                <a:gd name="adj2" fmla="val 11638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22760" y="2184480"/>
              <a:ext cx="2136600" cy="3682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Arial"/>
                </a:rPr>
                <a:t>Mid-term Evalu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3320" y="2184480"/>
              <a:ext cx="227808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or of R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7080" y="2039760"/>
              <a:ext cx="0" cy="408492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0600" y="2039760"/>
              <a:ext cx="0" cy="40658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67760" y="4159080"/>
              <a:ext cx="1566720" cy="520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Statistics Sweden (SC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9640" y="5780160"/>
              <a:ext cx="2389320" cy="307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Case studies, surveys et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15040" y="4332240"/>
              <a:ext cx="1138320" cy="214200"/>
            </a:xfrm>
            <a:prstGeom prst="leftArrow">
              <a:avLst>
                <a:gd name="adj1" fmla="val 50000"/>
                <a:gd name="adj2" fmla="val 13285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76640" y="5135400"/>
              <a:ext cx="212760" cy="644760"/>
            </a:xfrm>
            <a:prstGeom prst="upArrow">
              <a:avLst>
                <a:gd name="adj1" fmla="val 50000"/>
                <a:gd name="adj2" fmla="val 7576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59360" y="1687680"/>
              <a:ext cx="568440" cy="1350720"/>
            </a:xfrm>
            <a:prstGeom prst="upArrow">
              <a:avLst>
                <a:gd name="adj1" fmla="val 50000"/>
                <a:gd name="adj2" fmla="val 594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5493960" y="2111400"/>
              <a:ext cx="131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400" spc="-1" strike="noStrike">
                  <a:solidFill>
                    <a:srgbClr val="000000"/>
                  </a:solidFill>
                  <a:latin typeface="Arial"/>
                </a:rPr>
                <a:t>MTE-re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3692520"/>
              <a:ext cx="2206440" cy="1806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79880" y="3549600"/>
              <a:ext cx="1779480" cy="1585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FCE23F-2A83-4F0E-BC95-35BC4E89E8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065400" y="128520"/>
          <a:ext cx="4322880" cy="622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5400" y="128520"/>
                    <a:ext cx="4322880" cy="622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9F8A69-05B0-4599-99BF-E72D678410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107120" y="226044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County Bo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22960" y="326556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The Swedish Board of Agri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749600" y="615960"/>
            <a:ext cx="5303160" cy="5484600"/>
            <a:chOff x="1749600" y="615960"/>
            <a:chExt cx="5303160" cy="5484600"/>
          </a:xfrm>
        </p:grpSpPr>
        <p:sp>
          <p:nvSpPr>
            <p:cNvPr id="143" name=""/>
            <p:cNvSpPr/>
            <p:nvPr/>
          </p:nvSpPr>
          <p:spPr>
            <a:xfrm>
              <a:off x="3554280" y="615960"/>
              <a:ext cx="3429000" cy="97272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FA, Agri-environ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211, 212, 2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49600" y="615960"/>
              <a:ext cx="1800360" cy="97128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Investm.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Project sup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6676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37320" y="1585800"/>
              <a:ext cx="903960" cy="52164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93520" y="214344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c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0" y="2143440"/>
              <a:ext cx="171792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nual hand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7200" y="281448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8160" y="3372120"/>
              <a:ext cx="120636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LB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6000" y="2815920"/>
              <a:ext cx="90396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32400" y="3373560"/>
              <a:ext cx="33724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ARARAT 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53880" y="4046400"/>
              <a:ext cx="903600" cy="522000"/>
            </a:xfrm>
            <a:prstGeom prst="downArrow">
              <a:avLst>
                <a:gd name="adj1" fmla="val 57056"/>
                <a:gd name="adj2" fmla="val 572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0280" y="4604040"/>
              <a:ext cx="3372480" cy="66960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For evaluation (Daw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0680" y="2815920"/>
              <a:ext cx="516960" cy="1759680"/>
            </a:xfrm>
            <a:prstGeom prst="downArrow">
              <a:avLst>
                <a:gd name="adj1" fmla="val 54065"/>
                <a:gd name="adj2" fmla="val 58922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33040" y="4044960"/>
              <a:ext cx="516960" cy="522000"/>
            </a:xfrm>
            <a:prstGeom prst="downArrow">
              <a:avLst>
                <a:gd name="adj1" fmla="val 57056"/>
                <a:gd name="adj2" fmla="val 5778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15840" y="4602240"/>
              <a:ext cx="1694880" cy="669960"/>
            </a:xfrm>
            <a:prstGeom prst="rect">
              <a:avLst/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VA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9000" y="5281200"/>
              <a:ext cx="517320" cy="522000"/>
            </a:xfrm>
            <a:prstGeom prst="downArrow">
              <a:avLst>
                <a:gd name="adj1" fmla="val 57056"/>
                <a:gd name="adj2" fmla="val 57740"/>
              </a:avLst>
            </a:prstGeom>
            <a:noFill/>
            <a:ln w="38160">
              <a:solidFill>
                <a:srgbClr val="96c6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5763240"/>
              <a:ext cx="163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aw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7108920" y="66528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armer / entrepren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07BAA7-0FC3-49DC-8576-6DC6B971ED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Number of beneficiar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4160" y="77616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18760" y="900000"/>
            <a:ext cx="189000" cy="146160"/>
          </a:xfrm>
          <a:custGeom>
            <a:avLst/>
            <a:gdLst>
              <a:gd name="textAreaLeft" fmla="*/ 0 w 189000"/>
              <a:gd name="textAreaRight" fmla="*/ 68040 w 189000"/>
              <a:gd name="textAreaTop" fmla="*/ 3600 h 146160"/>
              <a:gd name="textAreaBottom" fmla="*/ 142560 h 1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191760" y="1060560"/>
            <a:ext cx="206280" cy="4583160"/>
          </a:xfrm>
          <a:custGeom>
            <a:avLst/>
            <a:gdLst>
              <a:gd name="textAreaLeft" fmla="*/ 0 w 206280"/>
              <a:gd name="textAreaRight" fmla="*/ 74520 w 206280"/>
              <a:gd name="textAreaTop" fmla="*/ 119520 h 4583160"/>
              <a:gd name="textAreaBottom" fmla="*/ 4463640 h 458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6"/>
                </a:lnTo>
                <a:cubicBezTo>
                  <a:pt x="10800" y="9906"/>
                  <a:pt x="16200" y="10806"/>
                  <a:pt x="21600" y="10806"/>
                </a:cubicBezTo>
                <a:cubicBezTo>
                  <a:pt x="16200" y="10806"/>
                  <a:pt x="10800" y="11706"/>
                  <a:pt x="10800" y="126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207600" y="5645160"/>
            <a:ext cx="198360" cy="127080"/>
          </a:xfrm>
          <a:custGeom>
            <a:avLst/>
            <a:gdLst>
              <a:gd name="textAreaLeft" fmla="*/ 0 w 198360"/>
              <a:gd name="textAreaRight" fmla="*/ 71640 w 198360"/>
              <a:gd name="textAreaTop" fmla="*/ 3240 h 127080"/>
              <a:gd name="textAreaBottom" fmla="*/ 1238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7160" y="31561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24160" y="5373720"/>
            <a:ext cx="8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56325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6400" y="7300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1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960480"/>
            <a:ext cx="27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projects, 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49920" y="320976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Axis 2, &gt;50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11760" y="514188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Support enterprises, 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49920" y="5378400"/>
            <a:ext cx="28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, 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59280" y="565308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, 1 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440160" y="878040"/>
          <a:ext cx="1841400" cy="4998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0160" y="878040"/>
                    <a:ext cx="18414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216240" y="5875200"/>
            <a:ext cx="2219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3065400" y="5611320"/>
            <a:ext cx="155520" cy="1018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68880" y="1031760"/>
            <a:ext cx="549360" cy="9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65640" y="914040"/>
            <a:ext cx="549360" cy="44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10280" y="3398760"/>
            <a:ext cx="542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72120" y="5821200"/>
            <a:ext cx="57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175360" y="5595840"/>
            <a:ext cx="54612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178600" y="5376960"/>
            <a:ext cx="545760" cy="30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1200" y="58244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C6F6C5-D4C9-401D-8BF5-60D24AE8F5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Sub-populations support to enterprises – projects within axis 1 (except 111), 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1940040"/>
            <a:ext cx="4016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enterpr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12, 121, 123, 311, 312 and 3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72120" y="1941480"/>
            <a:ext cx="431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Arial"/>
              </a:rPr>
              <a:t>Support to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(measure 124, 125, 321, 322, 323 and axi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9480" y="2760840"/>
            <a:ext cx="1137960" cy="966600"/>
            <a:chOff x="1149480" y="2760840"/>
            <a:chExt cx="1137960" cy="966600"/>
          </a:xfrm>
        </p:grpSpPr>
        <p:sp>
          <p:nvSpPr>
            <p:cNvPr id="190" name=""/>
            <p:cNvSpPr/>
            <p:nvPr/>
          </p:nvSpPr>
          <p:spPr>
            <a:xfrm>
              <a:off x="1673280" y="27608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16120" y="2803680"/>
              <a:ext cx="0" cy="92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49480" y="2811600"/>
              <a:ext cx="558720" cy="9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35200" y="2828880"/>
              <a:ext cx="552240" cy="89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1120" y="3681360"/>
            <a:ext cx="214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ifferent categ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0560" y="262908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 (900 of 12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335480" y="2646360"/>
            <a:ext cx="4662360" cy="3625920"/>
            <a:chOff x="4335480" y="2646360"/>
            <a:chExt cx="4662360" cy="3625920"/>
          </a:xfrm>
        </p:grpSpPr>
        <p:sp>
          <p:nvSpPr>
            <p:cNvPr id="197" name=""/>
            <p:cNvSpPr/>
            <p:nvPr/>
          </p:nvSpPr>
          <p:spPr>
            <a:xfrm>
              <a:off x="5929200" y="45896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21280" y="27525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9960" y="2813040"/>
              <a:ext cx="733680" cy="88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70800" y="366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217840" y="282888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38840" y="3735360"/>
              <a:ext cx="733680" cy="88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1120" y="45799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5986080" y="373536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632480"/>
              <a:ext cx="75060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225760" y="4667400"/>
              <a:ext cx="71604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278840" y="4649760"/>
              <a:ext cx="164880" cy="90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24600" y="2646360"/>
              <a:ext cx="18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1000 (axis 4: 70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24800" y="35179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ng term 1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35480" y="36115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hort term 2/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04280" y="4309920"/>
              <a:ext cx="139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Condition gener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5300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79960" y="4651200"/>
              <a:ext cx="15588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8484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53320" y="5483160"/>
              <a:ext cx="110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Economic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484960"/>
              <a:ext cx="919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Social welf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2360" y="4449600"/>
              <a:ext cx="129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600" spc="-1" strike="noStrike">
                  <a:solidFill>
                    <a:srgbClr val="000000"/>
                  </a:solidFill>
                  <a:latin typeface="Arial"/>
                </a:rPr>
                <a:t>Direct eff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4765680" y="605160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89680" y="6049800"/>
              <a:ext cx="32220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887800" y="6046920"/>
              <a:ext cx="645840" cy="225360"/>
              <a:chOff x="5887800" y="6046920"/>
              <a:chExt cx="645840" cy="225360"/>
            </a:xfrm>
          </p:grpSpPr>
          <p:sp>
            <p:nvSpPr>
              <p:cNvPr id="221" name=""/>
              <p:cNvSpPr/>
              <p:nvPr/>
            </p:nvSpPr>
            <p:spPr>
              <a:xfrm>
                <a:off x="6210000" y="60469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887800" y="60534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11800" y="60519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H="1">
              <a:off x="6966000" y="6043680"/>
              <a:ext cx="317520" cy="21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9640" y="6041880"/>
              <a:ext cx="322560" cy="22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8111880" y="6045120"/>
              <a:ext cx="645840" cy="225360"/>
              <a:chOff x="8111880" y="6045120"/>
              <a:chExt cx="645840" cy="225360"/>
            </a:xfrm>
          </p:grpSpPr>
          <p:sp>
            <p:nvSpPr>
              <p:cNvPr id="227" name=""/>
              <p:cNvSpPr/>
              <p:nvPr/>
            </p:nvSpPr>
            <p:spPr>
              <a:xfrm>
                <a:off x="8434080" y="6045120"/>
                <a:ext cx="0" cy="22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8111880" y="6051600"/>
                <a:ext cx="317160" cy="21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435880" y="6050160"/>
                <a:ext cx="321840" cy="22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D2FABD4-B9A8-4C8D-B808-B041F55D3B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7120" y="250920"/>
            <a:ext cx="70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Classification of 121-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76120" y="1890720"/>
          <a:ext cx="856008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120" y="1890720"/>
                    <a:ext cx="856008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847800" y="1895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5840" y="1905120"/>
            <a:ext cx="1514520" cy="82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5200" y="2162160"/>
            <a:ext cx="11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of far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6120" y="1895400"/>
            <a:ext cx="8553600" cy="4048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055354-79A7-440C-8C0D-7478A2DD7C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97120" y="250920"/>
            <a:ext cx="70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Evaluation investment – projec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047600" y="2352600"/>
            <a:ext cx="7467120" cy="2361960"/>
            <a:chOff x="1047600" y="2352600"/>
            <a:chExt cx="7467120" cy="2361960"/>
          </a:xfrm>
        </p:grpSpPr>
        <p:sp>
          <p:nvSpPr>
            <p:cNvPr id="239" name=""/>
            <p:cNvSpPr/>
            <p:nvPr/>
          </p:nvSpPr>
          <p:spPr>
            <a:xfrm>
              <a:off x="1114200" y="2670480"/>
              <a:ext cx="27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llection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14200" y="3889800"/>
              <a:ext cx="273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Arial"/>
                </a:rPr>
                <a:t>Use of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3762360" y="2352600"/>
              <a:ext cx="4752360" cy="1180800"/>
              <a:chOff x="3762360" y="2352600"/>
              <a:chExt cx="4752360" cy="1180800"/>
            </a:xfrm>
          </p:grpSpPr>
          <p:sp>
            <p:nvSpPr>
              <p:cNvPr id="242" name=""/>
              <p:cNvSpPr/>
              <p:nvPr/>
            </p:nvSpPr>
            <p:spPr>
              <a:xfrm>
                <a:off x="3790440" y="240300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90440" y="300780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62360" y="2352600"/>
                <a:ext cx="4638240" cy="11808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62360" y="294264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1056960" y="2352600"/>
              <a:ext cx="2705400" cy="236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762360" y="3533400"/>
              <a:ext cx="4752360" cy="1181160"/>
              <a:chOff x="3762360" y="3533400"/>
              <a:chExt cx="4752360" cy="1181160"/>
            </a:xfrm>
          </p:grpSpPr>
          <p:sp>
            <p:nvSpPr>
              <p:cNvPr id="248" name=""/>
              <p:cNvSpPr/>
              <p:nvPr/>
            </p:nvSpPr>
            <p:spPr>
              <a:xfrm>
                <a:off x="3790440" y="3584520"/>
                <a:ext cx="277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Beneficiari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90440" y="4189320"/>
                <a:ext cx="472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2400" spc="-1" strike="noStrike">
                    <a:solidFill>
                      <a:srgbClr val="000000"/>
                    </a:solidFill>
                    <a:latin typeface="Arial"/>
                  </a:rPr>
                  <a:t>Non beneficiaries (control group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762360" y="3533400"/>
                <a:ext cx="4638240" cy="1181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62360" y="4123800"/>
                <a:ext cx="463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1047600" y="3533400"/>
              <a:ext cx="3790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1F2384-EABA-46AC-AF9F-4DA99C07CD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09:12:48Z</dcterms:created>
  <dc:creator> </dc:creator>
  <dc:description/>
  <dc:language>en-US</dc:language>
  <cp:lastModifiedBy>zaoujjo</cp:lastModifiedBy>
  <dcterms:modified xsi:type="dcterms:W3CDTF">2009-12-08T08:31:32Z</dcterms:modified>
  <cp:revision>52</cp:revision>
  <dc:subject/>
  <dc:title>PowerPoint-presentation</dc:title>
</cp:coreProperties>
</file>