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D3971BF-0DFA-44AE-A506-CEE6B7901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66C859C-1EE9-4303-ADCF-54CAC105F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4A661BB-BD72-49AE-A6EA-1D6ACC6CD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1B73970-6BE6-4E9B-BB89-6894E1244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274F099-2EF3-4D9C-A3AD-DA18AE645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D535-9865-41F6-8962-EAFE18F9D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972AE-4179-4B75-8729-3A3C0EDD4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D94E-032E-4491-8E09-DCF9DED7D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1AC2-2E1A-476E-B98D-865311E08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75A6-E801-46B7-B1ED-A5AB4AD403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80A3-780C-4506-B4BA-BEFD1C9D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CD2A7-92C5-46E6-AD59-54A3E9A7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BAAD-B6C3-49EA-8D2A-4554D5D2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783C9-BD43-49E1-BAB9-56764094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FF14-77EC-4B92-97EF-B4DDEB84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B1E6-D28D-4427-97CC-FD7CFCDA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AD6B-9DF0-4C5C-9181-378DB4C89A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91B9-AA04-47CA-85DF-539A9B6E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94E4-C625-4453-A97D-E6D8E6B1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85F5-6A38-422C-9D7A-A29C2B2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567DD-2439-4787-A37D-B2F20BA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CD47C-07A8-468B-A262-CE56D48DE2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BC65-762F-4D71-B7FA-95C79D02A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056F-1F13-4105-986C-B83413559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96C1-B32F-4058-951A-B0374FF28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4AA9-8E66-4386-A5E7-D214CF6CF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5241-23DF-4EC2-8CA9-B91181595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DC6A-C4EA-4ABF-8614-C60603238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128E-1958-49B8-9EEB-69EE41EA4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79E9-30EB-4014-BEDC-A13EE22BAEE8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68360" y="6432480"/>
            <a:ext cx="13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07 Dec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3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Methodological approaches for capturing the impact of Leader and of measures to improve quality of life in rural area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900000" y="4292640"/>
            <a:ext cx="7459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and process of the Thematic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HAEL HEG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desk Team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s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losing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luding drafting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to the </a:t>
            </a:r>
            <a:r>
              <a:rPr b="0" lang="pl-PL" sz="2400" spc="-1" strike="noStrike">
                <a:solidFill>
                  <a:srgbClr val="006666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xper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ine-tu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Working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4020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issemin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definition of relevant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follow-up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help make the guidance more operational to Member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417-0394-4FAD-92EC-6CBE3CAD3B9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3: VALIDATION &amp; FIN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221000"/>
            <a:ext cx="88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workshop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May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inalisation drafting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of Working Paper 3 (WP3), May 26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presentation of WP3 to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Expert Committe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arly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Fine-tuning and dissemination of guidance and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efinition of </a:t>
            </a:r>
            <a:br>
              <a:rPr sz="2000"/>
            </a:br>
            <a:r>
              <a:rPr b="1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ollow-up activiti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end Jun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9C33-68D0-4569-BFF1-9A929580771D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131-7287-4570-ACB1-70E3EDEDF0E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el 1"/>
          <p:cNvSpPr/>
          <p:nvPr/>
        </p:nvSpPr>
        <p:spPr>
          <a:xfrm>
            <a:off x="0" y="0"/>
            <a:ext cx="6516720" cy="1197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463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ONTENT OF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nhaltsplatzhalter 2"/>
          <p:cNvSpPr/>
          <p:nvPr/>
        </p:nvSpPr>
        <p:spPr>
          <a:xfrm>
            <a:off x="395280" y="1628640"/>
            <a:ext cx="82296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 States’ needs for methodological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 in assessing impacts for Leader and Quality of Life (axes 3 &amp;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ematic working group (TWG)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Objective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xpected results, proposed methods,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4CD-AB9C-4EF6-AFA4-A829228B6C5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Inhaltsplatzhalter 2"/>
          <p:cNvSpPr/>
          <p:nvPr/>
        </p:nvSpPr>
        <p:spPr>
          <a:xfrm>
            <a:off x="395280" y="1484280"/>
            <a:ext cx="8137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s assessment conducted throug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cus Groups (2008 &amp; 2009) in Member State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ission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etings / other contacts with evaluation community from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6139-3A69-4AE5-996A-043317EDD7A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Inhaltsplatzhalter 2"/>
          <p:cNvSpPr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findings of needs assessment for evaluation of impacts of axes 3 &amp;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00"/>
              </a:spcBef>
              <a:spcAft>
                <a:spcPts val="15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veloping adequate definitions, criteria and indicators for LEADER and Quality of Lif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ackling the qualitative nature of the eff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ing contributions of small-scale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ssessing the stimulation of cultural change through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entangle Leader effects from deadweight, double counting, displacement and other intervention policies (viz. counterf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volving beneficiaries in the evaluation process (reliable data, active participation in the evaluation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MEMBER STATES’ NEEDS FOR METHODOLOGICAL GUIDANC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current identified challenges (draft Concept Note) complementing needs assess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mon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re challenging – assessing effects of the Leader approach, and contribution to improved qual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ing the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double scope” of Lead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process and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ittle guidance in CM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although some previous experience from Leader II &amp; Leader+, &amp; Quality of Life 2000-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der+ stresse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“structuring a common evaluation strateg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t all levels…&amp; should follow an overall bottom-up approa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Gaps in evaluator specialis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contextual knowledge, experi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ing with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diffuse distribution of effec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erms of time, geography, community and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38880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MEF requirements estimating impact at: a)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local lev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and b) contribution to general trend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t programm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CHALLENGES IN ASSESSING IMPACTS OF LEADER AND QUALITY OF LIFE 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123F-951F-430E-8BAA-D0519688FC3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provide practical methodological guidance in assessing the impacts of Leader and measures to improve the Quality of Life through rural development program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cte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51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guidance document describing state-of-the-art and current/good evaluation practice and complementary tools, to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programme evaluators/MAs to make use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optimal approaches to rural development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nd …..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to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select appropriate evaluation methods and tools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  <a:p>
            <a:pPr lvl="2" marL="1216080" indent="-228600">
              <a:spcBef>
                <a:spcPts val="451"/>
              </a:spcBef>
              <a:buClr>
                <a:srgbClr val="00646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development of 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convergent methods of RDP evaluation</a:t>
            </a:r>
            <a:r>
              <a:rPr b="0" lang="en-GB" sz="1800" spc="-1" strike="noStrike">
                <a:solidFill>
                  <a:srgbClr val="006463"/>
                </a:solidFill>
                <a:latin typeface="Arial"/>
              </a:rPr>
              <a:t> at EU-level</a:t>
            </a:r>
            <a:endParaRPr b="0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FBE8-3253-4E56-BB5D-16599846CB8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THE THEMATIC WORKING GROUP 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484280"/>
            <a:ext cx="7777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3-step proc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raf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alidation and fin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1: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68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601"/>
              </a:spcBef>
              <a:buClr>
                <a:srgbClr val="0066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initia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TW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ing the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oncept No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thering and review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urrent evaluation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Leader and Qual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l kick-off of the process through a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worksh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EAD4-164A-41ED-AEEE-9EA8F9ECC6D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716280"/>
            <a:ext cx="88930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Concept Note, Nov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questionnaire survey of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in MS, by Dec 18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ocument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drafted on current practice in MS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ocument drafted on </a:t>
            </a:r>
            <a:r>
              <a:rPr b="1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state-of-the-art practices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)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TWG composition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confirmed, by Jan 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vi) launch of TWG through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orkshop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n Brussels, Jan 26 (or 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activity develops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raft working pap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ing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state-of-the-ar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methods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ncorporation of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detailed current pract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pecific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evaluation challe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Member Stat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wing also on 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lobal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B60E-C3F5-432F-A557-81B746B8257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el 1"/>
          <p:cNvSpPr/>
          <p:nvPr/>
        </p:nvSpPr>
        <p:spPr>
          <a:xfrm>
            <a:off x="0" y="0"/>
            <a:ext cx="6265800" cy="1125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d9"/>
                </a:solidFill>
                <a:latin typeface="Arial"/>
              </a:rPr>
              <a:t>STEP 2: DRAF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16280"/>
            <a:ext cx="8748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6463"/>
                </a:solidFill>
                <a:uFillTx/>
                <a:latin typeface="Arial"/>
                <a:ea typeface="Arial"/>
              </a:rPr>
              <a:t>Timelin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) </a:t>
            </a: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draft Working Paper 1 (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WP1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), Mar. 4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) workshop in MS, bringing forward detailed current practi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Mar 2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ii) revised draft Working Paper 2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2), sent to MS, Apr.16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iv) 2nd workshop in MS (if required) for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further current practice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6463"/>
                </a:solidFill>
                <a:latin typeface="Arial"/>
                <a:ea typeface="Arial"/>
              </a:rPr>
              <a:t>     </a:t>
            </a:r>
            <a:r>
              <a:rPr b="0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Apr 29 → incorporated into Working Paper 3 </a:t>
            </a:r>
            <a:r>
              <a:rPr b="1" lang="en-GB" sz="2000" spc="-1" strike="noStrike">
                <a:solidFill>
                  <a:srgbClr val="006463"/>
                </a:solidFill>
                <a:latin typeface="Arial"/>
                <a:ea typeface="Arial"/>
              </a:rPr>
              <a:t>(WP3), May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32:23Z</dcterms:modified>
  <cp:revision>454</cp:revision>
  <dc:subject/>
  <dc:title>EENRD presentation</dc:title>
</cp:coreProperties>
</file>