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AF88-DD62-4225-862E-E95C655E5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BD99-EB52-4B5E-B033-551D718E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8749-2B09-4485-AF77-4065C7A93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DDA9-4E78-4D30-AA84-4EF86E844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CD6C-4405-4E7A-87DF-8406E506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A7A0-1B82-4B32-892F-1457047D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857F-E23D-4969-904E-924C951F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A24E-5DF2-445D-A784-08A4CF31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275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4FB0-8E8B-4FB1-9A35-A88FCA45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56D3-3FED-4385-B33A-9C83B2A8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4D35-AA5B-4E47-B242-A87B68D1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1BD4-5915-4B17-B0D5-4232DEAE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38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4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7 December 2009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3200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valuation Expert Committee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16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7EFE-37BE-471A-88D7-8CFD55863567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553080" y="237960"/>
            <a:ext cx="2403720" cy="744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0"/>
            <a:ext cx="914400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5311800" cy="35780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6463"/>
                </a:solidFill>
                <a:latin typeface="Arial"/>
              </a:rPr>
              <a:t>Update of the </a:t>
            </a:r>
            <a:br>
              <a:rPr sz="4000"/>
            </a:br>
            <a:r>
              <a:rPr b="1" lang="en-AU" sz="4000" spc="-1" strike="noStrike">
                <a:solidFill>
                  <a:srgbClr val="006463"/>
                </a:solidFill>
                <a:latin typeface="Arial"/>
              </a:rPr>
              <a:t>Needs Assessment in the Member States</a:t>
            </a:r>
            <a:endParaRPr b="1" lang="en-US" sz="40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333333"/>
                </a:solidFill>
                <a:latin typeface="Arial"/>
              </a:rPr>
              <a:t>Hannes Wimm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893E-77E8-4B7F-9A4F-7ACD50BA549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data gap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data availability and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ing the data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aling with existing data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228600" y="1600200"/>
            <a:ext cx="6172200" cy="3429000"/>
            <a:chOff x="228600" y="1600200"/>
            <a:chExt cx="6172200" cy="3429000"/>
          </a:xfrm>
        </p:grpSpPr>
        <p:sp>
          <p:nvSpPr>
            <p:cNvPr id="129" name=""/>
            <p:cNvSpPr/>
            <p:nvPr/>
          </p:nvSpPr>
          <p:spPr>
            <a:xfrm>
              <a:off x="4114800" y="3962520"/>
              <a:ext cx="2286000" cy="838080"/>
            </a:xfrm>
            <a:prstGeom prst="wedgeRoundRectCallout">
              <a:avLst>
                <a:gd name="adj1" fmla="val -81180"/>
                <a:gd name="adj2" fmla="val 43560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argets were reset after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ealth check …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MAs  have difficulties to take this into account 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8600" y="1600200"/>
              <a:ext cx="2286000" cy="838080"/>
            </a:xfrm>
            <a:prstGeom prst="wedgeRoundRectCallout">
              <a:avLst>
                <a:gd name="adj1" fmla="val 1805"/>
                <a:gd name="adj2" fmla="val 125569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rief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written supplementary guidance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to CMEF as was provided for GVA would be helpful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8600" y="4191120"/>
              <a:ext cx="1981080" cy="838080"/>
            </a:xfrm>
            <a:prstGeom prst="wedgeRoundRectCallout">
              <a:avLst>
                <a:gd name="adj1" fmla="val -17949"/>
                <a:gd name="adj2" fmla="val -135606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ata gathering should be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recognized as highly important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by MA, so “ongoing and priority”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609480" y="5257800"/>
            <a:ext cx="1981440" cy="1066680"/>
          </a:xfrm>
          <a:prstGeom prst="wedgeRoundRectCallout">
            <a:avLst>
              <a:gd name="adj1" fmla="val -70273"/>
              <a:gd name="adj2" fmla="val -5208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uidance on providing </a:t>
            </a:r>
            <a:r>
              <a:rPr b="1" i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qualitative assessment methodologies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absence of robust quantitative informatio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752480" y="1600200"/>
            <a:ext cx="3886200" cy="1981080"/>
            <a:chOff x="1752480" y="1600200"/>
            <a:chExt cx="3886200" cy="1981080"/>
          </a:xfrm>
        </p:grpSpPr>
        <p:sp>
          <p:nvSpPr>
            <p:cNvPr id="134" name=""/>
            <p:cNvSpPr/>
            <p:nvPr/>
          </p:nvSpPr>
          <p:spPr>
            <a:xfrm>
              <a:off x="1752480" y="2743200"/>
              <a:ext cx="2286000" cy="838080"/>
            </a:xfrm>
            <a:prstGeom prst="wedgeRoundRectCallout">
              <a:avLst>
                <a:gd name="adj1" fmla="val -54583"/>
                <a:gd name="adj2" fmla="val 101893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ifficulties to collect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data for farming and diversification measures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accountancy systems do not collect enough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52680" y="1600200"/>
              <a:ext cx="2286000" cy="838080"/>
            </a:xfrm>
            <a:prstGeom prst="wedgeRoundRectCallout">
              <a:avLst>
                <a:gd name="adj1" fmla="val -16875"/>
                <a:gd name="adj2" fmla="val 106439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collect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reliable economic information of farms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not receiving support from RDP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666880" y="2971800"/>
            <a:ext cx="3657600" cy="2895480"/>
            <a:chOff x="2666880" y="2971800"/>
            <a:chExt cx="3657600" cy="2895480"/>
          </a:xfrm>
        </p:grpSpPr>
        <p:sp>
          <p:nvSpPr>
            <p:cNvPr id="137" name=""/>
            <p:cNvSpPr/>
            <p:nvPr/>
          </p:nvSpPr>
          <p:spPr>
            <a:xfrm>
              <a:off x="2666880" y="5029200"/>
              <a:ext cx="2286000" cy="838080"/>
            </a:xfrm>
            <a:prstGeom prst="wedgeRoundRectCallout">
              <a:avLst>
                <a:gd name="adj1" fmla="val 42569"/>
                <a:gd name="adj2" fmla="val 85986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deal with the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ime gaps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(2-3 years) between the availability of data of Eurostat which is used for the baseline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48320" y="2971800"/>
              <a:ext cx="1676160" cy="838080"/>
            </a:xfrm>
            <a:prstGeom prst="wedgeRoundRectCallout">
              <a:avLst>
                <a:gd name="adj1" fmla="val -185796"/>
                <a:gd name="adj2" fmla="val 82009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vide more information on the different 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data sources at EU level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4A52-D825-47DE-8F52-D4F28D23B0DA}" type="slidenum">
              <a:t>10</a:t>
            </a:fld>
          </a:p>
        </p:txBody>
      </p:sp>
    </p:spTree>
  </p:cSld>
  <p:transition>
    <p:pull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Leader an QoL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uilding up relevant know-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ing adequate 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ckling the qualitative nature of the effects &amp; small scale of intervention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volving beneficiaries in the evalua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114800" y="3429000"/>
            <a:ext cx="2286000" cy="609480"/>
          </a:xfrm>
          <a:prstGeom prst="wedgeRoundRectCallout">
            <a:avLst>
              <a:gd name="adj1" fmla="val -57986"/>
              <a:gd name="adj2" fmla="val 73699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 case of quality of life it is not clear </a:t>
            </a:r>
            <a:r>
              <a:rPr b="1" i="1" lang="en-GB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what data should be collected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00200"/>
            <a:ext cx="4952880" cy="4648320"/>
            <a:chOff x="304920" y="1600200"/>
            <a:chExt cx="4952880" cy="4648320"/>
          </a:xfrm>
        </p:grpSpPr>
        <p:sp>
          <p:nvSpPr>
            <p:cNvPr id="144" name=""/>
            <p:cNvSpPr/>
            <p:nvPr/>
          </p:nvSpPr>
          <p:spPr>
            <a:xfrm>
              <a:off x="2971800" y="1676520"/>
              <a:ext cx="2286000" cy="838080"/>
            </a:xfrm>
            <a:prstGeom prst="wedgeRoundRectCallout">
              <a:avLst>
                <a:gd name="adj1" fmla="val -32361"/>
                <a:gd name="adj2" fmla="val 264962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t is very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difficult to evaluate qualitative aspects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like governance, capacity and the use of endogenous potential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4920" y="1600200"/>
              <a:ext cx="1981080" cy="1219320"/>
            </a:xfrm>
            <a:prstGeom prst="wedgeRoundRectCallout">
              <a:avLst>
                <a:gd name="adj1" fmla="val 115462"/>
                <a:gd name="adj2" fmla="val 112240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greatest challenges are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time gap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between the launch of the measures and the moment when impacts are visible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14400" y="5257800"/>
              <a:ext cx="2286000" cy="990720"/>
            </a:xfrm>
            <a:prstGeom prst="wedgeRoundRectCallout">
              <a:avLst>
                <a:gd name="adj1" fmla="val 55763"/>
                <a:gd name="adj2" fmla="val -100000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implementation period is rather short and the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mount of money allocated is rather small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. The impact will be evident over a longer period of time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228600" y="3276720"/>
            <a:ext cx="2286000" cy="1143000"/>
          </a:xfrm>
          <a:prstGeom prst="wedgeRoundRectCallout">
            <a:avLst>
              <a:gd name="adj1" fmla="val 99097"/>
              <a:gd name="adj2" fmla="val 61944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Involvement of beneficiaries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will be difficult since they are  not trained for impact measurement and it is uncertain to what extent they can co-oper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505320" y="2743200"/>
            <a:ext cx="2819160" cy="3429000"/>
            <a:chOff x="3505320" y="2743200"/>
            <a:chExt cx="2819160" cy="3429000"/>
          </a:xfrm>
        </p:grpSpPr>
        <p:sp>
          <p:nvSpPr>
            <p:cNvPr id="149" name=""/>
            <p:cNvSpPr/>
            <p:nvPr/>
          </p:nvSpPr>
          <p:spPr>
            <a:xfrm>
              <a:off x="3505320" y="5562720"/>
              <a:ext cx="2286000" cy="609480"/>
            </a:xfrm>
            <a:prstGeom prst="wedgeRoundRectCallout">
              <a:avLst>
                <a:gd name="adj1" fmla="val 65625"/>
                <a:gd name="adj2" fmla="val 52342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re is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lack of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previous experience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in the evaluation of Leader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38480" y="2743200"/>
              <a:ext cx="2286000" cy="609480"/>
            </a:xfrm>
            <a:prstGeom prst="wedgeRoundRectCallout">
              <a:avLst>
                <a:gd name="adj1" fmla="val -39722"/>
                <a:gd name="adj2" fmla="val -73175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evaluator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does not have experience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in evaluating Leader &amp; Quality of Life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62520" y="4876920"/>
              <a:ext cx="2286000" cy="609480"/>
            </a:xfrm>
            <a:prstGeom prst="wedgeRoundRectCallout">
              <a:avLst>
                <a:gd name="adj1" fmla="val -22013"/>
                <a:gd name="adj2" fmla="val -112500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Leader approach is still 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under construction…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01A3-9FF7-4DC4-902C-9D810423E317}" type="slidenum">
              <a:t>11</a:t>
            </a:fld>
          </a:p>
        </p:txBody>
      </p:sp>
    </p:spTree>
  </p:cSld>
  <p:transition>
    <p:pull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CEQ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general scope and use  of 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the links between EQ, criteria and indica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erpreting the meaning of E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nding examples for answers to E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the horizontal E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4920" y="1600200"/>
            <a:ext cx="1981080" cy="609480"/>
          </a:xfrm>
          <a:prstGeom prst="wedgeRoundRectCallout">
            <a:avLst>
              <a:gd name="adj1" fmla="val 40064"/>
              <a:gd name="adj2" fmla="val 322916"/>
              <a:gd name="adj3" fmla="val 1666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 of answers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to EQ would be welcom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505320" y="1523880"/>
            <a:ext cx="2895480" cy="4724640"/>
            <a:chOff x="3505320" y="1523880"/>
            <a:chExt cx="2895480" cy="4724640"/>
          </a:xfrm>
        </p:grpSpPr>
        <p:sp>
          <p:nvSpPr>
            <p:cNvPr id="157" name=""/>
            <p:cNvSpPr/>
            <p:nvPr/>
          </p:nvSpPr>
          <p:spPr>
            <a:xfrm>
              <a:off x="4114800" y="1523880"/>
              <a:ext cx="2286000" cy="914400"/>
            </a:xfrm>
            <a:prstGeom prst="wedgeRoundRectCallout">
              <a:avLst>
                <a:gd name="adj1" fmla="val -60694"/>
                <a:gd name="adj2" fmla="val 4861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EQ:s are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wide in scope and very ambitious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… 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pens up for a variety of approach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05320" y="5562720"/>
              <a:ext cx="2286000" cy="685800"/>
            </a:xfrm>
            <a:prstGeom prst="wedgeRoundRectCallout">
              <a:avLst>
                <a:gd name="adj1" fmla="val -55763"/>
                <a:gd name="adj2" fmla="val -172453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ow to compare EU wide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when local methods and definitions are applied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52280" y="3352680"/>
            <a:ext cx="6172200" cy="1752840"/>
            <a:chOff x="152280" y="3352680"/>
            <a:chExt cx="6172200" cy="1752840"/>
          </a:xfrm>
        </p:grpSpPr>
        <p:sp>
          <p:nvSpPr>
            <p:cNvPr id="160" name=""/>
            <p:cNvSpPr/>
            <p:nvPr/>
          </p:nvSpPr>
          <p:spPr>
            <a:xfrm>
              <a:off x="4038480" y="3352680"/>
              <a:ext cx="2286000" cy="1143000"/>
            </a:xfrm>
            <a:prstGeom prst="wedgeRoundRectCallout">
              <a:avLst>
                <a:gd name="adj1" fmla="val -46875"/>
                <a:gd name="adj2" fmla="val -87638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overlapping of EQ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(common and horizontal) results in confusion, risk to receive similar answers to many different question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2280" y="3581280"/>
              <a:ext cx="1524240" cy="838440"/>
            </a:xfrm>
            <a:prstGeom prst="wedgeRoundRectCallout">
              <a:avLst>
                <a:gd name="adj1" fmla="val -42601"/>
                <a:gd name="adj2" fmla="val 164962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lack  of precise definition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of terms and concepts used in the formulation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43000" y="4495680"/>
              <a:ext cx="1828800" cy="609840"/>
            </a:xfrm>
            <a:prstGeom prst="wedgeRoundRectCallout">
              <a:avLst>
                <a:gd name="adj1" fmla="val 41407"/>
                <a:gd name="adj2" fmla="val -116925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Horizontal questions are more makro level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than programme level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990720" y="2209680"/>
            <a:ext cx="3047760" cy="4114800"/>
            <a:chOff x="990720" y="2209680"/>
            <a:chExt cx="3047760" cy="4114800"/>
          </a:xfrm>
        </p:grpSpPr>
        <p:sp>
          <p:nvSpPr>
            <p:cNvPr id="164" name=""/>
            <p:cNvSpPr/>
            <p:nvPr/>
          </p:nvSpPr>
          <p:spPr>
            <a:xfrm>
              <a:off x="2286000" y="2209680"/>
              <a:ext cx="1752480" cy="762120"/>
            </a:xfrm>
            <a:prstGeom prst="wedgeRoundRectCallout">
              <a:avLst>
                <a:gd name="adj1" fmla="val 27717"/>
                <a:gd name="adj2" fmla="val 133125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Lack of connection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between Common indicators and CEQ: develop a matrix!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90720" y="5638680"/>
              <a:ext cx="1828800" cy="685800"/>
            </a:xfrm>
            <a:prstGeom prst="wedgeRoundRectCallout">
              <a:avLst>
                <a:gd name="adj1" fmla="val 60851"/>
                <a:gd name="adj2" fmla="val -100231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ome </a:t>
              </a:r>
              <a:r>
                <a:rPr b="1" i="1" lang="en-US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questions are “summaries”</a:t>
              </a: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of other questions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71A9-B87F-45DA-B79D-DD747F331C5D}" type="slidenum">
              <a:t>12</a:t>
            </a:fld>
          </a:p>
        </p:txBody>
      </p:sp>
    </p:spTree>
  </p:cSld>
  <p:transition>
    <p:pull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further need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make Helpdesk’s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work more usefu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also for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make outputs of Thematic Working Groups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more tangible and conc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ensure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speedy follow-u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o information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to explain the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purpose of the guidance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for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good practices and direct exchang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etween evaluators in the Member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DFCF-486E-45C3-85C7-6E41E79FC711}" type="slidenum">
              <a:t>13</a:t>
            </a:fld>
          </a:p>
        </p:txBody>
      </p:sp>
    </p:spTree>
  </p:cSld>
  <p:transition>
    <p:pull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Themes for thematic working group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A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valuation of specific measures/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Quality of Life and LEADER; agri-environmental measures; link between axis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B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pecifically cover impact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Climate change, water quality, HNV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C)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pecific evaluation approaches /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Qualitative impacts, counterfactual and participatory approach, methodological problems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Times New Roman"/>
              </a:rPr>
              <a:t>D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ther top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evaluation of national networks; data collection and data validity;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alitative and quantitative indicators</a:t>
            </a:r>
            <a:r>
              <a:rPr b="0" lang="en-GB" sz="1800" spc="-1" strike="noStrike">
                <a:solidFill>
                  <a:srgbClr val="006463"/>
                </a:solidFill>
                <a:latin typeface="Arial"/>
                <a:ea typeface="Times New Roman"/>
              </a:rPr>
              <a:t>; semantic clarifications about the EQ; thematic groups on programme intervention and horizontal EQ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264A-DFA8-48A5-8F01-3023980B2229}" type="slidenum">
              <a:t>14</a:t>
            </a:fld>
          </a:p>
        </p:txBody>
      </p:sp>
    </p:spTree>
  </p:cSld>
  <p:transition>
    <p:pull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Conclusions for AWP 2010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ditional support for the assessment of RD impacts indicators and the overall programme impact is need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Confirms existing TWGs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Deepening and integrating work of TWGs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ay more attention to specific methodological challenges in assessing impa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Task for existing TWGs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pport specific analytical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New themes for Thematic pool, information exchange!</a:t>
            </a:r>
            <a:endParaRPr b="0" lang="en-US" sz="2000" spc="-1" strike="noStrike">
              <a:solidFill>
                <a:srgbClr val="00646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64A3-6656-46C3-A4FA-7BEE4742FC8B}" type="slidenum">
              <a:t>15</a:t>
            </a:fld>
          </a:p>
        </p:txBody>
      </p:sp>
    </p:spTree>
  </p:cSld>
  <p:transition>
    <p:pull dir="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Conclusions for AWP 2010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mote practical examples and collaborative working methods to bridge the gap between theory and pract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New working methods!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vide specific help for understanding, interpreting and answering the CEQ (in view of MTE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New activity!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ke into account data-gaps at the output and result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Guidance how to handle existing data gaps! 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peed up procedures for answering technical qu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Reserve sufficient capacity to provide adequate and immediate answers to technical questions!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ke outputs of the Thematic Working Groups more tangi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Involve evaluators more directly into the work!   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sseminate and interlink knowledge and inform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646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463"/>
                </a:solidFill>
                <a:latin typeface="Arial"/>
              </a:rPr>
              <a:t>Provide an effective platform for information exchange! </a:t>
            </a:r>
            <a:endParaRPr b="0" lang="en-US" sz="1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DEA9-945C-4BB1-8DEB-B85391D296E0}" type="slidenum">
              <a:t>16</a:t>
            </a:fld>
          </a:p>
        </p:txBody>
      </p:sp>
    </p:spTree>
  </p:cSld>
  <p:transition>
    <p:pull dir="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400" spc="-1" strike="noStrike">
                <a:solidFill>
                  <a:srgbClr val="006463"/>
                </a:solidFill>
                <a:latin typeface="Arial"/>
              </a:rPr>
              <a:t>Thank you for your attention!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5311800" cy="357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CBDC-07AA-4975-B617-469444257B8A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Content</a:t>
            </a: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	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c themes of focus group discus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 of the focus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 group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9404-11E1-4A81-B263-9A61F38A24CA}" type="slidenum">
              <a:t>2</a:t>
            </a:fld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Purpose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cc00"/>
                </a:solidFill>
                <a:latin typeface="Arial"/>
              </a:rPr>
              <a:t>To highlight the specific need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evaluation stakeholders related to the  mid-term evaluations (MT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cc00"/>
                </a:solidFill>
                <a:latin typeface="Arial"/>
              </a:rPr>
              <a:t>To help fine-tune ongoing activiti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identify potential new areas for the Helpdesk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15CB-21CA-48FC-876F-8DECD2DCF5EF}" type="slidenum">
              <a:t>3</a:t>
            </a:fld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Specific focus of needs assessment in 2009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eeds related to the mid-term-evaluation in particular conce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Measurement/assessment of the CMEF impact indicator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Evaluation of Leader and Quality of Lif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Data gap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Common Evaluation Questions, intervention logic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s for Thematic Work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8EE6-E867-47AE-8713-2EA343B72A16}" type="slidenum">
              <a:t>4</a:t>
            </a:fld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Organisation of focus group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0036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458200" cy="476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96A8-8FAD-41C1-A938-1524358BB6AE}" type="slidenum">
              <a:t>5</a:t>
            </a:fld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In which areas is support most needed?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92560" y="1895400"/>
            <a:ext cx="4543560" cy="331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6520" y="1900080"/>
            <a:ext cx="4097520" cy="3314880"/>
          </a:xfrm>
          <a:custGeom>
            <a:avLst/>
            <a:gdLst/>
            <a:ahLst/>
            <a:rect l="l" t="t" r="r" b="b"/>
            <a:pathLst>
              <a:path w="2581" h="2088">
                <a:moveTo>
                  <a:pt x="5" y="0"/>
                </a:moveTo>
                <a:lnTo>
                  <a:pt x="5" y="2088"/>
                </a:lnTo>
                <a:lnTo>
                  <a:pt x="0" y="2088"/>
                </a:lnTo>
                <a:lnTo>
                  <a:pt x="0" y="0"/>
                </a:lnTo>
                <a:lnTo>
                  <a:pt x="5" y="0"/>
                </a:lnTo>
                <a:close/>
                <a:moveTo>
                  <a:pt x="290" y="0"/>
                </a:moveTo>
                <a:lnTo>
                  <a:pt x="290" y="2088"/>
                </a:lnTo>
                <a:lnTo>
                  <a:pt x="286" y="2088"/>
                </a:lnTo>
                <a:lnTo>
                  <a:pt x="286" y="0"/>
                </a:lnTo>
                <a:lnTo>
                  <a:pt x="290" y="0"/>
                </a:lnTo>
                <a:close/>
                <a:moveTo>
                  <a:pt x="576" y="0"/>
                </a:moveTo>
                <a:lnTo>
                  <a:pt x="576" y="2088"/>
                </a:lnTo>
                <a:lnTo>
                  <a:pt x="571" y="2088"/>
                </a:lnTo>
                <a:lnTo>
                  <a:pt x="571" y="0"/>
                </a:lnTo>
                <a:lnTo>
                  <a:pt x="576" y="0"/>
                </a:lnTo>
                <a:close/>
                <a:moveTo>
                  <a:pt x="862" y="0"/>
                </a:moveTo>
                <a:lnTo>
                  <a:pt x="862" y="2088"/>
                </a:lnTo>
                <a:lnTo>
                  <a:pt x="857" y="2088"/>
                </a:lnTo>
                <a:lnTo>
                  <a:pt x="857" y="0"/>
                </a:lnTo>
                <a:lnTo>
                  <a:pt x="862" y="0"/>
                </a:lnTo>
                <a:close/>
                <a:moveTo>
                  <a:pt x="1148" y="0"/>
                </a:moveTo>
                <a:lnTo>
                  <a:pt x="1148" y="2088"/>
                </a:lnTo>
                <a:lnTo>
                  <a:pt x="1143" y="2088"/>
                </a:lnTo>
                <a:lnTo>
                  <a:pt x="1143" y="0"/>
                </a:lnTo>
                <a:lnTo>
                  <a:pt x="1148" y="0"/>
                </a:lnTo>
                <a:close/>
                <a:moveTo>
                  <a:pt x="1438" y="0"/>
                </a:moveTo>
                <a:lnTo>
                  <a:pt x="1438" y="2088"/>
                </a:lnTo>
                <a:lnTo>
                  <a:pt x="1433" y="2088"/>
                </a:lnTo>
                <a:lnTo>
                  <a:pt x="1433" y="0"/>
                </a:lnTo>
                <a:lnTo>
                  <a:pt x="1438" y="0"/>
                </a:lnTo>
                <a:close/>
                <a:moveTo>
                  <a:pt x="1724" y="0"/>
                </a:moveTo>
                <a:lnTo>
                  <a:pt x="1724" y="2088"/>
                </a:lnTo>
                <a:lnTo>
                  <a:pt x="1719" y="2088"/>
                </a:lnTo>
                <a:lnTo>
                  <a:pt x="1719" y="0"/>
                </a:lnTo>
                <a:lnTo>
                  <a:pt x="1724" y="0"/>
                </a:lnTo>
                <a:close/>
                <a:moveTo>
                  <a:pt x="2010" y="0"/>
                </a:moveTo>
                <a:lnTo>
                  <a:pt x="2010" y="2088"/>
                </a:lnTo>
                <a:lnTo>
                  <a:pt x="2005" y="2088"/>
                </a:lnTo>
                <a:lnTo>
                  <a:pt x="2005" y="0"/>
                </a:lnTo>
                <a:lnTo>
                  <a:pt x="2010" y="0"/>
                </a:lnTo>
                <a:close/>
                <a:moveTo>
                  <a:pt x="2296" y="0"/>
                </a:moveTo>
                <a:lnTo>
                  <a:pt x="2296" y="2088"/>
                </a:lnTo>
                <a:lnTo>
                  <a:pt x="2291" y="2088"/>
                </a:lnTo>
                <a:lnTo>
                  <a:pt x="2291" y="0"/>
                </a:lnTo>
                <a:lnTo>
                  <a:pt x="2296" y="0"/>
                </a:lnTo>
                <a:close/>
                <a:moveTo>
                  <a:pt x="2581" y="0"/>
                </a:moveTo>
                <a:lnTo>
                  <a:pt x="2581" y="2088"/>
                </a:lnTo>
                <a:lnTo>
                  <a:pt x="2576" y="2088"/>
                </a:lnTo>
                <a:lnTo>
                  <a:pt x="2576" y="0"/>
                </a:lnTo>
                <a:lnTo>
                  <a:pt x="2581" y="0"/>
                </a:lnTo>
                <a:close/>
              </a:path>
            </a:pathLst>
          </a:custGeom>
          <a:solidFill>
            <a:srgbClr val="868686"/>
          </a:solidFill>
          <a:ln w="7920">
            <a:solidFill>
              <a:srgbClr val="8686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97240" y="1938240"/>
            <a:ext cx="3838680" cy="2683080"/>
          </a:xfrm>
          <a:custGeom>
            <a:avLst/>
            <a:gdLst/>
            <a:ahLst/>
            <a:rect l="l" t="t" r="r" b="b"/>
            <a:pathLst>
              <a:path w="2418" h="1690">
                <a:moveTo>
                  <a:pt x="660" y="1690"/>
                </a:moveTo>
                <a:lnTo>
                  <a:pt x="0" y="1690"/>
                </a:lnTo>
                <a:lnTo>
                  <a:pt x="0" y="1389"/>
                </a:lnTo>
                <a:lnTo>
                  <a:pt x="660" y="1389"/>
                </a:lnTo>
                <a:lnTo>
                  <a:pt x="660" y="1690"/>
                </a:lnTo>
                <a:close/>
                <a:moveTo>
                  <a:pt x="1758" y="1340"/>
                </a:moveTo>
                <a:lnTo>
                  <a:pt x="0" y="1340"/>
                </a:lnTo>
                <a:lnTo>
                  <a:pt x="0" y="1044"/>
                </a:lnTo>
                <a:lnTo>
                  <a:pt x="1758" y="1044"/>
                </a:lnTo>
                <a:lnTo>
                  <a:pt x="1758" y="1340"/>
                </a:lnTo>
                <a:close/>
                <a:moveTo>
                  <a:pt x="1867" y="990"/>
                </a:moveTo>
                <a:lnTo>
                  <a:pt x="0" y="990"/>
                </a:lnTo>
                <a:lnTo>
                  <a:pt x="0" y="695"/>
                </a:lnTo>
                <a:lnTo>
                  <a:pt x="1867" y="695"/>
                </a:lnTo>
                <a:lnTo>
                  <a:pt x="1867" y="990"/>
                </a:lnTo>
                <a:close/>
                <a:moveTo>
                  <a:pt x="2197" y="645"/>
                </a:moveTo>
                <a:lnTo>
                  <a:pt x="0" y="645"/>
                </a:lnTo>
                <a:lnTo>
                  <a:pt x="0" y="345"/>
                </a:lnTo>
                <a:lnTo>
                  <a:pt x="2197" y="345"/>
                </a:lnTo>
                <a:lnTo>
                  <a:pt x="2197" y="645"/>
                </a:lnTo>
                <a:close/>
                <a:moveTo>
                  <a:pt x="2418" y="296"/>
                </a:moveTo>
                <a:lnTo>
                  <a:pt x="0" y="296"/>
                </a:lnTo>
                <a:lnTo>
                  <a:pt x="0" y="0"/>
                </a:lnTo>
                <a:lnTo>
                  <a:pt x="2418" y="0"/>
                </a:lnTo>
                <a:lnTo>
                  <a:pt x="2418" y="296"/>
                </a:lnTo>
                <a:close/>
              </a:path>
            </a:pathLst>
          </a:custGeom>
          <a:solidFill>
            <a:srgbClr val="89a5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92560" y="1935000"/>
            <a:ext cx="3848040" cy="2689560"/>
          </a:xfrm>
          <a:custGeom>
            <a:avLst/>
            <a:gdLst/>
            <a:ahLst/>
            <a:rect l="l" t="t" r="r" b="b"/>
            <a:pathLst>
              <a:path w="7872" h="5504">
                <a:moveTo>
                  <a:pt x="2160" y="5496"/>
                </a:moveTo>
                <a:cubicBezTo>
                  <a:pt x="2160" y="5501"/>
                  <a:pt x="2157" y="5504"/>
                  <a:pt x="2152" y="5504"/>
                </a:cubicBezTo>
                <a:lnTo>
                  <a:pt x="8" y="5504"/>
                </a:lnTo>
                <a:cubicBezTo>
                  <a:pt x="4" y="5504"/>
                  <a:pt x="0" y="5501"/>
                  <a:pt x="0" y="5496"/>
                </a:cubicBezTo>
                <a:lnTo>
                  <a:pt x="0" y="4520"/>
                </a:lnTo>
                <a:cubicBezTo>
                  <a:pt x="0" y="4516"/>
                  <a:pt x="4" y="4512"/>
                  <a:pt x="8" y="4512"/>
                </a:cubicBezTo>
                <a:lnTo>
                  <a:pt x="2152" y="4512"/>
                </a:lnTo>
                <a:cubicBezTo>
                  <a:pt x="2157" y="4512"/>
                  <a:pt x="2160" y="4516"/>
                  <a:pt x="2160" y="4520"/>
                </a:cubicBezTo>
                <a:lnTo>
                  <a:pt x="2160" y="5496"/>
                </a:lnTo>
                <a:close/>
                <a:moveTo>
                  <a:pt x="2144" y="4520"/>
                </a:moveTo>
                <a:lnTo>
                  <a:pt x="2152" y="4528"/>
                </a:lnTo>
                <a:lnTo>
                  <a:pt x="8" y="4528"/>
                </a:lnTo>
                <a:lnTo>
                  <a:pt x="16" y="4520"/>
                </a:lnTo>
                <a:lnTo>
                  <a:pt x="16" y="5496"/>
                </a:lnTo>
                <a:lnTo>
                  <a:pt x="8" y="5488"/>
                </a:lnTo>
                <a:lnTo>
                  <a:pt x="2152" y="5488"/>
                </a:lnTo>
                <a:lnTo>
                  <a:pt x="2144" y="5496"/>
                </a:lnTo>
                <a:lnTo>
                  <a:pt x="2144" y="4520"/>
                </a:lnTo>
                <a:close/>
                <a:moveTo>
                  <a:pt x="5728" y="4360"/>
                </a:moveTo>
                <a:cubicBezTo>
                  <a:pt x="5728" y="4365"/>
                  <a:pt x="5725" y="4368"/>
                  <a:pt x="5720" y="4368"/>
                </a:cubicBezTo>
                <a:lnTo>
                  <a:pt x="8" y="4368"/>
                </a:lnTo>
                <a:cubicBezTo>
                  <a:pt x="4" y="4368"/>
                  <a:pt x="0" y="4365"/>
                  <a:pt x="0" y="4360"/>
                </a:cubicBezTo>
                <a:lnTo>
                  <a:pt x="0" y="3400"/>
                </a:lnTo>
                <a:cubicBezTo>
                  <a:pt x="0" y="3396"/>
                  <a:pt x="4" y="3392"/>
                  <a:pt x="8" y="3392"/>
                </a:cubicBezTo>
                <a:lnTo>
                  <a:pt x="5720" y="3392"/>
                </a:lnTo>
                <a:cubicBezTo>
                  <a:pt x="5725" y="3392"/>
                  <a:pt x="5728" y="3396"/>
                  <a:pt x="5728" y="3400"/>
                </a:cubicBezTo>
                <a:lnTo>
                  <a:pt x="5728" y="4360"/>
                </a:lnTo>
                <a:close/>
                <a:moveTo>
                  <a:pt x="5712" y="3400"/>
                </a:moveTo>
                <a:lnTo>
                  <a:pt x="5720" y="3408"/>
                </a:lnTo>
                <a:lnTo>
                  <a:pt x="8" y="3408"/>
                </a:lnTo>
                <a:lnTo>
                  <a:pt x="16" y="3400"/>
                </a:lnTo>
                <a:lnTo>
                  <a:pt x="16" y="4360"/>
                </a:lnTo>
                <a:lnTo>
                  <a:pt x="8" y="4352"/>
                </a:lnTo>
                <a:lnTo>
                  <a:pt x="5720" y="4352"/>
                </a:lnTo>
                <a:lnTo>
                  <a:pt x="5712" y="4360"/>
                </a:lnTo>
                <a:lnTo>
                  <a:pt x="5712" y="3400"/>
                </a:lnTo>
                <a:close/>
                <a:moveTo>
                  <a:pt x="6080" y="3224"/>
                </a:moveTo>
                <a:cubicBezTo>
                  <a:pt x="6080" y="3229"/>
                  <a:pt x="6077" y="3232"/>
                  <a:pt x="6072" y="3232"/>
                </a:cubicBezTo>
                <a:lnTo>
                  <a:pt x="8" y="3232"/>
                </a:lnTo>
                <a:cubicBezTo>
                  <a:pt x="4" y="3232"/>
                  <a:pt x="0" y="3229"/>
                  <a:pt x="0" y="3224"/>
                </a:cubicBezTo>
                <a:lnTo>
                  <a:pt x="0" y="2264"/>
                </a:lnTo>
                <a:cubicBezTo>
                  <a:pt x="0" y="2260"/>
                  <a:pt x="4" y="2256"/>
                  <a:pt x="8" y="2256"/>
                </a:cubicBezTo>
                <a:lnTo>
                  <a:pt x="6072" y="2256"/>
                </a:lnTo>
                <a:cubicBezTo>
                  <a:pt x="6077" y="2256"/>
                  <a:pt x="6080" y="2260"/>
                  <a:pt x="6080" y="2264"/>
                </a:cubicBezTo>
                <a:lnTo>
                  <a:pt x="6080" y="3224"/>
                </a:lnTo>
                <a:close/>
                <a:moveTo>
                  <a:pt x="6064" y="2264"/>
                </a:moveTo>
                <a:lnTo>
                  <a:pt x="6072" y="2272"/>
                </a:lnTo>
                <a:lnTo>
                  <a:pt x="8" y="2272"/>
                </a:lnTo>
                <a:lnTo>
                  <a:pt x="16" y="2264"/>
                </a:lnTo>
                <a:lnTo>
                  <a:pt x="16" y="3224"/>
                </a:lnTo>
                <a:lnTo>
                  <a:pt x="8" y="3216"/>
                </a:lnTo>
                <a:lnTo>
                  <a:pt x="6072" y="3216"/>
                </a:lnTo>
                <a:lnTo>
                  <a:pt x="6064" y="3224"/>
                </a:lnTo>
                <a:lnTo>
                  <a:pt x="6064" y="2264"/>
                </a:lnTo>
                <a:close/>
                <a:moveTo>
                  <a:pt x="7152" y="2104"/>
                </a:moveTo>
                <a:cubicBezTo>
                  <a:pt x="7152" y="2109"/>
                  <a:pt x="7149" y="2112"/>
                  <a:pt x="7144" y="2112"/>
                </a:cubicBezTo>
                <a:lnTo>
                  <a:pt x="8" y="2112"/>
                </a:lnTo>
                <a:cubicBezTo>
                  <a:pt x="4" y="2112"/>
                  <a:pt x="0" y="2109"/>
                  <a:pt x="0" y="2104"/>
                </a:cubicBezTo>
                <a:lnTo>
                  <a:pt x="0" y="1128"/>
                </a:lnTo>
                <a:cubicBezTo>
                  <a:pt x="0" y="1124"/>
                  <a:pt x="4" y="1120"/>
                  <a:pt x="8" y="1120"/>
                </a:cubicBezTo>
                <a:lnTo>
                  <a:pt x="7144" y="1120"/>
                </a:lnTo>
                <a:cubicBezTo>
                  <a:pt x="7149" y="1120"/>
                  <a:pt x="7152" y="1124"/>
                  <a:pt x="7152" y="1128"/>
                </a:cubicBezTo>
                <a:lnTo>
                  <a:pt x="7152" y="2104"/>
                </a:lnTo>
                <a:close/>
                <a:moveTo>
                  <a:pt x="7136" y="1128"/>
                </a:moveTo>
                <a:lnTo>
                  <a:pt x="7144" y="1136"/>
                </a:lnTo>
                <a:lnTo>
                  <a:pt x="8" y="1136"/>
                </a:lnTo>
                <a:lnTo>
                  <a:pt x="16" y="1128"/>
                </a:lnTo>
                <a:lnTo>
                  <a:pt x="16" y="2104"/>
                </a:lnTo>
                <a:lnTo>
                  <a:pt x="8" y="2096"/>
                </a:lnTo>
                <a:lnTo>
                  <a:pt x="7144" y="2096"/>
                </a:lnTo>
                <a:lnTo>
                  <a:pt x="7136" y="2104"/>
                </a:lnTo>
                <a:lnTo>
                  <a:pt x="7136" y="1128"/>
                </a:lnTo>
                <a:close/>
                <a:moveTo>
                  <a:pt x="7872" y="968"/>
                </a:moveTo>
                <a:cubicBezTo>
                  <a:pt x="7872" y="973"/>
                  <a:pt x="7869" y="976"/>
                  <a:pt x="7864" y="976"/>
                </a:cubicBezTo>
                <a:lnTo>
                  <a:pt x="8" y="976"/>
                </a:lnTo>
                <a:cubicBezTo>
                  <a:pt x="4" y="976"/>
                  <a:pt x="0" y="973"/>
                  <a:pt x="0" y="968"/>
                </a:cubicBezTo>
                <a:lnTo>
                  <a:pt x="0" y="8"/>
                </a:lnTo>
                <a:cubicBezTo>
                  <a:pt x="0" y="4"/>
                  <a:pt x="4" y="0"/>
                  <a:pt x="8" y="0"/>
                </a:cubicBezTo>
                <a:lnTo>
                  <a:pt x="7864" y="0"/>
                </a:lnTo>
                <a:cubicBezTo>
                  <a:pt x="7869" y="0"/>
                  <a:pt x="7872" y="4"/>
                  <a:pt x="7872" y="8"/>
                </a:cubicBezTo>
                <a:lnTo>
                  <a:pt x="7872" y="968"/>
                </a:lnTo>
                <a:close/>
                <a:moveTo>
                  <a:pt x="7856" y="8"/>
                </a:moveTo>
                <a:lnTo>
                  <a:pt x="7864" y="16"/>
                </a:lnTo>
                <a:lnTo>
                  <a:pt x="8" y="16"/>
                </a:lnTo>
                <a:lnTo>
                  <a:pt x="16" y="8"/>
                </a:lnTo>
                <a:lnTo>
                  <a:pt x="16" y="968"/>
                </a:lnTo>
                <a:lnTo>
                  <a:pt x="8" y="960"/>
                </a:lnTo>
                <a:lnTo>
                  <a:pt x="7864" y="960"/>
                </a:lnTo>
                <a:lnTo>
                  <a:pt x="7856" y="968"/>
                </a:lnTo>
                <a:lnTo>
                  <a:pt x="7856" y="8"/>
                </a:lnTo>
                <a:close/>
              </a:path>
            </a:pathLst>
          </a:custGeom>
          <a:solidFill>
            <a:srgbClr val="f9f9f9"/>
          </a:solidFill>
          <a:ln w="0">
            <a:solidFill>
              <a:srgbClr val="f9f9f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45200" y="1938240"/>
            <a:ext cx="3495600" cy="2683080"/>
          </a:xfrm>
          <a:custGeom>
            <a:avLst/>
            <a:gdLst/>
            <a:ahLst/>
            <a:rect l="l" t="t" r="r" b="b"/>
            <a:pathLst>
              <a:path w="2202" h="1690">
                <a:moveTo>
                  <a:pt x="2202" y="1690"/>
                </a:moveTo>
                <a:lnTo>
                  <a:pt x="0" y="1690"/>
                </a:lnTo>
                <a:lnTo>
                  <a:pt x="0" y="1389"/>
                </a:lnTo>
                <a:lnTo>
                  <a:pt x="2202" y="1389"/>
                </a:lnTo>
                <a:lnTo>
                  <a:pt x="2202" y="1690"/>
                </a:lnTo>
                <a:close/>
                <a:moveTo>
                  <a:pt x="2202" y="1340"/>
                </a:moveTo>
                <a:lnTo>
                  <a:pt x="1098" y="1340"/>
                </a:lnTo>
                <a:lnTo>
                  <a:pt x="1098" y="1044"/>
                </a:lnTo>
                <a:lnTo>
                  <a:pt x="2202" y="1044"/>
                </a:lnTo>
                <a:lnTo>
                  <a:pt x="2202" y="1340"/>
                </a:lnTo>
                <a:close/>
                <a:moveTo>
                  <a:pt x="2202" y="990"/>
                </a:moveTo>
                <a:lnTo>
                  <a:pt x="1207" y="990"/>
                </a:lnTo>
                <a:lnTo>
                  <a:pt x="1207" y="695"/>
                </a:lnTo>
                <a:lnTo>
                  <a:pt x="2202" y="695"/>
                </a:lnTo>
                <a:lnTo>
                  <a:pt x="2202" y="990"/>
                </a:lnTo>
                <a:close/>
                <a:moveTo>
                  <a:pt x="2202" y="645"/>
                </a:moveTo>
                <a:lnTo>
                  <a:pt x="1537" y="645"/>
                </a:lnTo>
                <a:lnTo>
                  <a:pt x="1537" y="345"/>
                </a:lnTo>
                <a:lnTo>
                  <a:pt x="2202" y="345"/>
                </a:lnTo>
                <a:lnTo>
                  <a:pt x="2202" y="645"/>
                </a:lnTo>
                <a:close/>
                <a:moveTo>
                  <a:pt x="2202" y="296"/>
                </a:moveTo>
                <a:lnTo>
                  <a:pt x="1758" y="296"/>
                </a:lnTo>
                <a:lnTo>
                  <a:pt x="1758" y="0"/>
                </a:lnTo>
                <a:lnTo>
                  <a:pt x="2202" y="0"/>
                </a:lnTo>
                <a:lnTo>
                  <a:pt x="2202" y="296"/>
                </a:lnTo>
                <a:close/>
              </a:path>
            </a:pathLst>
          </a:custGeom>
          <a:solidFill>
            <a:srgbClr val="b9c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40160" y="1935000"/>
            <a:ext cx="3503880" cy="2689560"/>
          </a:xfrm>
          <a:custGeom>
            <a:avLst/>
            <a:gdLst/>
            <a:ahLst/>
            <a:rect l="l" t="t" r="r" b="b"/>
            <a:pathLst>
              <a:path w="7168" h="5504">
                <a:moveTo>
                  <a:pt x="7168" y="5496"/>
                </a:moveTo>
                <a:cubicBezTo>
                  <a:pt x="7168" y="5501"/>
                  <a:pt x="7165" y="5504"/>
                  <a:pt x="7160" y="5504"/>
                </a:cubicBezTo>
                <a:lnTo>
                  <a:pt x="8" y="5504"/>
                </a:lnTo>
                <a:cubicBezTo>
                  <a:pt x="4" y="5504"/>
                  <a:pt x="0" y="5501"/>
                  <a:pt x="0" y="5496"/>
                </a:cubicBezTo>
                <a:lnTo>
                  <a:pt x="0" y="4520"/>
                </a:lnTo>
                <a:cubicBezTo>
                  <a:pt x="0" y="4516"/>
                  <a:pt x="4" y="4512"/>
                  <a:pt x="8" y="4512"/>
                </a:cubicBezTo>
                <a:lnTo>
                  <a:pt x="7160" y="4512"/>
                </a:lnTo>
                <a:cubicBezTo>
                  <a:pt x="7165" y="4512"/>
                  <a:pt x="7168" y="4516"/>
                  <a:pt x="7168" y="4520"/>
                </a:cubicBezTo>
                <a:lnTo>
                  <a:pt x="7168" y="5496"/>
                </a:lnTo>
                <a:close/>
                <a:moveTo>
                  <a:pt x="7152" y="4520"/>
                </a:moveTo>
                <a:lnTo>
                  <a:pt x="7160" y="4528"/>
                </a:lnTo>
                <a:lnTo>
                  <a:pt x="8" y="4528"/>
                </a:lnTo>
                <a:lnTo>
                  <a:pt x="16" y="4520"/>
                </a:lnTo>
                <a:lnTo>
                  <a:pt x="16" y="5496"/>
                </a:lnTo>
                <a:lnTo>
                  <a:pt x="8" y="5488"/>
                </a:lnTo>
                <a:lnTo>
                  <a:pt x="7160" y="5488"/>
                </a:lnTo>
                <a:lnTo>
                  <a:pt x="7152" y="5496"/>
                </a:lnTo>
                <a:lnTo>
                  <a:pt x="7152" y="4520"/>
                </a:lnTo>
                <a:close/>
                <a:moveTo>
                  <a:pt x="7168" y="4360"/>
                </a:moveTo>
                <a:cubicBezTo>
                  <a:pt x="7168" y="4365"/>
                  <a:pt x="7165" y="4368"/>
                  <a:pt x="7160" y="4368"/>
                </a:cubicBezTo>
                <a:lnTo>
                  <a:pt x="3576" y="4368"/>
                </a:lnTo>
                <a:cubicBezTo>
                  <a:pt x="3572" y="4368"/>
                  <a:pt x="3568" y="4365"/>
                  <a:pt x="3568" y="4360"/>
                </a:cubicBezTo>
                <a:lnTo>
                  <a:pt x="3568" y="3400"/>
                </a:lnTo>
                <a:cubicBezTo>
                  <a:pt x="3568" y="3396"/>
                  <a:pt x="3572" y="3392"/>
                  <a:pt x="3576" y="3392"/>
                </a:cubicBezTo>
                <a:lnTo>
                  <a:pt x="7160" y="3392"/>
                </a:lnTo>
                <a:cubicBezTo>
                  <a:pt x="7165" y="3392"/>
                  <a:pt x="7168" y="3396"/>
                  <a:pt x="7168" y="3400"/>
                </a:cubicBezTo>
                <a:lnTo>
                  <a:pt x="7168" y="4360"/>
                </a:lnTo>
                <a:close/>
                <a:moveTo>
                  <a:pt x="7152" y="3400"/>
                </a:moveTo>
                <a:lnTo>
                  <a:pt x="7160" y="3408"/>
                </a:lnTo>
                <a:lnTo>
                  <a:pt x="3576" y="3408"/>
                </a:lnTo>
                <a:lnTo>
                  <a:pt x="3584" y="3400"/>
                </a:lnTo>
                <a:lnTo>
                  <a:pt x="3584" y="4360"/>
                </a:lnTo>
                <a:lnTo>
                  <a:pt x="3576" y="4352"/>
                </a:lnTo>
                <a:lnTo>
                  <a:pt x="7160" y="4352"/>
                </a:lnTo>
                <a:lnTo>
                  <a:pt x="7152" y="4360"/>
                </a:lnTo>
                <a:lnTo>
                  <a:pt x="7152" y="3400"/>
                </a:lnTo>
                <a:close/>
                <a:moveTo>
                  <a:pt x="7168" y="3224"/>
                </a:moveTo>
                <a:cubicBezTo>
                  <a:pt x="7168" y="3229"/>
                  <a:pt x="7165" y="3232"/>
                  <a:pt x="7160" y="3232"/>
                </a:cubicBezTo>
                <a:lnTo>
                  <a:pt x="3928" y="3232"/>
                </a:lnTo>
                <a:cubicBezTo>
                  <a:pt x="3924" y="3232"/>
                  <a:pt x="3920" y="3229"/>
                  <a:pt x="3920" y="3224"/>
                </a:cubicBezTo>
                <a:lnTo>
                  <a:pt x="3920" y="2264"/>
                </a:lnTo>
                <a:cubicBezTo>
                  <a:pt x="3920" y="2260"/>
                  <a:pt x="3924" y="2256"/>
                  <a:pt x="3928" y="2256"/>
                </a:cubicBezTo>
                <a:lnTo>
                  <a:pt x="7160" y="2256"/>
                </a:lnTo>
                <a:cubicBezTo>
                  <a:pt x="7165" y="2256"/>
                  <a:pt x="7168" y="2260"/>
                  <a:pt x="7168" y="2264"/>
                </a:cubicBezTo>
                <a:lnTo>
                  <a:pt x="7168" y="3224"/>
                </a:lnTo>
                <a:close/>
                <a:moveTo>
                  <a:pt x="7152" y="2264"/>
                </a:moveTo>
                <a:lnTo>
                  <a:pt x="7160" y="2272"/>
                </a:lnTo>
                <a:lnTo>
                  <a:pt x="3928" y="2272"/>
                </a:lnTo>
                <a:lnTo>
                  <a:pt x="3936" y="2264"/>
                </a:lnTo>
                <a:lnTo>
                  <a:pt x="3936" y="3224"/>
                </a:lnTo>
                <a:lnTo>
                  <a:pt x="3928" y="3216"/>
                </a:lnTo>
                <a:lnTo>
                  <a:pt x="7160" y="3216"/>
                </a:lnTo>
                <a:lnTo>
                  <a:pt x="7152" y="3224"/>
                </a:lnTo>
                <a:lnTo>
                  <a:pt x="7152" y="2264"/>
                </a:lnTo>
                <a:close/>
                <a:moveTo>
                  <a:pt x="7168" y="2104"/>
                </a:moveTo>
                <a:cubicBezTo>
                  <a:pt x="7168" y="2109"/>
                  <a:pt x="7165" y="2112"/>
                  <a:pt x="7160" y="2112"/>
                </a:cubicBezTo>
                <a:lnTo>
                  <a:pt x="5000" y="2112"/>
                </a:lnTo>
                <a:cubicBezTo>
                  <a:pt x="4996" y="2112"/>
                  <a:pt x="4992" y="2109"/>
                  <a:pt x="4992" y="2104"/>
                </a:cubicBezTo>
                <a:lnTo>
                  <a:pt x="4992" y="1128"/>
                </a:lnTo>
                <a:cubicBezTo>
                  <a:pt x="4992" y="1124"/>
                  <a:pt x="4996" y="1120"/>
                  <a:pt x="5000" y="1120"/>
                </a:cubicBezTo>
                <a:lnTo>
                  <a:pt x="7160" y="1120"/>
                </a:lnTo>
                <a:cubicBezTo>
                  <a:pt x="7165" y="1120"/>
                  <a:pt x="7168" y="1124"/>
                  <a:pt x="7168" y="1128"/>
                </a:cubicBezTo>
                <a:lnTo>
                  <a:pt x="7168" y="2104"/>
                </a:lnTo>
                <a:close/>
                <a:moveTo>
                  <a:pt x="7152" y="1128"/>
                </a:moveTo>
                <a:lnTo>
                  <a:pt x="7160" y="1136"/>
                </a:lnTo>
                <a:lnTo>
                  <a:pt x="5000" y="1136"/>
                </a:lnTo>
                <a:lnTo>
                  <a:pt x="5008" y="1128"/>
                </a:lnTo>
                <a:lnTo>
                  <a:pt x="5008" y="2104"/>
                </a:lnTo>
                <a:lnTo>
                  <a:pt x="5000" y="2096"/>
                </a:lnTo>
                <a:lnTo>
                  <a:pt x="7160" y="2096"/>
                </a:lnTo>
                <a:lnTo>
                  <a:pt x="7152" y="2104"/>
                </a:lnTo>
                <a:lnTo>
                  <a:pt x="7152" y="1128"/>
                </a:lnTo>
                <a:close/>
                <a:moveTo>
                  <a:pt x="7168" y="968"/>
                </a:moveTo>
                <a:cubicBezTo>
                  <a:pt x="7168" y="973"/>
                  <a:pt x="7165" y="976"/>
                  <a:pt x="7160" y="976"/>
                </a:cubicBezTo>
                <a:lnTo>
                  <a:pt x="5720" y="976"/>
                </a:lnTo>
                <a:cubicBezTo>
                  <a:pt x="5716" y="976"/>
                  <a:pt x="5712" y="973"/>
                  <a:pt x="5712" y="968"/>
                </a:cubicBezTo>
                <a:lnTo>
                  <a:pt x="5712" y="8"/>
                </a:lnTo>
                <a:cubicBezTo>
                  <a:pt x="5712" y="4"/>
                  <a:pt x="5716" y="0"/>
                  <a:pt x="5720" y="0"/>
                </a:cubicBezTo>
                <a:lnTo>
                  <a:pt x="7160" y="0"/>
                </a:lnTo>
                <a:cubicBezTo>
                  <a:pt x="7165" y="0"/>
                  <a:pt x="7168" y="4"/>
                  <a:pt x="7168" y="8"/>
                </a:cubicBezTo>
                <a:lnTo>
                  <a:pt x="7168" y="968"/>
                </a:lnTo>
                <a:close/>
                <a:moveTo>
                  <a:pt x="7152" y="8"/>
                </a:moveTo>
                <a:lnTo>
                  <a:pt x="7160" y="16"/>
                </a:lnTo>
                <a:lnTo>
                  <a:pt x="5720" y="16"/>
                </a:lnTo>
                <a:lnTo>
                  <a:pt x="5728" y="8"/>
                </a:lnTo>
                <a:lnTo>
                  <a:pt x="5728" y="968"/>
                </a:lnTo>
                <a:lnTo>
                  <a:pt x="5720" y="960"/>
                </a:lnTo>
                <a:lnTo>
                  <a:pt x="7160" y="960"/>
                </a:lnTo>
                <a:lnTo>
                  <a:pt x="7152" y="968"/>
                </a:lnTo>
                <a:lnTo>
                  <a:pt x="7152" y="8"/>
                </a:lnTo>
                <a:close/>
              </a:path>
            </a:pathLst>
          </a:custGeom>
          <a:solidFill>
            <a:srgbClr val="f9f9f9"/>
          </a:solidFill>
          <a:ln w="0">
            <a:solidFill>
              <a:srgbClr val="f9f9f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97240" y="5211720"/>
            <a:ext cx="4543560" cy="6480"/>
          </a:xfrm>
          <a:prstGeom prst="rect">
            <a:avLst/>
          </a:prstGeom>
          <a:solidFill>
            <a:srgbClr val="868686"/>
          </a:solidFill>
          <a:ln w="7920">
            <a:solidFill>
              <a:srgbClr val="8686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2560" y="1900080"/>
            <a:ext cx="7920" cy="3314880"/>
          </a:xfrm>
          <a:prstGeom prst="rect">
            <a:avLst/>
          </a:prstGeom>
          <a:solidFill>
            <a:srgbClr val="868686"/>
          </a:solidFill>
          <a:ln w="7920">
            <a:solidFill>
              <a:srgbClr val="86868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65560" y="5357880"/>
            <a:ext cx="172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8460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3856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9360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756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4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152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5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728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6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1124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7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76448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8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18440" y="535788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9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648640" y="5357880"/>
            <a:ext cx="316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10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22040" y="4303800"/>
            <a:ext cx="320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need guidance for reviewing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39600" y="4483080"/>
            <a:ext cx="1451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tervention logic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1080" y="3751200"/>
            <a:ext cx="360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see need for a new Thematic Wor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58120" y="393048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rou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1320" y="3198960"/>
            <a:ext cx="310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see a need on guidance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86080" y="3378240"/>
            <a:ext cx="229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on evaluation 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09240" y="2827440"/>
            <a:ext cx="2972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need guidance on data gap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84720" y="2093760"/>
            <a:ext cx="2393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aluators need support  for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62960" y="2273400"/>
            <a:ext cx="2812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easurement/assessment of impa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78560" y="5630760"/>
            <a:ext cx="219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cus groups (1 per Member St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93800" y="5268960"/>
            <a:ext cx="125640" cy="125280"/>
          </a:xfrm>
          <a:prstGeom prst="rect">
            <a:avLst/>
          </a:prstGeom>
          <a:solidFill>
            <a:srgbClr val="89a5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90560" y="5265720"/>
            <a:ext cx="131760" cy="133200"/>
          </a:xfrm>
          <a:custGeom>
            <a:avLst/>
            <a:gdLst/>
            <a:ahLst/>
            <a:rect l="l" t="t" r="r" b="b"/>
            <a:pathLst>
              <a:path w="272" h="272">
                <a:moveTo>
                  <a:pt x="0" y="8"/>
                </a:moveTo>
                <a:cubicBezTo>
                  <a:pt x="0" y="4"/>
                  <a:pt x="4" y="0"/>
                  <a:pt x="8" y="0"/>
                </a:cubicBezTo>
                <a:lnTo>
                  <a:pt x="264" y="0"/>
                </a:lnTo>
                <a:cubicBezTo>
                  <a:pt x="269" y="0"/>
                  <a:pt x="272" y="4"/>
                  <a:pt x="272" y="8"/>
                </a:cubicBezTo>
                <a:lnTo>
                  <a:pt x="272" y="264"/>
                </a:lnTo>
                <a:cubicBezTo>
                  <a:pt x="272" y="269"/>
                  <a:pt x="269" y="272"/>
                  <a:pt x="264" y="272"/>
                </a:cubicBezTo>
                <a:lnTo>
                  <a:pt x="8" y="272"/>
                </a:lnTo>
                <a:cubicBezTo>
                  <a:pt x="4" y="272"/>
                  <a:pt x="0" y="269"/>
                  <a:pt x="0" y="264"/>
                </a:cubicBezTo>
                <a:lnTo>
                  <a:pt x="0" y="8"/>
                </a:lnTo>
                <a:close/>
                <a:moveTo>
                  <a:pt x="16" y="264"/>
                </a:moveTo>
                <a:lnTo>
                  <a:pt x="8" y="256"/>
                </a:lnTo>
                <a:lnTo>
                  <a:pt x="264" y="256"/>
                </a:lnTo>
                <a:lnTo>
                  <a:pt x="256" y="264"/>
                </a:lnTo>
                <a:lnTo>
                  <a:pt x="256" y="8"/>
                </a:lnTo>
                <a:lnTo>
                  <a:pt x="264" y="16"/>
                </a:lnTo>
                <a:lnTo>
                  <a:pt x="8" y="16"/>
                </a:lnTo>
                <a:lnTo>
                  <a:pt x="16" y="8"/>
                </a:lnTo>
                <a:lnTo>
                  <a:pt x="16" y="264"/>
                </a:lnTo>
                <a:close/>
              </a:path>
            </a:pathLst>
          </a:custGeom>
          <a:solidFill>
            <a:srgbClr val="f9f9f9"/>
          </a:solidFill>
          <a:ln w="7920">
            <a:solidFill>
              <a:srgbClr val="f9f9f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07720" y="5197320"/>
            <a:ext cx="34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5880" y="5268960"/>
            <a:ext cx="131760" cy="125280"/>
          </a:xfrm>
          <a:prstGeom prst="rect">
            <a:avLst/>
          </a:prstGeom>
          <a:solidFill>
            <a:srgbClr val="b9cd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81200" y="5265720"/>
            <a:ext cx="141480" cy="133200"/>
          </a:xfrm>
          <a:custGeom>
            <a:avLst/>
            <a:gdLst/>
            <a:ahLst/>
            <a:rect l="l" t="t" r="r" b="b"/>
            <a:pathLst>
              <a:path w="288" h="272">
                <a:moveTo>
                  <a:pt x="0" y="8"/>
                </a:moveTo>
                <a:cubicBezTo>
                  <a:pt x="0" y="4"/>
                  <a:pt x="4" y="0"/>
                  <a:pt x="8" y="0"/>
                </a:cubicBezTo>
                <a:lnTo>
                  <a:pt x="280" y="0"/>
                </a:lnTo>
                <a:cubicBezTo>
                  <a:pt x="285" y="0"/>
                  <a:pt x="288" y="4"/>
                  <a:pt x="288" y="8"/>
                </a:cubicBezTo>
                <a:lnTo>
                  <a:pt x="288" y="264"/>
                </a:lnTo>
                <a:cubicBezTo>
                  <a:pt x="288" y="269"/>
                  <a:pt x="285" y="272"/>
                  <a:pt x="280" y="272"/>
                </a:cubicBezTo>
                <a:lnTo>
                  <a:pt x="8" y="272"/>
                </a:lnTo>
                <a:cubicBezTo>
                  <a:pt x="4" y="272"/>
                  <a:pt x="0" y="269"/>
                  <a:pt x="0" y="264"/>
                </a:cubicBezTo>
                <a:lnTo>
                  <a:pt x="0" y="8"/>
                </a:lnTo>
                <a:close/>
                <a:moveTo>
                  <a:pt x="16" y="264"/>
                </a:moveTo>
                <a:lnTo>
                  <a:pt x="8" y="256"/>
                </a:lnTo>
                <a:lnTo>
                  <a:pt x="280" y="256"/>
                </a:lnTo>
                <a:lnTo>
                  <a:pt x="272" y="264"/>
                </a:lnTo>
                <a:lnTo>
                  <a:pt x="272" y="8"/>
                </a:lnTo>
                <a:lnTo>
                  <a:pt x="280" y="16"/>
                </a:lnTo>
                <a:lnTo>
                  <a:pt x="8" y="16"/>
                </a:lnTo>
                <a:lnTo>
                  <a:pt x="16" y="8"/>
                </a:lnTo>
                <a:lnTo>
                  <a:pt x="16" y="264"/>
                </a:lnTo>
                <a:close/>
              </a:path>
            </a:pathLst>
          </a:custGeom>
          <a:solidFill>
            <a:srgbClr val="f9f9f9"/>
          </a:solidFill>
          <a:ln w="7920">
            <a:solidFill>
              <a:srgbClr val="f9f9f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58040" y="5197320"/>
            <a:ext cx="316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6667" t="6667" r="-0" b="10000"/>
          <a:stretch/>
        </p:blipFill>
        <p:spPr>
          <a:xfrm>
            <a:off x="-2438280" y="1676520"/>
            <a:ext cx="10667880" cy="56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36B1-C5EC-4F85-909E-A4E1ED3C9B9C}" type="slidenum">
              <a:t>6</a:t>
            </a:fld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assessment of RD impact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sessing impacts at an early stage of programme imple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and implementing the CMEF impact indica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>
            <a:grayscl/>
            <a:lum contrast="-6000"/>
          </a:blip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4038480" y="1523880"/>
            <a:ext cx="2362320" cy="4038840"/>
            <a:chOff x="4038480" y="1523880"/>
            <a:chExt cx="2362320" cy="4038840"/>
          </a:xfrm>
        </p:grpSpPr>
        <p:sp>
          <p:nvSpPr>
            <p:cNvPr id="98" name=""/>
            <p:cNvSpPr/>
            <p:nvPr/>
          </p:nvSpPr>
          <p:spPr>
            <a:xfrm>
              <a:off x="4114800" y="4572000"/>
              <a:ext cx="2286000" cy="990720"/>
            </a:xfrm>
            <a:prstGeom prst="wedgeRoundRectCallout">
              <a:avLst>
                <a:gd name="adj1" fmla="val -29097"/>
                <a:gd name="adj2" fmla="val 96634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The 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RDP is at a very early stage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 of implementation (…)  with the exception of the measures continued from the past period (axis 2 mesures)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38480" y="1523880"/>
              <a:ext cx="2286000" cy="1447920"/>
            </a:xfrm>
            <a:prstGeom prst="wedgeRoundRectCallout">
              <a:avLst>
                <a:gd name="adj1" fmla="val -86666"/>
                <a:gd name="adj2" fmla="val 6138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There is a clear focus on effects but the 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RDP has not yet provided a great number of effects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. Rather, this evaluation should focus on how projects and processes are established and how they can be integrated in their contexts and in the programme structure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685800" y="1600200"/>
            <a:ext cx="2286000" cy="4572000"/>
            <a:chOff x="685800" y="1600200"/>
            <a:chExt cx="2286000" cy="4572000"/>
          </a:xfrm>
        </p:grpSpPr>
        <p:sp>
          <p:nvSpPr>
            <p:cNvPr id="101" name=""/>
            <p:cNvSpPr/>
            <p:nvPr/>
          </p:nvSpPr>
          <p:spPr>
            <a:xfrm>
              <a:off x="685800" y="5105520"/>
              <a:ext cx="2286000" cy="1066680"/>
            </a:xfrm>
            <a:prstGeom prst="wedgeRoundRectCallout">
              <a:avLst>
                <a:gd name="adj1" fmla="val 12847"/>
                <a:gd name="adj2" fmla="val -166962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oubt about whether CMEF offers the 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right indicators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…</a:t>
              </a:r>
              <a:br>
                <a:rPr sz="1000"/>
              </a:b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tervention logics should indicate 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ll regional causal relationships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not only RDP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5800" y="1600200"/>
              <a:ext cx="2286000" cy="1295280"/>
            </a:xfrm>
            <a:prstGeom prst="wedgeRoundRectCallout">
              <a:avLst>
                <a:gd name="adj1" fmla="val -47083"/>
                <a:gd name="adj2" fmla="val 79166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There is a need to demonstrate the wider relevance and 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importance of impact assessment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 and evaluation to beneficiaries in order to encourage their participation and strengthen their input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162A-E43B-443C-AAA7-B12BD8851B81}" type="slidenum">
              <a:t>7</a:t>
            </a:fld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 assessment of RD impact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vercoming methodological problems in assessing the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per scale and aggregation of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304920" y="2209680"/>
            <a:ext cx="6019560" cy="3200400"/>
            <a:chOff x="304920" y="2209680"/>
            <a:chExt cx="6019560" cy="3200400"/>
          </a:xfrm>
        </p:grpSpPr>
        <p:sp>
          <p:nvSpPr>
            <p:cNvPr id="107" name=""/>
            <p:cNvSpPr/>
            <p:nvPr/>
          </p:nvSpPr>
          <p:spPr>
            <a:xfrm>
              <a:off x="4038480" y="3581280"/>
              <a:ext cx="2286000" cy="1143000"/>
            </a:xfrm>
            <a:prstGeom prst="wedgeRoundRectCallout">
              <a:avLst>
                <a:gd name="adj1" fmla="val -82361"/>
                <a:gd name="adj2" fmla="val 22083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t which level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should impacts be calculated? sectoral? or for the whole national economy? at the level of a holding or for the whole sector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0880" y="2209680"/>
              <a:ext cx="2286000" cy="838440"/>
            </a:xfrm>
            <a:prstGeom prst="wedgeRoundRectCallout">
              <a:avLst>
                <a:gd name="adj1" fmla="val 32499"/>
                <a:gd name="adj2" fmla="val 134467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aggregate impacts at programme level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estimated by measurements at case study level or regional level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4920" y="4800600"/>
              <a:ext cx="2286000" cy="609480"/>
            </a:xfrm>
            <a:prstGeom prst="wedgeRoundRectCallout">
              <a:avLst>
                <a:gd name="adj1" fmla="val 31458"/>
                <a:gd name="adj2" fmla="val -182291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pass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from case study to regional assessment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447920" y="1523880"/>
            <a:ext cx="4876560" cy="4800600"/>
            <a:chOff x="1447920" y="1523880"/>
            <a:chExt cx="4876560" cy="4800600"/>
          </a:xfrm>
        </p:grpSpPr>
        <p:sp>
          <p:nvSpPr>
            <p:cNvPr id="111" name=""/>
            <p:cNvSpPr/>
            <p:nvPr/>
          </p:nvSpPr>
          <p:spPr>
            <a:xfrm>
              <a:off x="4038480" y="5562720"/>
              <a:ext cx="2286000" cy="685800"/>
            </a:xfrm>
            <a:prstGeom prst="wedgeRoundRectCallout">
              <a:avLst>
                <a:gd name="adj1" fmla="val -79444"/>
                <a:gd name="adj2" fmla="val -168981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separate RDP effects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from effects of other programmes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0920" y="1523880"/>
              <a:ext cx="1981080" cy="685800"/>
            </a:xfrm>
            <a:prstGeom prst="wedgeRoundRectCallout">
              <a:avLst>
                <a:gd name="adj1" fmla="val -64180"/>
                <a:gd name="adj2" fmla="val 328472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isolate the effect of a specific measure/axis 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n the evolution of one impact indicator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19720" y="2133720"/>
              <a:ext cx="1904760" cy="1143000"/>
            </a:xfrm>
            <a:prstGeom prst="wedgeRoundRectCallout">
              <a:avLst>
                <a:gd name="adj1" fmla="val -67083"/>
                <a:gd name="adj2" fmla="val 18055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net out deadweight, displacement and multiplier effects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to obtain net additional value for economic indicators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47920" y="5638680"/>
              <a:ext cx="1828800" cy="685800"/>
            </a:xfrm>
            <a:prstGeom prst="wedgeRoundRectCallout">
              <a:avLst>
                <a:gd name="adj1" fmla="val 30990"/>
                <a:gd name="adj2" fmla="val -120601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w to measure the </a:t>
              </a:r>
              <a:r>
                <a:rPr b="1" i="1" lang="en-GB" sz="1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impact in the same year</a:t>
              </a:r>
              <a:r>
                <a:rPr b="1" i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of the payment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FFF9-78D0-4DD2-9892-67F1BC1AA6DA}" type="slidenum">
              <a:t>8</a:t>
            </a:fld>
          </a:p>
        </p:txBody>
      </p:sp>
    </p:spTree>
  </p:cSld>
  <p:transition>
    <p:pull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9b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FG results: </a:t>
            </a:r>
            <a:br>
              <a:rPr sz="3400"/>
            </a:br>
            <a:r>
              <a:rPr b="1" lang="en-GB" sz="3400" spc="-1" strike="noStrike">
                <a:solidFill>
                  <a:srgbClr val="006463"/>
                </a:solidFill>
                <a:latin typeface="Arial"/>
              </a:rPr>
              <a:t>assessment of RD impacts</a:t>
            </a:r>
            <a:endParaRPr b="1" lang="en-US" sz="3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476760" y="1600200"/>
            <a:ext cx="251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  <a:ea typeface="Times New Roman"/>
              </a:rPr>
              <a:t>Challenges /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ing further specific analytical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1138" t="21691" r="2318" b="11170"/>
          <a:stretch/>
        </p:blipFill>
        <p:spPr>
          <a:xfrm>
            <a:off x="0" y="1447920"/>
            <a:ext cx="6477120" cy="49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228600" y="1523880"/>
            <a:ext cx="6172200" cy="4419720"/>
            <a:chOff x="228600" y="1523880"/>
            <a:chExt cx="6172200" cy="4419720"/>
          </a:xfrm>
        </p:grpSpPr>
        <p:grpSp>
          <p:nvGrpSpPr>
            <p:cNvPr id="119" name=""/>
            <p:cNvGrpSpPr/>
            <p:nvPr/>
          </p:nvGrpSpPr>
          <p:grpSpPr>
            <a:xfrm>
              <a:off x="228600" y="1600200"/>
              <a:ext cx="6172200" cy="4343400"/>
              <a:chOff x="228600" y="1600200"/>
              <a:chExt cx="6172200" cy="4343400"/>
            </a:xfrm>
          </p:grpSpPr>
          <p:sp>
            <p:nvSpPr>
              <p:cNvPr id="120" name=""/>
              <p:cNvSpPr/>
              <p:nvPr/>
            </p:nvSpPr>
            <p:spPr>
              <a:xfrm>
                <a:off x="4114800" y="4876920"/>
                <a:ext cx="2286000" cy="685800"/>
              </a:xfrm>
              <a:prstGeom prst="wedgeRoundRectCallout">
                <a:avLst>
                  <a:gd name="adj1" fmla="val 40416"/>
                  <a:gd name="adj2" fmla="val 137731"/>
                  <a:gd name="adj3" fmla="val 16667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There is a need for support on how to use </a:t>
                </a: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</a:rPr>
                  <a:t>GIS for environmental indicators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600" y="1600200"/>
                <a:ext cx="2286000" cy="990720"/>
              </a:xfrm>
              <a:prstGeom prst="wedgeRoundRectCallout">
                <a:avLst>
                  <a:gd name="adj1" fmla="val 80555"/>
                  <a:gd name="adj2" fmla="val -5129"/>
                  <a:gd name="adj3" fmla="val 16667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</a:rPr>
                  <a:t>Regression analysis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 is used for 3 economic impact indicators and gives advantage to measure net effects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276720" y="3124080"/>
                <a:ext cx="2286000" cy="838440"/>
              </a:xfrm>
              <a:prstGeom prst="wedgeRoundRectCallout">
                <a:avLst>
                  <a:gd name="adj1" fmla="val -95416"/>
                  <a:gd name="adj2" fmla="val 25379"/>
                  <a:gd name="adj3" fmla="val 16667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“</a:t>
                </a:r>
                <a:r>
                  <a:rPr b="1" i="1" lang="en-GB" sz="10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Shift and share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” analysis is used for the measurement of the 3 economic impact indicators.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85800" y="5105520"/>
                <a:ext cx="2286000" cy="838080"/>
              </a:xfrm>
              <a:prstGeom prst="wedgeRoundRectCallout">
                <a:avLst>
                  <a:gd name="adj1" fmla="val 14791"/>
                  <a:gd name="adj2" fmla="val -182574"/>
                  <a:gd name="adj3" fmla="val 16667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ffffff"/>
                    </a:solidFill>
                    <a:latin typeface="Arial"/>
                    <a:ea typeface="Times New Roman"/>
                  </a:rPr>
                  <a:t>GIS analysis</a:t>
                </a:r>
                <a:r>
                  <a:rPr b="1" i="1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at very low scale of all indicators contributing to biodiversity could provide very useful additional information to impact indicator 4 .</a:t>
                </a: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114800" y="1523880"/>
              <a:ext cx="2286000" cy="838440"/>
            </a:xfrm>
            <a:prstGeom prst="wedgeRoundRectCallout">
              <a:avLst>
                <a:gd name="adj1" fmla="val -48125"/>
                <a:gd name="adj2" fmla="val 112879"/>
                <a:gd name="adj3" fmla="val 16667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Cross-checking against 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counterfactual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 situation: how to build up comparable control groups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305E-2C85-4CD1-919A-A97AA0BCC50B}" type="slidenum">
              <a:t>9</a:t>
            </a:fld>
          </a:p>
        </p:txBody>
      </p:sp>
    </p:spTree>
  </p:cSld>
  <p:transition>
    <p:pull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19:40:08Z</dcterms:created>
  <dc:creator>Hannes Wimmer</dc:creator>
  <dc:description/>
  <dc:language>en-US</dc:language>
  <cp:lastModifiedBy>zaoujjo</cp:lastModifiedBy>
  <dcterms:modified xsi:type="dcterms:W3CDTF">2009-12-08T08:34:50Z</dcterms:modified>
  <cp:revision>188</cp:revision>
  <dc:subject/>
  <dc:title>Needs Assessment 2009</dc:title>
</cp:coreProperties>
</file>