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83B30-9D55-4944-96E0-93A290B5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373932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49906-4B8E-4800-85E7-339C2843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DDF75-BDCA-40E4-9F9F-1B2C326F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C221F-4EA8-4A40-8182-6D2C4628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B9892-A813-42E5-8755-67809FCC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2A960-DCAB-463F-B997-C9FFC91D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20F67-1B04-47F0-86AF-6C5C55DC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DF2B5-A29D-44C8-AE55-4BAC62FC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0322E-55C7-4C1E-8B85-05CBCED0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549000"/>
            <a:ext cx="7772400" cy="45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BE3E2-1D88-4714-9869-3F6A9109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5581F-DB36-498C-8D74-E3A99E1A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03328-AFD7-42A9-AEB6-8DD16F57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5B7B3-09F7-44E4-A714-79507AA6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1F8BB-75EC-4B85-8A60-FBBB4382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373932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31668-FB27-4D7A-BF6F-F1A297D4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DACF9-0D40-480C-B1C3-A7F50E78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C8460-7A91-4022-8280-D7BAE994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C2774-0B15-4878-BAEC-41963B8D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DB3CC-3799-4A83-A793-F6724DA9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6C5BF-2AC2-4931-97C0-2F9B4862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549000"/>
            <a:ext cx="7772400" cy="45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E8ECE-599D-4302-9677-9148BE2F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48056-153D-4B6F-BF35-6E8101D0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0C9C9-7C76-43A6-B2BB-E5009DE9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64DD0-C525-4621-ABA1-1B8DE002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50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4d4d4d"/>
                </a:solidFill>
                <a:latin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580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AE3C-BB5D-4B85-8D1B-D635D1D0EFE6}" type="slidenum">
              <a:rPr b="0" lang="sv-SE" sz="1000" spc="-1" strike="noStrike">
                <a:solidFill>
                  <a:srgbClr val="4d4d4d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7CF6-3064-4079-A77E-CA5A036367F6}" type="datetime">
              <a:rPr b="0" lang="sv-SE" sz="1000" spc="-1" strike="noStrike">
                <a:solidFill>
                  <a:srgbClr val="4d4d4d"/>
                </a:solidFill>
                <a:latin typeface="Arial Unicode MS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143000" cy="9666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0" y="5183280"/>
            <a:ext cx="1295280" cy="12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4d4d4d"/>
                </a:solidFill>
                <a:latin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E715-282F-4346-8AB4-38A665CB6A0A}" type="slidenum">
              <a:rPr b="0" lang="sv-SE" sz="1000" spc="-1" strike="noStrike">
                <a:solidFill>
                  <a:srgbClr val="4d4d4d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1E8E-62E8-426D-B35A-F9DE1A014647}" type="datetime">
              <a:rPr b="0" lang="sv-SE" sz="1000" spc="-1" strike="noStrike">
                <a:solidFill>
                  <a:srgbClr val="4d4d4d"/>
                </a:solidFill>
                <a:latin typeface="Arial Unicode MS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143000" cy="966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0" y="5183280"/>
            <a:ext cx="1295280" cy="1217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17480" y="609480"/>
            <a:ext cx="72450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 Unicode MS"/>
              </a:rPr>
              <a:t>The Swedish Board of Agricultur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"/>
          <p:cNvSpPr/>
          <p:nvPr/>
        </p:nvSpPr>
        <p:spPr>
          <a:xfrm>
            <a:off x="2502000" y="1865160"/>
            <a:ext cx="550548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 Unicode MS"/>
              </a:rPr>
              <a:t>Per Per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 Unicode MS"/>
              </a:rPr>
              <a:t>The Swedish Board of Agri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Jordbruksverket 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551 82  Jönköping 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SWEDEN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Telephone: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+46 (0)36-15 50 00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Fax: +46 (0)36-19 05 46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Email: </a:t>
            </a:r>
            <a:r>
              <a:rPr b="0" lang="sv-SE" sz="2400" spc="-1" strike="noStrike">
                <a:solidFill>
                  <a:srgbClr val="3333cc"/>
                </a:solidFill>
                <a:latin typeface="Arial Unicode MS"/>
              </a:rPr>
              <a:t>jordbruksverket@sjv.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1BA0E1C2-012D-4C0C-919B-67A8242F54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ituations before – after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ystem with no control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08400" y="2392200"/>
            <a:ext cx="0" cy="34149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00480" y="5797440"/>
            <a:ext cx="5165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70600" y="4319640"/>
            <a:ext cx="0" cy="147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60880" y="4313160"/>
            <a:ext cx="130176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92880" y="4189320"/>
            <a:ext cx="103320" cy="122400"/>
          </a:xfrm>
          <a:custGeom>
            <a:avLst/>
            <a:gdLst>
              <a:gd name="textAreaLeft" fmla="*/ 0 w 103320"/>
              <a:gd name="textAreaRight" fmla="*/ 37440 w 103320"/>
              <a:gd name="textAreaTop" fmla="*/ 2880 h 122400"/>
              <a:gd name="textAreaBottom" fmla="*/ 119520 h 1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775040" y="3052800"/>
            <a:ext cx="1315800" cy="920880"/>
            <a:chOff x="4775040" y="3052800"/>
            <a:chExt cx="1315800" cy="920880"/>
          </a:xfrm>
        </p:grpSpPr>
        <p:sp>
          <p:nvSpPr>
            <p:cNvPr id="260" name=""/>
            <p:cNvSpPr/>
            <p:nvPr/>
          </p:nvSpPr>
          <p:spPr>
            <a:xfrm>
              <a:off x="4775040" y="3052800"/>
              <a:ext cx="1315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gress with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94120" y="3325680"/>
              <a:ext cx="21888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5214960" y="4876920"/>
            <a:ext cx="9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dc4c04"/>
                </a:solidFill>
                <a:latin typeface="Arial"/>
              </a:rPr>
              <a:t>Last registered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6160" y="4341960"/>
            <a:ext cx="3240" cy="542880"/>
          </a:xfrm>
          <a:prstGeom prst="line">
            <a:avLst/>
          </a:prstGeom>
          <a:ln w="12600">
            <a:solidFill>
              <a:srgbClr val="ff66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213000" y="3521160"/>
            <a:ext cx="968400" cy="836640"/>
            <a:chOff x="3213000" y="3521160"/>
            <a:chExt cx="968400" cy="836640"/>
          </a:xfrm>
        </p:grpSpPr>
        <p:sp>
          <p:nvSpPr>
            <p:cNvPr id="265" name=""/>
            <p:cNvSpPr/>
            <p:nvPr/>
          </p:nvSpPr>
          <p:spPr>
            <a:xfrm>
              <a:off x="3213000" y="3521160"/>
              <a:ext cx="96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neral prog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22760" y="3976920"/>
              <a:ext cx="1540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7000920" y="394668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0000"/>
                </a:solidFill>
                <a:latin typeface="Arial"/>
              </a:rPr>
              <a:t>Deadwe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99120" y="415908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External eff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4160" y="1863720"/>
            <a:ext cx="112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onomic prog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35360" y="5964120"/>
            <a:ext cx="10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02400" y="564660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084640" y="3850920"/>
            <a:ext cx="1303560" cy="453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072040" y="4020840"/>
            <a:ext cx="1303200" cy="2919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3863880"/>
            <a:ext cx="112680" cy="163440"/>
          </a:xfrm>
          <a:custGeom>
            <a:avLst/>
            <a:gdLst>
              <a:gd name="textAreaLeft" fmla="*/ 0 w 112680"/>
              <a:gd name="textAreaRight" fmla="*/ 40680 w 112680"/>
              <a:gd name="textAreaTop" fmla="*/ 3960 h 163440"/>
              <a:gd name="textAreaBottom" fmla="*/ 15948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91440" y="4027320"/>
            <a:ext cx="112680" cy="146160"/>
          </a:xfrm>
          <a:custGeom>
            <a:avLst/>
            <a:gdLst>
              <a:gd name="textAreaLeft" fmla="*/ 0 w 112680"/>
              <a:gd name="textAreaRight" fmla="*/ 40680 w 112680"/>
              <a:gd name="textAreaTop" fmla="*/ 3600 h 146160"/>
              <a:gd name="textAreaBottom" fmla="*/ 142560 h 14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97680" y="372744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Effect of the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6320" y="4098960"/>
            <a:ext cx="5176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39040" y="4260960"/>
            <a:ext cx="492120" cy="5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540480" y="3873240"/>
            <a:ext cx="51588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24520" y="5784840"/>
            <a:ext cx="9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ff"/>
                </a:solidFill>
                <a:latin typeface="Arial"/>
              </a:rPr>
              <a:t>Full eff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67320" y="4305240"/>
            <a:ext cx="0" cy="146700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422440" y="4205160"/>
            <a:ext cx="3957840" cy="33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FB1C66-26A1-4975-84FE-7E451406CE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63440" y="1903320"/>
            <a:ext cx="877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763F4A7B-A656-4FEE-9BCD-A3BC09155EC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implified scheme of the organization of the evaluation work in Sw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28960" y="1971720"/>
            <a:ext cx="0" cy="332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28960" y="5286240"/>
            <a:ext cx="6686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8200" y="2451240"/>
            <a:ext cx="16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ff"/>
                </a:solidFill>
                <a:latin typeface="Arial"/>
              </a:rPr>
              <a:t>Special appointed evalu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680" y="3917880"/>
            <a:ext cx="16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he Swedish Board of Agri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2896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5343480"/>
            <a:ext cx="87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1468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5772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0076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43440" y="5343480"/>
            <a:ext cx="87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8648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2952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0760" y="510552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57720" y="512460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14680" y="511488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5105520"/>
            <a:ext cx="0" cy="18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3440" y="5105520"/>
            <a:ext cx="0" cy="18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86480" y="512460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29520" y="511488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72560" y="513396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30400" y="2641680"/>
            <a:ext cx="363600" cy="52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x 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7640" y="2641680"/>
            <a:ext cx="916200" cy="534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id-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9440" y="2641680"/>
            <a:ext cx="744840" cy="534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x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16080" y="4156200"/>
            <a:ext cx="13543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Monitorin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028960" y="4152960"/>
            <a:ext cx="6076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038320" y="4695840"/>
            <a:ext cx="606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97400" y="4156200"/>
            <a:ext cx="22208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data collect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26160" y="4156200"/>
            <a:ext cx="25160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descriptive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D9611B-AD38-47FD-953F-C01FFC99619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97120" y="250920"/>
            <a:ext cx="70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Mid-term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33320" y="1181160"/>
            <a:ext cx="8201160" cy="4943520"/>
            <a:chOff x="733320" y="1181160"/>
            <a:chExt cx="8201160" cy="4943520"/>
          </a:xfrm>
        </p:grpSpPr>
        <p:sp>
          <p:nvSpPr>
            <p:cNvPr id="121" name=""/>
            <p:cNvSpPr/>
            <p:nvPr/>
          </p:nvSpPr>
          <p:spPr>
            <a:xfrm>
              <a:off x="2300400" y="1181160"/>
              <a:ext cx="49114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000000"/>
                  </a:solidFill>
                  <a:latin typeface="Arial"/>
                </a:rPr>
                <a:t>Swedish Ministry of Agricul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3320" y="2971800"/>
              <a:ext cx="2421000" cy="256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Swedish Board of Agriculture (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Coordination Divisio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Assistant Team/Data s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Enterprise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Project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Leader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Training/information meas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81280" y="2971800"/>
              <a:ext cx="3416400" cy="2466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Swedish University of Agricultural Sciences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(Department of Economic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Coordin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Group for axis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Group for axis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Group for axis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Group for axis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11400" y="4044960"/>
              <a:ext cx="925560" cy="216000"/>
            </a:xfrm>
            <a:prstGeom prst="leftArrow">
              <a:avLst>
                <a:gd name="adj1" fmla="val 50000"/>
                <a:gd name="adj2" fmla="val 107125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11400" y="4834080"/>
              <a:ext cx="997200" cy="214200"/>
            </a:xfrm>
            <a:prstGeom prst="rightArrow">
              <a:avLst>
                <a:gd name="adj1" fmla="val 50000"/>
                <a:gd name="adj2" fmla="val 11638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22760" y="2184480"/>
              <a:ext cx="2136600" cy="3682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Arial"/>
                </a:rPr>
                <a:t>Mid-term Evalu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3320" y="2184480"/>
              <a:ext cx="2278080" cy="642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istrator of R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67080" y="2039760"/>
              <a:ext cx="0" cy="40849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40600" y="2039760"/>
              <a:ext cx="0" cy="40658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67760" y="4159080"/>
              <a:ext cx="1566720" cy="520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Statistics Sweden (SC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49640" y="5780160"/>
              <a:ext cx="238932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Case studies, surveys et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15040" y="4332240"/>
              <a:ext cx="1138320" cy="214200"/>
            </a:xfrm>
            <a:prstGeom prst="leftArrow">
              <a:avLst>
                <a:gd name="adj1" fmla="val 50000"/>
                <a:gd name="adj2" fmla="val 13285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76640" y="5135400"/>
              <a:ext cx="212760" cy="644760"/>
            </a:xfrm>
            <a:prstGeom prst="upArrow">
              <a:avLst>
                <a:gd name="adj1" fmla="val 50000"/>
                <a:gd name="adj2" fmla="val 75761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59360" y="1687680"/>
              <a:ext cx="568440" cy="1350720"/>
            </a:xfrm>
            <a:prstGeom prst="upArrow">
              <a:avLst>
                <a:gd name="adj1" fmla="val 50000"/>
                <a:gd name="adj2" fmla="val 5940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5493960" y="2111400"/>
              <a:ext cx="131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MTE-re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4960" y="3692520"/>
              <a:ext cx="2206440" cy="1806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79880" y="3549600"/>
              <a:ext cx="1779480" cy="158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71B1C2-F2EC-49A6-B78C-630078534D36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065400" y="128520"/>
          <a:ext cx="4322880" cy="622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5400" y="128520"/>
                    <a:ext cx="4322880" cy="622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C5CF86-E644-4835-BE14-0F34597247B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107120" y="226044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County Bo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22960" y="3265560"/>
            <a:ext cx="17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he Swedish Board of Agri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749600" y="615960"/>
            <a:ext cx="5303160" cy="5484600"/>
            <a:chOff x="1749600" y="615960"/>
            <a:chExt cx="5303160" cy="5484600"/>
          </a:xfrm>
        </p:grpSpPr>
        <p:sp>
          <p:nvSpPr>
            <p:cNvPr id="143" name=""/>
            <p:cNvSpPr/>
            <p:nvPr/>
          </p:nvSpPr>
          <p:spPr>
            <a:xfrm>
              <a:off x="3554280" y="615960"/>
              <a:ext cx="3429000" cy="97272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LFA, Agri-environ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211, 212, 2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49600" y="615960"/>
              <a:ext cx="1800360" cy="97128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Investm. sup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Project sup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66760" y="1585800"/>
              <a:ext cx="903960" cy="521640"/>
            </a:xfrm>
            <a:prstGeom prst="downArrow">
              <a:avLst>
                <a:gd name="adj1" fmla="val 57056"/>
                <a:gd name="adj2" fmla="val 572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37320" y="1585800"/>
              <a:ext cx="903960" cy="521640"/>
            </a:xfrm>
            <a:prstGeom prst="downArrow">
              <a:avLst>
                <a:gd name="adj1" fmla="val 57056"/>
                <a:gd name="adj2" fmla="val 572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93520" y="2143440"/>
              <a:ext cx="3372480" cy="66996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Scan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92800" y="2143440"/>
              <a:ext cx="1717920" cy="66996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nual hand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17200" y="2814480"/>
              <a:ext cx="516960" cy="522000"/>
            </a:xfrm>
            <a:prstGeom prst="downArrow">
              <a:avLst>
                <a:gd name="adj1" fmla="val 57056"/>
                <a:gd name="adj2" fmla="val 57780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8160" y="3372120"/>
              <a:ext cx="1206360" cy="66960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LB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(databa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06000" y="2815920"/>
              <a:ext cx="903960" cy="522000"/>
            </a:xfrm>
            <a:prstGeom prst="downArrow">
              <a:avLst>
                <a:gd name="adj1" fmla="val 57056"/>
                <a:gd name="adj2" fmla="val 572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32400" y="3373560"/>
              <a:ext cx="3372480" cy="66996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ARARAT (databa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53880" y="4046400"/>
              <a:ext cx="903600" cy="522000"/>
            </a:xfrm>
            <a:prstGeom prst="downArrow">
              <a:avLst>
                <a:gd name="adj1" fmla="val 57056"/>
                <a:gd name="adj2" fmla="val 572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80280" y="4604040"/>
              <a:ext cx="3372480" cy="66960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For evaluation (Daw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50680" y="2815920"/>
              <a:ext cx="516960" cy="1759680"/>
            </a:xfrm>
            <a:prstGeom prst="downArrow">
              <a:avLst>
                <a:gd name="adj1" fmla="val 54065"/>
                <a:gd name="adj2" fmla="val 589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33040" y="4044960"/>
              <a:ext cx="516960" cy="522000"/>
            </a:xfrm>
            <a:prstGeom prst="downArrow">
              <a:avLst>
                <a:gd name="adj1" fmla="val 57056"/>
                <a:gd name="adj2" fmla="val 57780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15840" y="4602240"/>
              <a:ext cx="1694880" cy="66996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EVA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(databa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49000" y="5281200"/>
              <a:ext cx="517320" cy="522000"/>
            </a:xfrm>
            <a:prstGeom prst="downArrow">
              <a:avLst>
                <a:gd name="adj1" fmla="val 57056"/>
                <a:gd name="adj2" fmla="val 57740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28800" y="5763240"/>
              <a:ext cx="163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Daw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7108920" y="665280"/>
            <a:ext cx="16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Farmer / entrepren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FDB3AF-CFD4-4482-926B-8023B764F28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Number of beneficiaries per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24160" y="77616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xi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218760" y="900000"/>
            <a:ext cx="189000" cy="146160"/>
          </a:xfrm>
          <a:custGeom>
            <a:avLst/>
            <a:gdLst>
              <a:gd name="textAreaLeft" fmla="*/ 0 w 189000"/>
              <a:gd name="textAreaRight" fmla="*/ 68040 w 189000"/>
              <a:gd name="textAreaTop" fmla="*/ 3600 h 146160"/>
              <a:gd name="textAreaBottom" fmla="*/ 142560 h 14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191760" y="1060560"/>
            <a:ext cx="206280" cy="4583160"/>
          </a:xfrm>
          <a:custGeom>
            <a:avLst/>
            <a:gdLst>
              <a:gd name="textAreaLeft" fmla="*/ 0 w 206280"/>
              <a:gd name="textAreaRight" fmla="*/ 74520 w 206280"/>
              <a:gd name="textAreaTop" fmla="*/ 119520 h 4583160"/>
              <a:gd name="textAreaBottom" fmla="*/ 4463640 h 458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6"/>
                </a:lnTo>
                <a:cubicBezTo>
                  <a:pt x="10800" y="9906"/>
                  <a:pt x="16200" y="10806"/>
                  <a:pt x="21600" y="10806"/>
                </a:cubicBezTo>
                <a:cubicBezTo>
                  <a:pt x="16200" y="10806"/>
                  <a:pt x="10800" y="11706"/>
                  <a:pt x="10800" y="1260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207600" y="5645160"/>
            <a:ext cx="198360" cy="127080"/>
          </a:xfrm>
          <a:custGeom>
            <a:avLst/>
            <a:gdLst>
              <a:gd name="textAreaLeft" fmla="*/ 0 w 198360"/>
              <a:gd name="textAreaRight" fmla="*/ 71640 w 198360"/>
              <a:gd name="textAreaTop" fmla="*/ 3240 h 127080"/>
              <a:gd name="textAreaBottom" fmla="*/ 12384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97160" y="315612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xis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24160" y="537372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xis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5632560"/>
            <a:ext cx="13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56400" y="7300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upport enterprises, 1 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65760" y="960480"/>
            <a:ext cx="27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upport projects, 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49920" y="3209760"/>
            <a:ext cx="28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xis 2, &gt;50 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11760" y="5141880"/>
            <a:ext cx="29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upport enterprises, 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49920" y="5378400"/>
            <a:ext cx="28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s, 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59280" y="565308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, 1 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440160" y="878040"/>
          <a:ext cx="1841400" cy="4998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0160" y="878040"/>
                    <a:ext cx="18414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3216240" y="5875200"/>
            <a:ext cx="2219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3065400" y="5611320"/>
            <a:ext cx="155520" cy="101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68880" y="1031760"/>
            <a:ext cx="549360" cy="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165640" y="914040"/>
            <a:ext cx="54936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10280" y="3398760"/>
            <a:ext cx="542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72120" y="5821200"/>
            <a:ext cx="577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175360" y="5595840"/>
            <a:ext cx="54612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178600" y="5376960"/>
            <a:ext cx="545760" cy="30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1200" y="582444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7BCC94-1921-4B13-BF4A-E04B5AFDB2E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ub-populations support to enterprises – projects within axis 1 (except 111), 3 and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6160" y="1940040"/>
            <a:ext cx="4016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upport to enterpri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(measure 112, 121, 123, 311, 312 and 3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72120" y="1941480"/>
            <a:ext cx="4319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upport to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(measure 124, 125, 321, 322, 323 and axis 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149480" y="2760840"/>
            <a:ext cx="1137960" cy="966600"/>
            <a:chOff x="1149480" y="2760840"/>
            <a:chExt cx="1137960" cy="966600"/>
          </a:xfrm>
        </p:grpSpPr>
        <p:sp>
          <p:nvSpPr>
            <p:cNvPr id="190" name=""/>
            <p:cNvSpPr/>
            <p:nvPr/>
          </p:nvSpPr>
          <p:spPr>
            <a:xfrm>
              <a:off x="1673280" y="27608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16120" y="2803680"/>
              <a:ext cx="0" cy="92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149480" y="2811600"/>
              <a:ext cx="558720" cy="9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35200" y="2828880"/>
              <a:ext cx="552240" cy="89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81120" y="3681360"/>
            <a:ext cx="214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Different categ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90560" y="262908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 (900 of 1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335480" y="2646360"/>
            <a:ext cx="4662360" cy="3625920"/>
            <a:chOff x="4335480" y="2646360"/>
            <a:chExt cx="4662360" cy="3625920"/>
          </a:xfrm>
        </p:grpSpPr>
        <p:sp>
          <p:nvSpPr>
            <p:cNvPr id="197" name=""/>
            <p:cNvSpPr/>
            <p:nvPr/>
          </p:nvSpPr>
          <p:spPr>
            <a:xfrm>
              <a:off x="5929200" y="45896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21280" y="27525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79960" y="2813040"/>
              <a:ext cx="733680" cy="88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70800" y="366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217840" y="2828880"/>
              <a:ext cx="716040" cy="87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38840" y="3735360"/>
              <a:ext cx="733680" cy="88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31120" y="45799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986080" y="3735360"/>
              <a:ext cx="716040" cy="87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80440" y="4632480"/>
              <a:ext cx="75060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5225760" y="4667400"/>
              <a:ext cx="716040" cy="87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278840" y="4649760"/>
              <a:ext cx="164880" cy="90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24600" y="2646360"/>
              <a:ext cx="181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1000 (axis 4: 70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24800" y="3517920"/>
              <a:ext cx="14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ng term 1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35480" y="3611520"/>
              <a:ext cx="14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Short term 2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04280" y="4309920"/>
              <a:ext cx="139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Condition genera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53000" y="5483160"/>
              <a:ext cx="110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Economic grow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79960" y="4651200"/>
              <a:ext cx="1558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84840" y="5484960"/>
              <a:ext cx="919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Social welf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53320" y="5483160"/>
              <a:ext cx="110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Economic grow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484960"/>
              <a:ext cx="919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Social welf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62360" y="4449600"/>
              <a:ext cx="129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Direct eff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4765680" y="6051600"/>
              <a:ext cx="317520" cy="21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89680" y="6049800"/>
              <a:ext cx="32220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5887800" y="6046920"/>
              <a:ext cx="645840" cy="225360"/>
              <a:chOff x="5887800" y="6046920"/>
              <a:chExt cx="645840" cy="225360"/>
            </a:xfrm>
          </p:grpSpPr>
          <p:sp>
            <p:nvSpPr>
              <p:cNvPr id="221" name=""/>
              <p:cNvSpPr/>
              <p:nvPr/>
            </p:nvSpPr>
            <p:spPr>
              <a:xfrm>
                <a:off x="6210000" y="6046920"/>
                <a:ext cx="0" cy="22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5887800" y="6053400"/>
                <a:ext cx="31716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211800" y="6051960"/>
                <a:ext cx="321840" cy="22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 flipH="1">
              <a:off x="6966000" y="6043680"/>
              <a:ext cx="317520" cy="21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9640" y="6041880"/>
              <a:ext cx="32256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8111880" y="6045120"/>
              <a:ext cx="645840" cy="225360"/>
              <a:chOff x="8111880" y="6045120"/>
              <a:chExt cx="645840" cy="225360"/>
            </a:xfrm>
          </p:grpSpPr>
          <p:sp>
            <p:nvSpPr>
              <p:cNvPr id="227" name=""/>
              <p:cNvSpPr/>
              <p:nvPr/>
            </p:nvSpPr>
            <p:spPr>
              <a:xfrm>
                <a:off x="8434080" y="6045120"/>
                <a:ext cx="0" cy="22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8111880" y="6051600"/>
                <a:ext cx="31716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435880" y="6050160"/>
                <a:ext cx="321840" cy="22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82F526-9CF5-4DF0-A02A-BDB413F53FB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797120" y="250920"/>
            <a:ext cx="70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Classification of 121-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76120" y="1890720"/>
          <a:ext cx="8560080" cy="405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1890720"/>
                    <a:ext cx="856008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847800" y="1895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5840" y="1905120"/>
            <a:ext cx="1514520" cy="828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5200" y="2162160"/>
            <a:ext cx="119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of fa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6120" y="1895400"/>
            <a:ext cx="8553600" cy="4048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67B13C-0621-42EC-81F1-2BDC31389C9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Evaluation investment – project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Main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047600" y="2352600"/>
            <a:ext cx="7467120" cy="2361960"/>
            <a:chOff x="1047600" y="2352600"/>
            <a:chExt cx="7467120" cy="2361960"/>
          </a:xfrm>
        </p:grpSpPr>
        <p:sp>
          <p:nvSpPr>
            <p:cNvPr id="239" name=""/>
            <p:cNvSpPr/>
            <p:nvPr/>
          </p:nvSpPr>
          <p:spPr>
            <a:xfrm>
              <a:off x="1114200" y="2670480"/>
              <a:ext cx="278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llection of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14200" y="3889800"/>
              <a:ext cx="273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Arial"/>
                </a:rPr>
                <a:t>Use of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3762360" y="2352600"/>
              <a:ext cx="4752360" cy="1180800"/>
              <a:chOff x="3762360" y="2352600"/>
              <a:chExt cx="4752360" cy="1180800"/>
            </a:xfrm>
          </p:grpSpPr>
          <p:sp>
            <p:nvSpPr>
              <p:cNvPr id="242" name=""/>
              <p:cNvSpPr/>
              <p:nvPr/>
            </p:nvSpPr>
            <p:spPr>
              <a:xfrm>
                <a:off x="3790440" y="2403000"/>
                <a:ext cx="277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Arial"/>
                  </a:rPr>
                  <a:t>Beneficiari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90440" y="3007800"/>
                <a:ext cx="472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Arial"/>
                  </a:rPr>
                  <a:t>Non beneficiaries (control group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62360" y="2352600"/>
                <a:ext cx="4638240" cy="11808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62360" y="2942640"/>
                <a:ext cx="463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1056960" y="2352600"/>
              <a:ext cx="2705400" cy="2361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3762360" y="3533400"/>
              <a:ext cx="4752360" cy="1181160"/>
              <a:chOff x="3762360" y="3533400"/>
              <a:chExt cx="4752360" cy="1181160"/>
            </a:xfrm>
          </p:grpSpPr>
          <p:sp>
            <p:nvSpPr>
              <p:cNvPr id="248" name=""/>
              <p:cNvSpPr/>
              <p:nvPr/>
            </p:nvSpPr>
            <p:spPr>
              <a:xfrm>
                <a:off x="3790440" y="3584520"/>
                <a:ext cx="277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Arial"/>
                  </a:rPr>
                  <a:t>Beneficiari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790440" y="4189320"/>
                <a:ext cx="472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Arial"/>
                  </a:rPr>
                  <a:t>Non beneficiaries (control group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762360" y="3533400"/>
                <a:ext cx="4638240" cy="11811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762360" y="4123800"/>
                <a:ext cx="463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1047600" y="3533400"/>
              <a:ext cx="3790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1765DF-D691-4ED3-8645-67C2C55E3D7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09:12:48Z</dcterms:created>
  <dc:creator> </dc:creator>
  <dc:description/>
  <dc:language>en-US</dc:language>
  <cp:lastModifiedBy>zaoujjo</cp:lastModifiedBy>
  <dcterms:modified xsi:type="dcterms:W3CDTF">2009-12-08T08:31:32Z</dcterms:modified>
  <cp:revision>52</cp:revision>
  <dc:subject/>
  <dc:title>PowerPoint-presentation</dc:title>
</cp:coreProperties>
</file>