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4F09-F207-4425-83BF-8D2332FE9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CCB6-195B-4461-BBBC-133674DBF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062F-CA62-4A8A-A348-3BFED9315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DC5C-0A7C-4823-BA3B-432A53B4D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D670-8572-4498-A69E-C8615C76C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2442-E162-4D0A-8AEC-1BB84A4CF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B54F-ED92-4396-9E35-59FCD27B9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459C-7D0C-4771-BFD4-EC679DF11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6275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8F77-AAD8-4249-83B1-E809E0445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0B10-236B-4B39-B621-10502B4CA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D558-168F-4CCA-A792-64DE0DA2B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6A67-E7F5-4783-91F2-830C954A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38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463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4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800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7 December 2009</a:t>
            </a: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3200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Evaluation Expert Committee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1636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9276A-6ABC-4C3C-8306-4A4C2E0AF302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553080" y="237960"/>
            <a:ext cx="2403720" cy="7448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0" y="0"/>
            <a:ext cx="9144000" cy="63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781360"/>
            <a:ext cx="5311800" cy="35780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6463"/>
                </a:solidFill>
                <a:latin typeface="Arial"/>
              </a:rPr>
              <a:t>Update of the </a:t>
            </a:r>
            <a:br>
              <a:rPr sz="4000"/>
            </a:br>
            <a:r>
              <a:rPr b="1" lang="en-AU" sz="4000" spc="-1" strike="noStrike">
                <a:solidFill>
                  <a:srgbClr val="006463"/>
                </a:solidFill>
                <a:latin typeface="Arial"/>
              </a:rPr>
              <a:t>Needs Assessment in the Member States</a:t>
            </a:r>
            <a:endParaRPr b="1" lang="en-US" sz="40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333333"/>
                </a:solidFill>
                <a:latin typeface="Arial"/>
              </a:rPr>
              <a:t>Hannes Wimm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F22C-BB1A-4563-96A8-7C051B1C8B2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</a:t>
            </a:r>
            <a:br>
              <a:rPr sz="3400"/>
            </a:b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data gaps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476760" y="1600200"/>
            <a:ext cx="251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  <a:ea typeface="Times New Roman"/>
              </a:rPr>
              <a:t>Challenges /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ing data availability and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mproving the data 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aling with existing data g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rcRect l="1138" t="21691" r="2318" b="11170"/>
          <a:stretch/>
        </p:blipFill>
        <p:spPr>
          <a:xfrm>
            <a:off x="0" y="1447920"/>
            <a:ext cx="6477120" cy="49528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962520" y="4419720"/>
            <a:ext cx="2286000" cy="838080"/>
          </a:xfrm>
          <a:prstGeom prst="wedgeRoundRectCallout">
            <a:avLst>
              <a:gd name="adj1" fmla="val -74166"/>
              <a:gd name="adj2" fmla="val -7953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arms have different financial reporting obligations from companies, so data is not always comparabl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1600200"/>
            <a:ext cx="2286000" cy="838080"/>
          </a:xfrm>
          <a:prstGeom prst="wedgeRoundRectCallout">
            <a:avLst>
              <a:gd name="adj1" fmla="val 1805"/>
              <a:gd name="adj2" fmla="val 125569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rief written supplementary guidance to CMEF as was provided for GVA would be helpfu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52680" y="1600200"/>
            <a:ext cx="2286000" cy="838080"/>
          </a:xfrm>
          <a:prstGeom prst="wedgeRoundRectCallout">
            <a:avLst>
              <a:gd name="adj1" fmla="val -16875"/>
              <a:gd name="adj2" fmla="val 106439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ometimes national statistics are showing different numbers compared to Eurostat.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320" y="4343400"/>
            <a:ext cx="1981080" cy="838080"/>
          </a:xfrm>
          <a:prstGeom prst="wedgeRoundRectCallout">
            <a:avLst>
              <a:gd name="adj1" fmla="val -10254"/>
              <a:gd name="adj2" fmla="val -153787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ata gathering should be recognized as highly important by MA, so “ongoing and priority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276720"/>
            <a:ext cx="2286000" cy="838080"/>
          </a:xfrm>
          <a:prstGeom prst="wedgeRoundRectCallout">
            <a:avLst>
              <a:gd name="adj1" fmla="val -91250"/>
              <a:gd name="adj2" fmla="val 65532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ifficulties to collect data for farming and diversification measures, accountancy systems do not collect enough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666880" y="5257800"/>
            <a:ext cx="2286000" cy="838080"/>
          </a:xfrm>
          <a:prstGeom prst="wedgeRoundRectCallout">
            <a:avLst>
              <a:gd name="adj1" fmla="val 42569"/>
              <a:gd name="adj2" fmla="val 58712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ow to deal with the time gaps (2-3 years) between the availability of data of Eurostat which is used for the baseline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5257800"/>
            <a:ext cx="1981440" cy="1066680"/>
          </a:xfrm>
          <a:prstGeom prst="wedgeRoundRectCallout">
            <a:avLst>
              <a:gd name="adj1" fmla="val -70273"/>
              <a:gd name="adj2" fmla="val -5208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uidance on providing qualitative assessment methodologies in the absence of robust quantitative information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8CE6-0EDE-409E-B0AE-36E09335C681}" type="slidenum">
              <a:t>10</a:t>
            </a:fld>
          </a:p>
        </p:txBody>
      </p:sp>
    </p:spTree>
  </p:cSld>
  <p:transition>
    <p:pull dir="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 Leader an QoL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476760" y="1600200"/>
            <a:ext cx="251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  <a:ea typeface="Times New Roman"/>
              </a:rPr>
              <a:t>Challenges /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uilding up relevant know h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veloping adequate defin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ackling the qualitative nature of the effects &amp; small scale of intervention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volving beneficiaries in the evaluation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1138" t="21691" r="2318" b="11170"/>
          <a:stretch/>
        </p:blipFill>
        <p:spPr>
          <a:xfrm>
            <a:off x="0" y="1447920"/>
            <a:ext cx="6477120" cy="49528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114800" y="3657600"/>
            <a:ext cx="2286000" cy="609480"/>
          </a:xfrm>
          <a:prstGeom prst="wedgeRoundRectCallout">
            <a:avLst>
              <a:gd name="adj1" fmla="val -57986"/>
              <a:gd name="adj2" fmla="val 36199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 case of quality of life it is not clear what data should be collect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114800" y="1523880"/>
            <a:ext cx="2286000" cy="838440"/>
          </a:xfrm>
          <a:prstGeom prst="wedgeRoundRectCallout">
            <a:avLst>
              <a:gd name="adj1" fmla="val -95138"/>
              <a:gd name="adj2" fmla="val 70263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 indicators provided in the CMEF are mostly quantitative, while Leader is an approach to developmen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1600200"/>
            <a:ext cx="1981080" cy="1219320"/>
          </a:xfrm>
          <a:prstGeom prst="wedgeRoundRectCallout">
            <a:avLst>
              <a:gd name="adj1" fmla="val 115462"/>
              <a:gd name="adj2" fmla="val 112240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 greatest challenges are time gap between the launch of the measures and the moment when impacts are visibl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05320" y="5562720"/>
            <a:ext cx="2286000" cy="609480"/>
          </a:xfrm>
          <a:prstGeom prst="wedgeRoundRectCallout">
            <a:avLst>
              <a:gd name="adj1" fmla="val 65625"/>
              <a:gd name="adj2" fmla="val 52342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is lack of previous experience in the evaluation of Leader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5257800"/>
            <a:ext cx="2286000" cy="990720"/>
          </a:xfrm>
          <a:prstGeom prst="wedgeRoundRectCallout">
            <a:avLst>
              <a:gd name="adj1" fmla="val 75763"/>
              <a:gd name="adj2" fmla="val -100000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 implementation period is rather short and the amount of money allocated is rather small. The impact will be evident over a longer period of tim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3809880"/>
            <a:ext cx="2286000" cy="1143000"/>
          </a:xfrm>
          <a:prstGeom prst="wedgeRoundRectCallout">
            <a:avLst>
              <a:gd name="adj1" fmla="val 96736"/>
              <a:gd name="adj2" fmla="val 4583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volvement of Beneficiaries will be difficult since they are not trained for impact measurement and it is uncertain to what extent they can co-oper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4325-F4CE-4495-9ABA-6BEEA588D43F}" type="slidenum">
              <a:t>11</a:t>
            </a:fld>
          </a:p>
        </p:txBody>
      </p:sp>
    </p:spTree>
  </p:cSld>
  <p:transition>
    <p:pull dir="d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 CEQs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476760" y="1600200"/>
            <a:ext cx="251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  <a:ea typeface="Times New Roman"/>
              </a:rPr>
              <a:t>Challenges /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nderstanding general scope and use  of E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the links between EQ, criteria and indic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terpreting the meaning of EQ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inding examples for answers to EQ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swering the horizontal EQ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1138" t="21691" r="2318" b="11170"/>
          <a:stretch/>
        </p:blipFill>
        <p:spPr>
          <a:xfrm>
            <a:off x="0" y="1447920"/>
            <a:ext cx="6477120" cy="49528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038480" y="3352680"/>
            <a:ext cx="2286000" cy="1143000"/>
          </a:xfrm>
          <a:prstGeom prst="wedgeRoundRectCallout">
            <a:avLst>
              <a:gd name="adj1" fmla="val -46875"/>
              <a:gd name="adj2" fmla="val -87638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 overlapping of EQ (common and horizontal) results in confusion, risk to receive similar answers to many different ques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114800" y="1523880"/>
            <a:ext cx="2286000" cy="914400"/>
          </a:xfrm>
          <a:prstGeom prst="wedgeRoundRectCallout">
            <a:avLst>
              <a:gd name="adj1" fmla="val -60694"/>
              <a:gd name="adj2" fmla="val 4861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ifficulties in wording of EQ […]. with different words, the same things are asked. Evaluator will probably produce very similar answers for the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4920" y="1600200"/>
            <a:ext cx="1981080" cy="609480"/>
          </a:xfrm>
          <a:prstGeom prst="wedgeRoundRectCallout">
            <a:avLst>
              <a:gd name="adj1" fmla="val 40064"/>
              <a:gd name="adj2" fmla="val 322916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s of answers to EQ would be welcom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505320" y="5562720"/>
            <a:ext cx="2286000" cy="685800"/>
          </a:xfrm>
          <a:prstGeom prst="wedgeRoundRectCallout">
            <a:avLst>
              <a:gd name="adj1" fmla="val -55763"/>
              <a:gd name="adj2" fmla="val -172453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ow to compare EU wide when local methods and definitions are applied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3581280"/>
            <a:ext cx="1524240" cy="838440"/>
          </a:xfrm>
          <a:prstGeom prst="wedgeRoundRectCallout">
            <a:avLst>
              <a:gd name="adj1" fmla="val -42601"/>
              <a:gd name="adj2" fmla="val 164962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 lack  of precise definition of terms and concepts used in their formul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0" y="2209680"/>
            <a:ext cx="1752480" cy="762120"/>
          </a:xfrm>
          <a:prstGeom prst="wedgeRoundRectCallout">
            <a:avLst>
              <a:gd name="adj1" fmla="val 27717"/>
              <a:gd name="adj2" fmla="val 133125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Lack of connection between Common indicators and CEQ: develop a matrix!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4495680"/>
            <a:ext cx="1828800" cy="609840"/>
          </a:xfrm>
          <a:prstGeom prst="wedgeRoundRectCallout">
            <a:avLst>
              <a:gd name="adj1" fmla="val 41407"/>
              <a:gd name="adj2" fmla="val -116925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orizontal questions are more makro level than programme level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5638680"/>
            <a:ext cx="1828800" cy="685800"/>
          </a:xfrm>
          <a:prstGeom prst="wedgeRoundRectCallout">
            <a:avLst>
              <a:gd name="adj1" fmla="val 60851"/>
              <a:gd name="adj2" fmla="val -100231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ome questions are “summaries” of other ques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09AC-9C37-450E-B1AA-FE4986E77D2D}" type="slidenum">
              <a:t>12</a:t>
            </a:fld>
          </a:p>
        </p:txBody>
      </p:sp>
    </p:spTree>
  </p:cSld>
  <p:transition>
    <p:pull dir="d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 further needs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to make Helpdesk’s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work more useful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also for evalu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to make outputs of Thematic Working Groups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more tangible and concr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to ensure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speedy follow-up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o information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to explain the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purpose of the guidance 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for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good practices and direct exchang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etween evaluators in the Member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134F-B34F-43CB-B60B-F8582E744462}" type="slidenum">
              <a:t>13</a:t>
            </a:fld>
          </a:p>
        </p:txBody>
      </p:sp>
    </p:spTree>
  </p:cSld>
  <p:transition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 Themes for thematic working groups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A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evaluation of specific measures/s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463"/>
                </a:solidFill>
                <a:latin typeface="Arial"/>
                <a:ea typeface="Times New Roman"/>
              </a:rPr>
              <a:t>Quality of Life and LEADER; agri-environmental measures; link between axis</a:t>
            </a:r>
            <a:endParaRPr b="0" lang="en-US" sz="18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B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pecifically cover impact indic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463"/>
                </a:solidFill>
                <a:latin typeface="Arial"/>
                <a:ea typeface="Times New Roman"/>
              </a:rPr>
              <a:t>Climate change, water quality, HNV</a:t>
            </a:r>
            <a:endParaRPr b="0" lang="en-US" sz="18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C)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 evaluation approaches /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463"/>
                </a:solidFill>
                <a:latin typeface="Arial"/>
                <a:ea typeface="Times New Roman"/>
              </a:rPr>
              <a:t>Qualitative impacts, counterfactual and participatory approach, methodological problems</a:t>
            </a:r>
            <a:endParaRPr b="0" lang="en-US" sz="18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D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other topic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463"/>
                </a:solidFill>
                <a:latin typeface="Arial"/>
                <a:ea typeface="Times New Roman"/>
              </a:rPr>
              <a:t>evaluation of national networks; data collection and data validity;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qualitative and quantitative indicators</a:t>
            </a:r>
            <a:r>
              <a:rPr b="0" lang="en-GB" sz="1800" spc="-1" strike="noStrike">
                <a:solidFill>
                  <a:srgbClr val="006463"/>
                </a:solidFill>
                <a:latin typeface="Arial"/>
                <a:ea typeface="Times New Roman"/>
              </a:rPr>
              <a:t>; semantic clarifications about the EQ; thematic groups on programme intervention and horizontal EQ</a:t>
            </a:r>
            <a:endParaRPr b="0" lang="en-US" sz="1800" spc="-1" strike="noStrike">
              <a:solidFill>
                <a:srgbClr val="00646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C141-8CD2-4C8A-AFB3-6CA40E9FD2D2}" type="slidenum">
              <a:t>14</a:t>
            </a:fld>
          </a:p>
        </p:txBody>
      </p:sp>
    </p:spTree>
  </p:cSld>
  <p:transition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Conclusions for AWP 2010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dditional support for the assessment of RD impacts indicators and the overall programme impact is need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463"/>
                </a:solidFill>
                <a:latin typeface="Arial"/>
              </a:rPr>
              <a:t>Confirms existing TWGs!</a:t>
            </a:r>
            <a:endParaRPr b="0" lang="en-US" sz="2000" spc="-1" strike="noStrike">
              <a:solidFill>
                <a:srgbClr val="00646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463"/>
                </a:solidFill>
                <a:latin typeface="Arial"/>
              </a:rPr>
              <a:t>Deepening and integrating work of TWGs!</a:t>
            </a:r>
            <a:endParaRPr b="0" lang="en-US" sz="20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ay more attention to specific methodological challenges in assessing impac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463"/>
                </a:solidFill>
                <a:latin typeface="Arial"/>
              </a:rPr>
              <a:t>Task for existing TWGs!</a:t>
            </a:r>
            <a:endParaRPr b="0" lang="en-US" sz="20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pport specific analytical metho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463"/>
                </a:solidFill>
                <a:latin typeface="Arial"/>
              </a:rPr>
              <a:t>New themes for Thematic pool, information exchange!</a:t>
            </a:r>
            <a:endParaRPr b="0" lang="en-US" sz="2000" spc="-1" strike="noStrike">
              <a:solidFill>
                <a:srgbClr val="00646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7A9B-B7C3-4BF6-9BF6-AA2670593CD9}" type="slidenum">
              <a:t>15</a:t>
            </a:fld>
          </a:p>
        </p:txBody>
      </p:sp>
    </p:spTree>
  </p:cSld>
  <p:transition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Conclusions for AWP 2010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mote practical examples and collaborative working methods to bridge the gap between theory and pract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463"/>
                </a:solidFill>
                <a:latin typeface="Arial"/>
              </a:rPr>
              <a:t>New working methods!</a:t>
            </a:r>
            <a:endParaRPr b="0" lang="en-US" sz="16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vide specific help for understanding, interpreting and answering the CEQ (in view of MTE 201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463"/>
                </a:solidFill>
                <a:latin typeface="Arial"/>
              </a:rPr>
              <a:t>New activity!</a:t>
            </a:r>
            <a:endParaRPr b="0" lang="en-US" sz="16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ake into account data-gaps at the output and result le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463"/>
                </a:solidFill>
                <a:latin typeface="Arial"/>
              </a:rPr>
              <a:t>Guidance how to handle existing data gaps! </a:t>
            </a:r>
            <a:endParaRPr b="0" lang="en-US" sz="16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peed up procedures for answering technical ques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463"/>
                </a:solidFill>
                <a:latin typeface="Arial"/>
              </a:rPr>
              <a:t>Reserve sufficient capacity to provide adequate and immediate answers to technical questions!</a:t>
            </a:r>
            <a:endParaRPr b="0" lang="en-US" sz="16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ke outputs of the Thematic Working Groups more tangib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463"/>
                </a:solidFill>
                <a:latin typeface="Arial"/>
              </a:rPr>
              <a:t>Involve evaluators more directly into the work!   </a:t>
            </a:r>
            <a:endParaRPr b="0" lang="en-US" sz="16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isseminate and interlink knowledge and inform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463"/>
                </a:solidFill>
                <a:latin typeface="Arial"/>
              </a:rPr>
              <a:t>Provide an effective platform for information exchange! </a:t>
            </a:r>
            <a:endParaRPr b="0" lang="en-US" sz="1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4BCE-FB55-4492-94E3-692A7BA1002B}" type="slidenum">
              <a:t>16</a:t>
            </a:fld>
          </a:p>
        </p:txBody>
      </p:sp>
    </p:spTree>
  </p:cSld>
  <p:transition>
    <p:pull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400" spc="-1" strike="noStrike">
                <a:solidFill>
                  <a:srgbClr val="006463"/>
                </a:solidFill>
                <a:latin typeface="Arial"/>
              </a:rPr>
              <a:t>Thank you for your attention!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2781360"/>
            <a:ext cx="5311800" cy="3578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65E6-54F6-42A6-B585-4087FB187D9D}" type="slidenum">
              <a:t>17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Content</a:t>
            </a: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	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ganisation of the focus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ecific themes of focus group discu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cus group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E94C-A696-4258-ABD8-CB6F7273A161}" type="slidenum">
              <a:t>2</a:t>
            </a:fld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Purpose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cc00"/>
                </a:solidFill>
                <a:latin typeface="Arial"/>
              </a:rPr>
              <a:t>To highlight the specific need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f evaluation stakeholders related to the  mid-term evaluations (MT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cc00"/>
                </a:solidFill>
                <a:latin typeface="Arial"/>
              </a:rPr>
              <a:t>To help fine-tune ongoing activiti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 identify potential new areas for the Helpdesk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06FC-17B1-4096-BADC-5E54157E8A56}" type="slidenum">
              <a:t>3</a:t>
            </a:fld>
          </a:p>
        </p:txBody>
      </p:sp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Specific focus of needs assessment in 2009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eeds related to the mid-term-evaluation in particular conce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Measurement/assessment of the CMEF impact indicators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Evaluation of Leader and Quality of Lif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Data gap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Common Evaluation Questions, intervention logic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opics for Thematic Working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C1E3-FBD1-4822-9234-3235D128F7AD}" type="slidenum">
              <a:t>4</a:t>
            </a:fld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Organisation of focus groups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00360" y="18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8458200" cy="476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D4DD-BDAD-4D73-B1A0-E59BA75AF4F8}" type="slidenum">
              <a:t>5</a:t>
            </a:fld>
          </a:p>
        </p:txBody>
      </p:sp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 In which areas is support most needed?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18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92560" y="1895400"/>
            <a:ext cx="4543560" cy="331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46520" y="1900080"/>
            <a:ext cx="4097520" cy="3314880"/>
          </a:xfrm>
          <a:custGeom>
            <a:avLst/>
            <a:gdLst/>
            <a:ahLst/>
            <a:rect l="l" t="t" r="r" b="b"/>
            <a:pathLst>
              <a:path w="2581" h="2088">
                <a:moveTo>
                  <a:pt x="5" y="0"/>
                </a:moveTo>
                <a:lnTo>
                  <a:pt x="5" y="2088"/>
                </a:lnTo>
                <a:lnTo>
                  <a:pt x="0" y="2088"/>
                </a:lnTo>
                <a:lnTo>
                  <a:pt x="0" y="0"/>
                </a:lnTo>
                <a:lnTo>
                  <a:pt x="5" y="0"/>
                </a:lnTo>
                <a:close/>
                <a:moveTo>
                  <a:pt x="290" y="0"/>
                </a:moveTo>
                <a:lnTo>
                  <a:pt x="290" y="2088"/>
                </a:lnTo>
                <a:lnTo>
                  <a:pt x="286" y="2088"/>
                </a:lnTo>
                <a:lnTo>
                  <a:pt x="286" y="0"/>
                </a:lnTo>
                <a:lnTo>
                  <a:pt x="290" y="0"/>
                </a:lnTo>
                <a:close/>
                <a:moveTo>
                  <a:pt x="576" y="0"/>
                </a:moveTo>
                <a:lnTo>
                  <a:pt x="576" y="2088"/>
                </a:lnTo>
                <a:lnTo>
                  <a:pt x="571" y="2088"/>
                </a:lnTo>
                <a:lnTo>
                  <a:pt x="571" y="0"/>
                </a:lnTo>
                <a:lnTo>
                  <a:pt x="576" y="0"/>
                </a:lnTo>
                <a:close/>
                <a:moveTo>
                  <a:pt x="862" y="0"/>
                </a:moveTo>
                <a:lnTo>
                  <a:pt x="862" y="2088"/>
                </a:lnTo>
                <a:lnTo>
                  <a:pt x="857" y="2088"/>
                </a:lnTo>
                <a:lnTo>
                  <a:pt x="857" y="0"/>
                </a:lnTo>
                <a:lnTo>
                  <a:pt x="862" y="0"/>
                </a:lnTo>
                <a:close/>
                <a:moveTo>
                  <a:pt x="1148" y="0"/>
                </a:moveTo>
                <a:lnTo>
                  <a:pt x="1148" y="2088"/>
                </a:lnTo>
                <a:lnTo>
                  <a:pt x="1143" y="2088"/>
                </a:lnTo>
                <a:lnTo>
                  <a:pt x="1143" y="0"/>
                </a:lnTo>
                <a:lnTo>
                  <a:pt x="1148" y="0"/>
                </a:lnTo>
                <a:close/>
                <a:moveTo>
                  <a:pt x="1438" y="0"/>
                </a:moveTo>
                <a:lnTo>
                  <a:pt x="1438" y="2088"/>
                </a:lnTo>
                <a:lnTo>
                  <a:pt x="1433" y="2088"/>
                </a:lnTo>
                <a:lnTo>
                  <a:pt x="1433" y="0"/>
                </a:lnTo>
                <a:lnTo>
                  <a:pt x="1438" y="0"/>
                </a:lnTo>
                <a:close/>
                <a:moveTo>
                  <a:pt x="1724" y="0"/>
                </a:moveTo>
                <a:lnTo>
                  <a:pt x="1724" y="2088"/>
                </a:lnTo>
                <a:lnTo>
                  <a:pt x="1719" y="2088"/>
                </a:lnTo>
                <a:lnTo>
                  <a:pt x="1719" y="0"/>
                </a:lnTo>
                <a:lnTo>
                  <a:pt x="1724" y="0"/>
                </a:lnTo>
                <a:close/>
                <a:moveTo>
                  <a:pt x="2010" y="0"/>
                </a:moveTo>
                <a:lnTo>
                  <a:pt x="2010" y="2088"/>
                </a:lnTo>
                <a:lnTo>
                  <a:pt x="2005" y="2088"/>
                </a:lnTo>
                <a:lnTo>
                  <a:pt x="2005" y="0"/>
                </a:lnTo>
                <a:lnTo>
                  <a:pt x="2010" y="0"/>
                </a:lnTo>
                <a:close/>
                <a:moveTo>
                  <a:pt x="2296" y="0"/>
                </a:moveTo>
                <a:lnTo>
                  <a:pt x="2296" y="2088"/>
                </a:lnTo>
                <a:lnTo>
                  <a:pt x="2291" y="2088"/>
                </a:lnTo>
                <a:lnTo>
                  <a:pt x="2291" y="0"/>
                </a:lnTo>
                <a:lnTo>
                  <a:pt x="2296" y="0"/>
                </a:lnTo>
                <a:close/>
                <a:moveTo>
                  <a:pt x="2581" y="0"/>
                </a:moveTo>
                <a:lnTo>
                  <a:pt x="2581" y="2088"/>
                </a:lnTo>
                <a:lnTo>
                  <a:pt x="2576" y="2088"/>
                </a:lnTo>
                <a:lnTo>
                  <a:pt x="2576" y="0"/>
                </a:lnTo>
                <a:lnTo>
                  <a:pt x="2581" y="0"/>
                </a:lnTo>
                <a:close/>
              </a:path>
            </a:pathLst>
          </a:custGeom>
          <a:solidFill>
            <a:srgbClr val="868686"/>
          </a:solidFill>
          <a:ln w="7920">
            <a:solidFill>
              <a:srgbClr val="86868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197240" y="1938240"/>
            <a:ext cx="3838680" cy="2683080"/>
          </a:xfrm>
          <a:custGeom>
            <a:avLst/>
            <a:gdLst/>
            <a:ahLst/>
            <a:rect l="l" t="t" r="r" b="b"/>
            <a:pathLst>
              <a:path w="2418" h="1690">
                <a:moveTo>
                  <a:pt x="660" y="1690"/>
                </a:moveTo>
                <a:lnTo>
                  <a:pt x="0" y="1690"/>
                </a:lnTo>
                <a:lnTo>
                  <a:pt x="0" y="1389"/>
                </a:lnTo>
                <a:lnTo>
                  <a:pt x="660" y="1389"/>
                </a:lnTo>
                <a:lnTo>
                  <a:pt x="660" y="1690"/>
                </a:lnTo>
                <a:close/>
                <a:moveTo>
                  <a:pt x="1758" y="1340"/>
                </a:moveTo>
                <a:lnTo>
                  <a:pt x="0" y="1340"/>
                </a:lnTo>
                <a:lnTo>
                  <a:pt x="0" y="1044"/>
                </a:lnTo>
                <a:lnTo>
                  <a:pt x="1758" y="1044"/>
                </a:lnTo>
                <a:lnTo>
                  <a:pt x="1758" y="1340"/>
                </a:lnTo>
                <a:close/>
                <a:moveTo>
                  <a:pt x="1867" y="990"/>
                </a:moveTo>
                <a:lnTo>
                  <a:pt x="0" y="990"/>
                </a:lnTo>
                <a:lnTo>
                  <a:pt x="0" y="695"/>
                </a:lnTo>
                <a:lnTo>
                  <a:pt x="1867" y="695"/>
                </a:lnTo>
                <a:lnTo>
                  <a:pt x="1867" y="990"/>
                </a:lnTo>
                <a:close/>
                <a:moveTo>
                  <a:pt x="2197" y="645"/>
                </a:moveTo>
                <a:lnTo>
                  <a:pt x="0" y="645"/>
                </a:lnTo>
                <a:lnTo>
                  <a:pt x="0" y="345"/>
                </a:lnTo>
                <a:lnTo>
                  <a:pt x="2197" y="345"/>
                </a:lnTo>
                <a:lnTo>
                  <a:pt x="2197" y="645"/>
                </a:lnTo>
                <a:close/>
                <a:moveTo>
                  <a:pt x="2418" y="296"/>
                </a:moveTo>
                <a:lnTo>
                  <a:pt x="0" y="296"/>
                </a:lnTo>
                <a:lnTo>
                  <a:pt x="0" y="0"/>
                </a:lnTo>
                <a:lnTo>
                  <a:pt x="2418" y="0"/>
                </a:lnTo>
                <a:lnTo>
                  <a:pt x="2418" y="296"/>
                </a:lnTo>
                <a:close/>
              </a:path>
            </a:pathLst>
          </a:custGeom>
          <a:solidFill>
            <a:srgbClr val="89a5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192560" y="1935000"/>
            <a:ext cx="3848040" cy="2689560"/>
          </a:xfrm>
          <a:custGeom>
            <a:avLst/>
            <a:gdLst/>
            <a:ahLst/>
            <a:rect l="l" t="t" r="r" b="b"/>
            <a:pathLst>
              <a:path w="7872" h="5504">
                <a:moveTo>
                  <a:pt x="2160" y="5496"/>
                </a:moveTo>
                <a:cubicBezTo>
                  <a:pt x="2160" y="5501"/>
                  <a:pt x="2157" y="5504"/>
                  <a:pt x="2152" y="5504"/>
                </a:cubicBezTo>
                <a:lnTo>
                  <a:pt x="8" y="5504"/>
                </a:lnTo>
                <a:cubicBezTo>
                  <a:pt x="4" y="5504"/>
                  <a:pt x="0" y="5501"/>
                  <a:pt x="0" y="5496"/>
                </a:cubicBezTo>
                <a:lnTo>
                  <a:pt x="0" y="4520"/>
                </a:lnTo>
                <a:cubicBezTo>
                  <a:pt x="0" y="4516"/>
                  <a:pt x="4" y="4512"/>
                  <a:pt x="8" y="4512"/>
                </a:cubicBezTo>
                <a:lnTo>
                  <a:pt x="2152" y="4512"/>
                </a:lnTo>
                <a:cubicBezTo>
                  <a:pt x="2157" y="4512"/>
                  <a:pt x="2160" y="4516"/>
                  <a:pt x="2160" y="4520"/>
                </a:cubicBezTo>
                <a:lnTo>
                  <a:pt x="2160" y="5496"/>
                </a:lnTo>
                <a:close/>
                <a:moveTo>
                  <a:pt x="2144" y="4520"/>
                </a:moveTo>
                <a:lnTo>
                  <a:pt x="2152" y="4528"/>
                </a:lnTo>
                <a:lnTo>
                  <a:pt x="8" y="4528"/>
                </a:lnTo>
                <a:lnTo>
                  <a:pt x="16" y="4520"/>
                </a:lnTo>
                <a:lnTo>
                  <a:pt x="16" y="5496"/>
                </a:lnTo>
                <a:lnTo>
                  <a:pt x="8" y="5488"/>
                </a:lnTo>
                <a:lnTo>
                  <a:pt x="2152" y="5488"/>
                </a:lnTo>
                <a:lnTo>
                  <a:pt x="2144" y="5496"/>
                </a:lnTo>
                <a:lnTo>
                  <a:pt x="2144" y="4520"/>
                </a:lnTo>
                <a:close/>
                <a:moveTo>
                  <a:pt x="5728" y="4360"/>
                </a:moveTo>
                <a:cubicBezTo>
                  <a:pt x="5728" y="4365"/>
                  <a:pt x="5725" y="4368"/>
                  <a:pt x="5720" y="4368"/>
                </a:cubicBezTo>
                <a:lnTo>
                  <a:pt x="8" y="4368"/>
                </a:lnTo>
                <a:cubicBezTo>
                  <a:pt x="4" y="4368"/>
                  <a:pt x="0" y="4365"/>
                  <a:pt x="0" y="4360"/>
                </a:cubicBezTo>
                <a:lnTo>
                  <a:pt x="0" y="3400"/>
                </a:lnTo>
                <a:cubicBezTo>
                  <a:pt x="0" y="3396"/>
                  <a:pt x="4" y="3392"/>
                  <a:pt x="8" y="3392"/>
                </a:cubicBezTo>
                <a:lnTo>
                  <a:pt x="5720" y="3392"/>
                </a:lnTo>
                <a:cubicBezTo>
                  <a:pt x="5725" y="3392"/>
                  <a:pt x="5728" y="3396"/>
                  <a:pt x="5728" y="3400"/>
                </a:cubicBezTo>
                <a:lnTo>
                  <a:pt x="5728" y="4360"/>
                </a:lnTo>
                <a:close/>
                <a:moveTo>
                  <a:pt x="5712" y="3400"/>
                </a:moveTo>
                <a:lnTo>
                  <a:pt x="5720" y="3408"/>
                </a:lnTo>
                <a:lnTo>
                  <a:pt x="8" y="3408"/>
                </a:lnTo>
                <a:lnTo>
                  <a:pt x="16" y="3400"/>
                </a:lnTo>
                <a:lnTo>
                  <a:pt x="16" y="4360"/>
                </a:lnTo>
                <a:lnTo>
                  <a:pt x="8" y="4352"/>
                </a:lnTo>
                <a:lnTo>
                  <a:pt x="5720" y="4352"/>
                </a:lnTo>
                <a:lnTo>
                  <a:pt x="5712" y="4360"/>
                </a:lnTo>
                <a:lnTo>
                  <a:pt x="5712" y="3400"/>
                </a:lnTo>
                <a:close/>
                <a:moveTo>
                  <a:pt x="6080" y="3224"/>
                </a:moveTo>
                <a:cubicBezTo>
                  <a:pt x="6080" y="3229"/>
                  <a:pt x="6077" y="3232"/>
                  <a:pt x="6072" y="3232"/>
                </a:cubicBezTo>
                <a:lnTo>
                  <a:pt x="8" y="3232"/>
                </a:lnTo>
                <a:cubicBezTo>
                  <a:pt x="4" y="3232"/>
                  <a:pt x="0" y="3229"/>
                  <a:pt x="0" y="3224"/>
                </a:cubicBezTo>
                <a:lnTo>
                  <a:pt x="0" y="2264"/>
                </a:lnTo>
                <a:cubicBezTo>
                  <a:pt x="0" y="2260"/>
                  <a:pt x="4" y="2256"/>
                  <a:pt x="8" y="2256"/>
                </a:cubicBezTo>
                <a:lnTo>
                  <a:pt x="6072" y="2256"/>
                </a:lnTo>
                <a:cubicBezTo>
                  <a:pt x="6077" y="2256"/>
                  <a:pt x="6080" y="2260"/>
                  <a:pt x="6080" y="2264"/>
                </a:cubicBezTo>
                <a:lnTo>
                  <a:pt x="6080" y="3224"/>
                </a:lnTo>
                <a:close/>
                <a:moveTo>
                  <a:pt x="6064" y="2264"/>
                </a:moveTo>
                <a:lnTo>
                  <a:pt x="6072" y="2272"/>
                </a:lnTo>
                <a:lnTo>
                  <a:pt x="8" y="2272"/>
                </a:lnTo>
                <a:lnTo>
                  <a:pt x="16" y="2264"/>
                </a:lnTo>
                <a:lnTo>
                  <a:pt x="16" y="3224"/>
                </a:lnTo>
                <a:lnTo>
                  <a:pt x="8" y="3216"/>
                </a:lnTo>
                <a:lnTo>
                  <a:pt x="6072" y="3216"/>
                </a:lnTo>
                <a:lnTo>
                  <a:pt x="6064" y="3224"/>
                </a:lnTo>
                <a:lnTo>
                  <a:pt x="6064" y="2264"/>
                </a:lnTo>
                <a:close/>
                <a:moveTo>
                  <a:pt x="7152" y="2104"/>
                </a:moveTo>
                <a:cubicBezTo>
                  <a:pt x="7152" y="2109"/>
                  <a:pt x="7149" y="2112"/>
                  <a:pt x="7144" y="2112"/>
                </a:cubicBezTo>
                <a:lnTo>
                  <a:pt x="8" y="2112"/>
                </a:lnTo>
                <a:cubicBezTo>
                  <a:pt x="4" y="2112"/>
                  <a:pt x="0" y="2109"/>
                  <a:pt x="0" y="2104"/>
                </a:cubicBezTo>
                <a:lnTo>
                  <a:pt x="0" y="1128"/>
                </a:lnTo>
                <a:cubicBezTo>
                  <a:pt x="0" y="1124"/>
                  <a:pt x="4" y="1120"/>
                  <a:pt x="8" y="1120"/>
                </a:cubicBezTo>
                <a:lnTo>
                  <a:pt x="7144" y="1120"/>
                </a:lnTo>
                <a:cubicBezTo>
                  <a:pt x="7149" y="1120"/>
                  <a:pt x="7152" y="1124"/>
                  <a:pt x="7152" y="1128"/>
                </a:cubicBezTo>
                <a:lnTo>
                  <a:pt x="7152" y="2104"/>
                </a:lnTo>
                <a:close/>
                <a:moveTo>
                  <a:pt x="7136" y="1128"/>
                </a:moveTo>
                <a:lnTo>
                  <a:pt x="7144" y="1136"/>
                </a:lnTo>
                <a:lnTo>
                  <a:pt x="8" y="1136"/>
                </a:lnTo>
                <a:lnTo>
                  <a:pt x="16" y="1128"/>
                </a:lnTo>
                <a:lnTo>
                  <a:pt x="16" y="2104"/>
                </a:lnTo>
                <a:lnTo>
                  <a:pt x="8" y="2096"/>
                </a:lnTo>
                <a:lnTo>
                  <a:pt x="7144" y="2096"/>
                </a:lnTo>
                <a:lnTo>
                  <a:pt x="7136" y="2104"/>
                </a:lnTo>
                <a:lnTo>
                  <a:pt x="7136" y="1128"/>
                </a:lnTo>
                <a:close/>
                <a:moveTo>
                  <a:pt x="7872" y="968"/>
                </a:moveTo>
                <a:cubicBezTo>
                  <a:pt x="7872" y="973"/>
                  <a:pt x="7869" y="976"/>
                  <a:pt x="7864" y="976"/>
                </a:cubicBezTo>
                <a:lnTo>
                  <a:pt x="8" y="976"/>
                </a:lnTo>
                <a:cubicBezTo>
                  <a:pt x="4" y="976"/>
                  <a:pt x="0" y="973"/>
                  <a:pt x="0" y="968"/>
                </a:cubicBezTo>
                <a:lnTo>
                  <a:pt x="0" y="8"/>
                </a:lnTo>
                <a:cubicBezTo>
                  <a:pt x="0" y="4"/>
                  <a:pt x="4" y="0"/>
                  <a:pt x="8" y="0"/>
                </a:cubicBezTo>
                <a:lnTo>
                  <a:pt x="7864" y="0"/>
                </a:lnTo>
                <a:cubicBezTo>
                  <a:pt x="7869" y="0"/>
                  <a:pt x="7872" y="4"/>
                  <a:pt x="7872" y="8"/>
                </a:cubicBezTo>
                <a:lnTo>
                  <a:pt x="7872" y="968"/>
                </a:lnTo>
                <a:close/>
                <a:moveTo>
                  <a:pt x="7856" y="8"/>
                </a:moveTo>
                <a:lnTo>
                  <a:pt x="7864" y="16"/>
                </a:lnTo>
                <a:lnTo>
                  <a:pt x="8" y="16"/>
                </a:lnTo>
                <a:lnTo>
                  <a:pt x="16" y="8"/>
                </a:lnTo>
                <a:lnTo>
                  <a:pt x="16" y="968"/>
                </a:lnTo>
                <a:lnTo>
                  <a:pt x="8" y="960"/>
                </a:lnTo>
                <a:lnTo>
                  <a:pt x="7864" y="960"/>
                </a:lnTo>
                <a:lnTo>
                  <a:pt x="7856" y="968"/>
                </a:lnTo>
                <a:lnTo>
                  <a:pt x="7856" y="8"/>
                </a:lnTo>
                <a:close/>
              </a:path>
            </a:pathLst>
          </a:custGeom>
          <a:solidFill>
            <a:srgbClr val="f9f9f9"/>
          </a:solidFill>
          <a:ln w="0">
            <a:solidFill>
              <a:srgbClr val="f9f9f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45200" y="1938240"/>
            <a:ext cx="3495600" cy="2683080"/>
          </a:xfrm>
          <a:custGeom>
            <a:avLst/>
            <a:gdLst/>
            <a:ahLst/>
            <a:rect l="l" t="t" r="r" b="b"/>
            <a:pathLst>
              <a:path w="2202" h="1690">
                <a:moveTo>
                  <a:pt x="2202" y="1690"/>
                </a:moveTo>
                <a:lnTo>
                  <a:pt x="0" y="1690"/>
                </a:lnTo>
                <a:lnTo>
                  <a:pt x="0" y="1389"/>
                </a:lnTo>
                <a:lnTo>
                  <a:pt x="2202" y="1389"/>
                </a:lnTo>
                <a:lnTo>
                  <a:pt x="2202" y="1690"/>
                </a:lnTo>
                <a:close/>
                <a:moveTo>
                  <a:pt x="2202" y="1340"/>
                </a:moveTo>
                <a:lnTo>
                  <a:pt x="1098" y="1340"/>
                </a:lnTo>
                <a:lnTo>
                  <a:pt x="1098" y="1044"/>
                </a:lnTo>
                <a:lnTo>
                  <a:pt x="2202" y="1044"/>
                </a:lnTo>
                <a:lnTo>
                  <a:pt x="2202" y="1340"/>
                </a:lnTo>
                <a:close/>
                <a:moveTo>
                  <a:pt x="2202" y="990"/>
                </a:moveTo>
                <a:lnTo>
                  <a:pt x="1207" y="990"/>
                </a:lnTo>
                <a:lnTo>
                  <a:pt x="1207" y="695"/>
                </a:lnTo>
                <a:lnTo>
                  <a:pt x="2202" y="695"/>
                </a:lnTo>
                <a:lnTo>
                  <a:pt x="2202" y="990"/>
                </a:lnTo>
                <a:close/>
                <a:moveTo>
                  <a:pt x="2202" y="645"/>
                </a:moveTo>
                <a:lnTo>
                  <a:pt x="1537" y="645"/>
                </a:lnTo>
                <a:lnTo>
                  <a:pt x="1537" y="345"/>
                </a:lnTo>
                <a:lnTo>
                  <a:pt x="2202" y="345"/>
                </a:lnTo>
                <a:lnTo>
                  <a:pt x="2202" y="645"/>
                </a:lnTo>
                <a:close/>
                <a:moveTo>
                  <a:pt x="2202" y="296"/>
                </a:moveTo>
                <a:lnTo>
                  <a:pt x="1758" y="296"/>
                </a:lnTo>
                <a:lnTo>
                  <a:pt x="1758" y="0"/>
                </a:lnTo>
                <a:lnTo>
                  <a:pt x="2202" y="0"/>
                </a:lnTo>
                <a:lnTo>
                  <a:pt x="2202" y="296"/>
                </a:lnTo>
                <a:close/>
              </a:path>
            </a:pathLst>
          </a:custGeom>
          <a:solidFill>
            <a:srgbClr val="b9c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40160" y="1935000"/>
            <a:ext cx="3503880" cy="2689560"/>
          </a:xfrm>
          <a:custGeom>
            <a:avLst/>
            <a:gdLst/>
            <a:ahLst/>
            <a:rect l="l" t="t" r="r" b="b"/>
            <a:pathLst>
              <a:path w="7168" h="5504">
                <a:moveTo>
                  <a:pt x="7168" y="5496"/>
                </a:moveTo>
                <a:cubicBezTo>
                  <a:pt x="7168" y="5501"/>
                  <a:pt x="7165" y="5504"/>
                  <a:pt x="7160" y="5504"/>
                </a:cubicBezTo>
                <a:lnTo>
                  <a:pt x="8" y="5504"/>
                </a:lnTo>
                <a:cubicBezTo>
                  <a:pt x="4" y="5504"/>
                  <a:pt x="0" y="5501"/>
                  <a:pt x="0" y="5496"/>
                </a:cubicBezTo>
                <a:lnTo>
                  <a:pt x="0" y="4520"/>
                </a:lnTo>
                <a:cubicBezTo>
                  <a:pt x="0" y="4516"/>
                  <a:pt x="4" y="4512"/>
                  <a:pt x="8" y="4512"/>
                </a:cubicBezTo>
                <a:lnTo>
                  <a:pt x="7160" y="4512"/>
                </a:lnTo>
                <a:cubicBezTo>
                  <a:pt x="7165" y="4512"/>
                  <a:pt x="7168" y="4516"/>
                  <a:pt x="7168" y="4520"/>
                </a:cubicBezTo>
                <a:lnTo>
                  <a:pt x="7168" y="5496"/>
                </a:lnTo>
                <a:close/>
                <a:moveTo>
                  <a:pt x="7152" y="4520"/>
                </a:moveTo>
                <a:lnTo>
                  <a:pt x="7160" y="4528"/>
                </a:lnTo>
                <a:lnTo>
                  <a:pt x="8" y="4528"/>
                </a:lnTo>
                <a:lnTo>
                  <a:pt x="16" y="4520"/>
                </a:lnTo>
                <a:lnTo>
                  <a:pt x="16" y="5496"/>
                </a:lnTo>
                <a:lnTo>
                  <a:pt x="8" y="5488"/>
                </a:lnTo>
                <a:lnTo>
                  <a:pt x="7160" y="5488"/>
                </a:lnTo>
                <a:lnTo>
                  <a:pt x="7152" y="5496"/>
                </a:lnTo>
                <a:lnTo>
                  <a:pt x="7152" y="4520"/>
                </a:lnTo>
                <a:close/>
                <a:moveTo>
                  <a:pt x="7168" y="4360"/>
                </a:moveTo>
                <a:cubicBezTo>
                  <a:pt x="7168" y="4365"/>
                  <a:pt x="7165" y="4368"/>
                  <a:pt x="7160" y="4368"/>
                </a:cubicBezTo>
                <a:lnTo>
                  <a:pt x="3576" y="4368"/>
                </a:lnTo>
                <a:cubicBezTo>
                  <a:pt x="3572" y="4368"/>
                  <a:pt x="3568" y="4365"/>
                  <a:pt x="3568" y="4360"/>
                </a:cubicBezTo>
                <a:lnTo>
                  <a:pt x="3568" y="3400"/>
                </a:lnTo>
                <a:cubicBezTo>
                  <a:pt x="3568" y="3396"/>
                  <a:pt x="3572" y="3392"/>
                  <a:pt x="3576" y="3392"/>
                </a:cubicBezTo>
                <a:lnTo>
                  <a:pt x="7160" y="3392"/>
                </a:lnTo>
                <a:cubicBezTo>
                  <a:pt x="7165" y="3392"/>
                  <a:pt x="7168" y="3396"/>
                  <a:pt x="7168" y="3400"/>
                </a:cubicBezTo>
                <a:lnTo>
                  <a:pt x="7168" y="4360"/>
                </a:lnTo>
                <a:close/>
                <a:moveTo>
                  <a:pt x="7152" y="3400"/>
                </a:moveTo>
                <a:lnTo>
                  <a:pt x="7160" y="3408"/>
                </a:lnTo>
                <a:lnTo>
                  <a:pt x="3576" y="3408"/>
                </a:lnTo>
                <a:lnTo>
                  <a:pt x="3584" y="3400"/>
                </a:lnTo>
                <a:lnTo>
                  <a:pt x="3584" y="4360"/>
                </a:lnTo>
                <a:lnTo>
                  <a:pt x="3576" y="4352"/>
                </a:lnTo>
                <a:lnTo>
                  <a:pt x="7160" y="4352"/>
                </a:lnTo>
                <a:lnTo>
                  <a:pt x="7152" y="4360"/>
                </a:lnTo>
                <a:lnTo>
                  <a:pt x="7152" y="3400"/>
                </a:lnTo>
                <a:close/>
                <a:moveTo>
                  <a:pt x="7168" y="3224"/>
                </a:moveTo>
                <a:cubicBezTo>
                  <a:pt x="7168" y="3229"/>
                  <a:pt x="7165" y="3232"/>
                  <a:pt x="7160" y="3232"/>
                </a:cubicBezTo>
                <a:lnTo>
                  <a:pt x="3928" y="3232"/>
                </a:lnTo>
                <a:cubicBezTo>
                  <a:pt x="3924" y="3232"/>
                  <a:pt x="3920" y="3229"/>
                  <a:pt x="3920" y="3224"/>
                </a:cubicBezTo>
                <a:lnTo>
                  <a:pt x="3920" y="2264"/>
                </a:lnTo>
                <a:cubicBezTo>
                  <a:pt x="3920" y="2260"/>
                  <a:pt x="3924" y="2256"/>
                  <a:pt x="3928" y="2256"/>
                </a:cubicBezTo>
                <a:lnTo>
                  <a:pt x="7160" y="2256"/>
                </a:lnTo>
                <a:cubicBezTo>
                  <a:pt x="7165" y="2256"/>
                  <a:pt x="7168" y="2260"/>
                  <a:pt x="7168" y="2264"/>
                </a:cubicBezTo>
                <a:lnTo>
                  <a:pt x="7168" y="3224"/>
                </a:lnTo>
                <a:close/>
                <a:moveTo>
                  <a:pt x="7152" y="2264"/>
                </a:moveTo>
                <a:lnTo>
                  <a:pt x="7160" y="2272"/>
                </a:lnTo>
                <a:lnTo>
                  <a:pt x="3928" y="2272"/>
                </a:lnTo>
                <a:lnTo>
                  <a:pt x="3936" y="2264"/>
                </a:lnTo>
                <a:lnTo>
                  <a:pt x="3936" y="3224"/>
                </a:lnTo>
                <a:lnTo>
                  <a:pt x="3928" y="3216"/>
                </a:lnTo>
                <a:lnTo>
                  <a:pt x="7160" y="3216"/>
                </a:lnTo>
                <a:lnTo>
                  <a:pt x="7152" y="3224"/>
                </a:lnTo>
                <a:lnTo>
                  <a:pt x="7152" y="2264"/>
                </a:lnTo>
                <a:close/>
                <a:moveTo>
                  <a:pt x="7168" y="2104"/>
                </a:moveTo>
                <a:cubicBezTo>
                  <a:pt x="7168" y="2109"/>
                  <a:pt x="7165" y="2112"/>
                  <a:pt x="7160" y="2112"/>
                </a:cubicBezTo>
                <a:lnTo>
                  <a:pt x="5000" y="2112"/>
                </a:lnTo>
                <a:cubicBezTo>
                  <a:pt x="4996" y="2112"/>
                  <a:pt x="4992" y="2109"/>
                  <a:pt x="4992" y="2104"/>
                </a:cubicBezTo>
                <a:lnTo>
                  <a:pt x="4992" y="1128"/>
                </a:lnTo>
                <a:cubicBezTo>
                  <a:pt x="4992" y="1124"/>
                  <a:pt x="4996" y="1120"/>
                  <a:pt x="5000" y="1120"/>
                </a:cubicBezTo>
                <a:lnTo>
                  <a:pt x="7160" y="1120"/>
                </a:lnTo>
                <a:cubicBezTo>
                  <a:pt x="7165" y="1120"/>
                  <a:pt x="7168" y="1124"/>
                  <a:pt x="7168" y="1128"/>
                </a:cubicBezTo>
                <a:lnTo>
                  <a:pt x="7168" y="2104"/>
                </a:lnTo>
                <a:close/>
                <a:moveTo>
                  <a:pt x="7152" y="1128"/>
                </a:moveTo>
                <a:lnTo>
                  <a:pt x="7160" y="1136"/>
                </a:lnTo>
                <a:lnTo>
                  <a:pt x="5000" y="1136"/>
                </a:lnTo>
                <a:lnTo>
                  <a:pt x="5008" y="1128"/>
                </a:lnTo>
                <a:lnTo>
                  <a:pt x="5008" y="2104"/>
                </a:lnTo>
                <a:lnTo>
                  <a:pt x="5000" y="2096"/>
                </a:lnTo>
                <a:lnTo>
                  <a:pt x="7160" y="2096"/>
                </a:lnTo>
                <a:lnTo>
                  <a:pt x="7152" y="2104"/>
                </a:lnTo>
                <a:lnTo>
                  <a:pt x="7152" y="1128"/>
                </a:lnTo>
                <a:close/>
                <a:moveTo>
                  <a:pt x="7168" y="968"/>
                </a:moveTo>
                <a:cubicBezTo>
                  <a:pt x="7168" y="973"/>
                  <a:pt x="7165" y="976"/>
                  <a:pt x="7160" y="976"/>
                </a:cubicBezTo>
                <a:lnTo>
                  <a:pt x="5720" y="976"/>
                </a:lnTo>
                <a:cubicBezTo>
                  <a:pt x="5716" y="976"/>
                  <a:pt x="5712" y="973"/>
                  <a:pt x="5712" y="968"/>
                </a:cubicBezTo>
                <a:lnTo>
                  <a:pt x="5712" y="8"/>
                </a:lnTo>
                <a:cubicBezTo>
                  <a:pt x="5712" y="4"/>
                  <a:pt x="5716" y="0"/>
                  <a:pt x="5720" y="0"/>
                </a:cubicBezTo>
                <a:lnTo>
                  <a:pt x="7160" y="0"/>
                </a:lnTo>
                <a:cubicBezTo>
                  <a:pt x="7165" y="0"/>
                  <a:pt x="7168" y="4"/>
                  <a:pt x="7168" y="8"/>
                </a:cubicBezTo>
                <a:lnTo>
                  <a:pt x="7168" y="968"/>
                </a:lnTo>
                <a:close/>
                <a:moveTo>
                  <a:pt x="7152" y="8"/>
                </a:moveTo>
                <a:lnTo>
                  <a:pt x="7160" y="16"/>
                </a:lnTo>
                <a:lnTo>
                  <a:pt x="5720" y="16"/>
                </a:lnTo>
                <a:lnTo>
                  <a:pt x="5728" y="8"/>
                </a:lnTo>
                <a:lnTo>
                  <a:pt x="5728" y="968"/>
                </a:lnTo>
                <a:lnTo>
                  <a:pt x="5720" y="960"/>
                </a:lnTo>
                <a:lnTo>
                  <a:pt x="7160" y="960"/>
                </a:lnTo>
                <a:lnTo>
                  <a:pt x="7152" y="968"/>
                </a:lnTo>
                <a:lnTo>
                  <a:pt x="7152" y="8"/>
                </a:lnTo>
                <a:close/>
              </a:path>
            </a:pathLst>
          </a:custGeom>
          <a:solidFill>
            <a:srgbClr val="f9f9f9"/>
          </a:solidFill>
          <a:ln w="0">
            <a:solidFill>
              <a:srgbClr val="f9f9f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97240" y="5211720"/>
            <a:ext cx="4543560" cy="6480"/>
          </a:xfrm>
          <a:prstGeom prst="rect">
            <a:avLst/>
          </a:prstGeom>
          <a:solidFill>
            <a:srgbClr val="868686"/>
          </a:solidFill>
          <a:ln w="7920">
            <a:solidFill>
              <a:srgbClr val="86868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92560" y="1900080"/>
            <a:ext cx="7920" cy="3314880"/>
          </a:xfrm>
          <a:prstGeom prst="rect">
            <a:avLst/>
          </a:prstGeom>
          <a:solidFill>
            <a:srgbClr val="868686"/>
          </a:solidFill>
          <a:ln w="7920">
            <a:solidFill>
              <a:srgbClr val="86868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165560" y="5357880"/>
            <a:ext cx="172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8460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1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3856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2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49360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3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94756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4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152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5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5728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6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1124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7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76448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8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21844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9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648640" y="5357880"/>
            <a:ext cx="316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10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22040" y="4303800"/>
            <a:ext cx="3202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aluators need guidance for reviewing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39600" y="4483080"/>
            <a:ext cx="1451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tervention logic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31080" y="3751200"/>
            <a:ext cx="3601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aluators see need for a new Thematic Wor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058120" y="3930480"/>
            <a:ext cx="55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roup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11320" y="3198960"/>
            <a:ext cx="3109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aluators see a need on guidance for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486080" y="3378240"/>
            <a:ext cx="229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mmon evaluation ques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209240" y="2827440"/>
            <a:ext cx="2972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aluators need guidance on data gap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84720" y="2093760"/>
            <a:ext cx="2393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aluators need support  for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62960" y="2273400"/>
            <a:ext cx="2812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easurement/assessment of impac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578560" y="5630760"/>
            <a:ext cx="219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ocus groups (1 per Member Sta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93800" y="5268960"/>
            <a:ext cx="125640" cy="125280"/>
          </a:xfrm>
          <a:prstGeom prst="rect">
            <a:avLst/>
          </a:prstGeom>
          <a:solidFill>
            <a:srgbClr val="89a5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90560" y="5265720"/>
            <a:ext cx="131760" cy="133200"/>
          </a:xfrm>
          <a:custGeom>
            <a:avLst/>
            <a:gdLst/>
            <a:ahLst/>
            <a:rect l="l" t="t" r="r" b="b"/>
            <a:pathLst>
              <a:path w="272" h="272">
                <a:moveTo>
                  <a:pt x="0" y="8"/>
                </a:moveTo>
                <a:cubicBezTo>
                  <a:pt x="0" y="4"/>
                  <a:pt x="4" y="0"/>
                  <a:pt x="8" y="0"/>
                </a:cubicBezTo>
                <a:lnTo>
                  <a:pt x="264" y="0"/>
                </a:lnTo>
                <a:cubicBezTo>
                  <a:pt x="269" y="0"/>
                  <a:pt x="272" y="4"/>
                  <a:pt x="272" y="8"/>
                </a:cubicBezTo>
                <a:lnTo>
                  <a:pt x="272" y="264"/>
                </a:lnTo>
                <a:cubicBezTo>
                  <a:pt x="272" y="269"/>
                  <a:pt x="269" y="272"/>
                  <a:pt x="264" y="272"/>
                </a:cubicBezTo>
                <a:lnTo>
                  <a:pt x="8" y="272"/>
                </a:lnTo>
                <a:cubicBezTo>
                  <a:pt x="4" y="272"/>
                  <a:pt x="0" y="269"/>
                  <a:pt x="0" y="264"/>
                </a:cubicBezTo>
                <a:lnTo>
                  <a:pt x="0" y="8"/>
                </a:lnTo>
                <a:close/>
                <a:moveTo>
                  <a:pt x="16" y="264"/>
                </a:moveTo>
                <a:lnTo>
                  <a:pt x="8" y="256"/>
                </a:lnTo>
                <a:lnTo>
                  <a:pt x="264" y="256"/>
                </a:lnTo>
                <a:lnTo>
                  <a:pt x="256" y="264"/>
                </a:lnTo>
                <a:lnTo>
                  <a:pt x="256" y="8"/>
                </a:lnTo>
                <a:lnTo>
                  <a:pt x="264" y="16"/>
                </a:lnTo>
                <a:lnTo>
                  <a:pt x="8" y="16"/>
                </a:lnTo>
                <a:lnTo>
                  <a:pt x="16" y="8"/>
                </a:lnTo>
                <a:lnTo>
                  <a:pt x="16" y="264"/>
                </a:lnTo>
                <a:close/>
              </a:path>
            </a:pathLst>
          </a:custGeom>
          <a:solidFill>
            <a:srgbClr val="f9f9f9"/>
          </a:solidFill>
          <a:ln w="7920">
            <a:solidFill>
              <a:srgbClr val="f9f9f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007720" y="5197320"/>
            <a:ext cx="346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Y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85880" y="5268960"/>
            <a:ext cx="131760" cy="125280"/>
          </a:xfrm>
          <a:prstGeom prst="rect">
            <a:avLst/>
          </a:prstGeom>
          <a:solidFill>
            <a:srgbClr val="b9c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81200" y="5265720"/>
            <a:ext cx="141480" cy="133200"/>
          </a:xfrm>
          <a:custGeom>
            <a:avLst/>
            <a:gdLst/>
            <a:ahLst/>
            <a:rect l="l" t="t" r="r" b="b"/>
            <a:pathLst>
              <a:path w="288" h="272">
                <a:moveTo>
                  <a:pt x="0" y="8"/>
                </a:moveTo>
                <a:cubicBezTo>
                  <a:pt x="0" y="4"/>
                  <a:pt x="4" y="0"/>
                  <a:pt x="8" y="0"/>
                </a:cubicBezTo>
                <a:lnTo>
                  <a:pt x="280" y="0"/>
                </a:lnTo>
                <a:cubicBezTo>
                  <a:pt x="285" y="0"/>
                  <a:pt x="288" y="4"/>
                  <a:pt x="288" y="8"/>
                </a:cubicBezTo>
                <a:lnTo>
                  <a:pt x="288" y="264"/>
                </a:lnTo>
                <a:cubicBezTo>
                  <a:pt x="288" y="269"/>
                  <a:pt x="285" y="272"/>
                  <a:pt x="280" y="272"/>
                </a:cubicBezTo>
                <a:lnTo>
                  <a:pt x="8" y="272"/>
                </a:lnTo>
                <a:cubicBezTo>
                  <a:pt x="4" y="272"/>
                  <a:pt x="0" y="269"/>
                  <a:pt x="0" y="264"/>
                </a:cubicBezTo>
                <a:lnTo>
                  <a:pt x="0" y="8"/>
                </a:lnTo>
                <a:close/>
                <a:moveTo>
                  <a:pt x="16" y="264"/>
                </a:moveTo>
                <a:lnTo>
                  <a:pt x="8" y="256"/>
                </a:lnTo>
                <a:lnTo>
                  <a:pt x="280" y="256"/>
                </a:lnTo>
                <a:lnTo>
                  <a:pt x="272" y="264"/>
                </a:lnTo>
                <a:lnTo>
                  <a:pt x="272" y="8"/>
                </a:lnTo>
                <a:lnTo>
                  <a:pt x="280" y="16"/>
                </a:lnTo>
                <a:lnTo>
                  <a:pt x="8" y="16"/>
                </a:lnTo>
                <a:lnTo>
                  <a:pt x="16" y="8"/>
                </a:lnTo>
                <a:lnTo>
                  <a:pt x="16" y="264"/>
                </a:lnTo>
                <a:close/>
              </a:path>
            </a:pathLst>
          </a:custGeom>
          <a:solidFill>
            <a:srgbClr val="f9f9f9"/>
          </a:solidFill>
          <a:ln w="7920">
            <a:solidFill>
              <a:srgbClr val="f9f9f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58040" y="5197320"/>
            <a:ext cx="316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N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6667" t="6667" r="-0" b="10000"/>
          <a:stretch/>
        </p:blipFill>
        <p:spPr>
          <a:xfrm>
            <a:off x="-2438280" y="1676520"/>
            <a:ext cx="10667880" cy="56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0CE1-6408-42FD-A37B-53BBC4245C8B}" type="slidenum">
              <a:t>6</a:t>
            </a:fld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 </a:t>
            </a:r>
            <a:br>
              <a:rPr sz="3400"/>
            </a:b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assessment of RD impacts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476760" y="1600200"/>
            <a:ext cx="251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  <a:ea typeface="Times New Roman"/>
              </a:rPr>
              <a:t>Challenges /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nderstanding and implementing the CMEF impact indicato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ssessing impacts at an early stage of programme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1138" t="21691" r="2318" b="11170"/>
          <a:stretch/>
        </p:blipFill>
        <p:spPr>
          <a:xfrm>
            <a:off x="0" y="1447920"/>
            <a:ext cx="6477120" cy="4952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114800" y="4572000"/>
            <a:ext cx="2286000" cy="990720"/>
          </a:xfrm>
          <a:prstGeom prst="wedgeRoundRectCallout">
            <a:avLst>
              <a:gd name="adj1" fmla="val -29097"/>
              <a:gd name="adj2" fmla="val 96634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The RDP is at a very early stage of implementation (…)  with the exception of the measures continued from the past period (axis 2 mesures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38480" y="1523880"/>
            <a:ext cx="2286000" cy="1447920"/>
          </a:xfrm>
          <a:prstGeom prst="wedgeRoundRectCallout">
            <a:avLst>
              <a:gd name="adj1" fmla="val -86666"/>
              <a:gd name="adj2" fmla="val 6138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There is a clear focus on effects but the RDP has not yet provided a great number of effects. Rather, this evaluation should focus on how projects and processes are established and how they can be integrated in their contexts and in the programme structur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5486400"/>
            <a:ext cx="2286000" cy="685800"/>
          </a:xfrm>
          <a:prstGeom prst="wedgeRoundRectCallout">
            <a:avLst>
              <a:gd name="adj1" fmla="val 17916"/>
              <a:gd name="adj2" fmla="val -302314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oubt about whether CMEF offers the right indicators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600200"/>
            <a:ext cx="2286000" cy="1295280"/>
          </a:xfrm>
          <a:prstGeom prst="wedgeRoundRectCallout">
            <a:avLst>
              <a:gd name="adj1" fmla="val -47083"/>
              <a:gd name="adj2" fmla="val 79166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There is a need to demonstrate the wider relevance and importance of impact assessment and evaluation to beneficiaries in order to encourage their participation and strengthen their inpu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659B-A329-455E-87DC-C83C2D0CE283}" type="slidenum">
              <a:t>7</a:t>
            </a:fld>
          </a:p>
        </p:txBody>
      </p:sp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 </a:t>
            </a:r>
            <a:br>
              <a:rPr sz="3400"/>
            </a:b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 assessment of RD impacts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476760" y="1600200"/>
            <a:ext cx="251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  <a:ea typeface="Times New Roman"/>
              </a:rPr>
              <a:t>Challenges /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vercoming methodological problems in assessing the imp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oper scale and aggregation of imp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1138" t="21691" r="2318" b="11170"/>
          <a:stretch/>
        </p:blipFill>
        <p:spPr>
          <a:xfrm>
            <a:off x="0" y="1447920"/>
            <a:ext cx="6477120" cy="49528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038480" y="3581280"/>
            <a:ext cx="2286000" cy="1143000"/>
          </a:xfrm>
          <a:prstGeom prst="wedgeRoundRectCallout">
            <a:avLst>
              <a:gd name="adj1" fmla="val -82361"/>
              <a:gd name="adj2" fmla="val 22083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t which level should impacts be calculated? sectoral? or for the whole national economy? at the level of a holding or for the whole sector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2209680"/>
            <a:ext cx="2286000" cy="838440"/>
          </a:xfrm>
          <a:prstGeom prst="wedgeRoundRectCallout">
            <a:avLst>
              <a:gd name="adj1" fmla="val 32499"/>
              <a:gd name="adj2" fmla="val 134467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ow to aggregate impacts at programme level estimated by measurements at case study level or regional level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4800600"/>
            <a:ext cx="2286000" cy="609480"/>
          </a:xfrm>
          <a:prstGeom prst="wedgeRoundRectCallout">
            <a:avLst>
              <a:gd name="adj1" fmla="val 31458"/>
              <a:gd name="adj2" fmla="val -182291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ow to pass from case study to regional assessment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038480" y="5562720"/>
            <a:ext cx="2286000" cy="685800"/>
          </a:xfrm>
          <a:prstGeom prst="wedgeRoundRectCallout">
            <a:avLst>
              <a:gd name="adj1" fmla="val -79444"/>
              <a:gd name="adj2" fmla="val -168981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ow to separate RDP effects of other programmes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90920" y="1523880"/>
            <a:ext cx="1981080" cy="609840"/>
          </a:xfrm>
          <a:prstGeom prst="wedgeRoundRectCallout">
            <a:avLst>
              <a:gd name="adj1" fmla="val 15546"/>
              <a:gd name="adj2" fmla="val 207032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ow to separate external impacts from impacts of RDP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419720" y="2057400"/>
            <a:ext cx="1904760" cy="1143000"/>
          </a:xfrm>
          <a:prstGeom prst="wedgeRoundRectCallout">
            <a:avLst>
              <a:gd name="adj1" fmla="val -70833"/>
              <a:gd name="adj2" fmla="val 64999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ow to net out deadweight, displacement and multiplier effects to obtain net additional value for economic indicators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47920" y="5638680"/>
            <a:ext cx="1828800" cy="685800"/>
          </a:xfrm>
          <a:prstGeom prst="wedgeRoundRectCallout">
            <a:avLst>
              <a:gd name="adj1" fmla="val 30990"/>
              <a:gd name="adj2" fmla="val -120601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ow to measure the impact in the same year of the payment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7184-74C3-4ACA-AEC3-2D9C25D37CD2}" type="slidenum">
              <a:t>8</a:t>
            </a:fld>
          </a:p>
        </p:txBody>
      </p:sp>
    </p:spTree>
  </p:cSld>
  <p:transition>
    <p:pull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 </a:t>
            </a:r>
            <a:br>
              <a:rPr sz="3400"/>
            </a:b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assessment of RD impacts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476760" y="1600200"/>
            <a:ext cx="251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  <a:ea typeface="Times New Roman"/>
              </a:rPr>
              <a:t>Challenges /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veloping further specific analytical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1138" t="21691" r="2318" b="11170"/>
          <a:stretch/>
        </p:blipFill>
        <p:spPr>
          <a:xfrm>
            <a:off x="0" y="1447920"/>
            <a:ext cx="6477120" cy="49528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114800" y="4876920"/>
            <a:ext cx="2286000" cy="685800"/>
          </a:xfrm>
          <a:prstGeom prst="wedgeRoundRectCallout">
            <a:avLst>
              <a:gd name="adj1" fmla="val 40416"/>
              <a:gd name="adj2" fmla="val 137731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There is a need for support on how to use GIS for environmental indicato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" y="1600200"/>
            <a:ext cx="2286000" cy="990720"/>
          </a:xfrm>
          <a:prstGeom prst="wedgeRoundRectCallout">
            <a:avLst>
              <a:gd name="adj1" fmla="val 80555"/>
              <a:gd name="adj2" fmla="val -5129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Regression analysis is used for 3 economic impact indicators and gives advantage to measure net effe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19520" y="2666880"/>
            <a:ext cx="2286000" cy="838440"/>
          </a:xfrm>
          <a:prstGeom prst="wedgeRoundRectCallout">
            <a:avLst>
              <a:gd name="adj1" fmla="val -75416"/>
              <a:gd name="adj2" fmla="val 79925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hift and share” analysis is used for the measurement of the 3 economic impact indicator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5105520"/>
            <a:ext cx="2286000" cy="838080"/>
          </a:xfrm>
          <a:prstGeom prst="wedgeRoundRectCallout">
            <a:avLst>
              <a:gd name="adj1" fmla="val 14791"/>
              <a:gd name="adj2" fmla="val -182574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IS analysis at very low scale of all indicators contributing to biodiversity could provide very useful additional information to impact indicator 4 .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592F-55A1-4181-A667-1EDDD19155CD}" type="slidenum">
              <a:t>9</a:t>
            </a:fld>
          </a:p>
        </p:txBody>
      </p:sp>
    </p:spTree>
  </p:cSld>
  <p:transition>
    <p:pull dir="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0T19:40:08Z</dcterms:created>
  <dc:creator>Hannes Wimmer</dc:creator>
  <dc:description/>
  <dc:language>en-US</dc:language>
  <cp:lastModifiedBy>zaoujjo</cp:lastModifiedBy>
  <dcterms:modified xsi:type="dcterms:W3CDTF">2009-12-08T08:33:52Z</dcterms:modified>
  <cp:revision>169</cp:revision>
  <dc:subject/>
  <dc:title>Needs Assessment 2009</dc:title>
</cp:coreProperties>
</file>