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463-EBB0-42E3-99BA-BFA09FA1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303-6949-4E92-9AA3-02473A82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9781-F911-4C8A-988C-0A4E3DCF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384-8308-47F3-BAA7-24C617E4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E352-DC97-4459-9026-D7DE2C5D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C41-F3C5-4089-86A4-A07096A3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59D-5CEA-4D37-9F87-2FD8155F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6BC-AE43-4E81-AC65-652E4867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2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B1A0-2CF4-4C47-BCBB-5DA6EC2C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D0C5-C90C-4FAC-9926-67CCD81A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149-A089-4A95-ADA2-F1272A5C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57B-D048-4AE6-8C48-A01AE157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4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7 December 2009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valuation Expert Committe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16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80D6-A551-4956-98FC-265F09B59191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553080" y="237960"/>
            <a:ext cx="2403720" cy="744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Update of the </a:t>
            </a:r>
            <a:br>
              <a:rPr sz="4000"/>
            </a:b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Needs Assessment in the Member States</a:t>
            </a:r>
            <a:endParaRPr b="1" lang="en-US" sz="40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33333"/>
                </a:solidFill>
                <a:latin typeface="Arial"/>
              </a:rPr>
              <a:t>Hannes Wim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DA6-2918-456B-9997-2F9009E83F9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data ga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data availability and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the data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aling with existing data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228600" y="1600200"/>
            <a:ext cx="6172200" cy="3429000"/>
            <a:chOff x="228600" y="1600200"/>
            <a:chExt cx="6172200" cy="3429000"/>
          </a:xfrm>
        </p:grpSpPr>
        <p:sp>
          <p:nvSpPr>
            <p:cNvPr id="129" name=""/>
            <p:cNvSpPr/>
            <p:nvPr/>
          </p:nvSpPr>
          <p:spPr>
            <a:xfrm>
              <a:off x="4114800" y="3962520"/>
              <a:ext cx="2286000" cy="838080"/>
            </a:xfrm>
            <a:prstGeom prst="wedgeRoundRectCallout">
              <a:avLst>
                <a:gd name="adj1" fmla="val -81180"/>
                <a:gd name="adj2" fmla="val 4356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rgets were reset after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ealth check …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MAs  have difficulties to take this into account 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" y="1600200"/>
              <a:ext cx="2286000" cy="838080"/>
            </a:xfrm>
            <a:prstGeom prst="wedgeRoundRectCallout">
              <a:avLst>
                <a:gd name="adj1" fmla="val 1805"/>
                <a:gd name="adj2" fmla="val 12556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rief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written supplementary guidance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o CMEF as was provided for GVA would be helpfu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600" y="4191120"/>
              <a:ext cx="1981080" cy="838080"/>
            </a:xfrm>
            <a:prstGeom prst="wedgeRoundRectCallout">
              <a:avLst>
                <a:gd name="adj1" fmla="val -17949"/>
                <a:gd name="adj2" fmla="val -13560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a gathering should b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cognized as highly important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y MA, so “ongoing and priority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09480" y="5257800"/>
            <a:ext cx="1981440" cy="1066680"/>
          </a:xfrm>
          <a:prstGeom prst="wedgeRoundRectCallout">
            <a:avLst>
              <a:gd name="adj1" fmla="val -70273"/>
              <a:gd name="adj2" fmla="val -520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 on providing 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qualitative assessment methodologie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absence of robust quantitative inform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52480" y="1600200"/>
            <a:ext cx="3886200" cy="1981080"/>
            <a:chOff x="1752480" y="1600200"/>
            <a:chExt cx="3886200" cy="1981080"/>
          </a:xfrm>
        </p:grpSpPr>
        <p:sp>
          <p:nvSpPr>
            <p:cNvPr id="134" name=""/>
            <p:cNvSpPr/>
            <p:nvPr/>
          </p:nvSpPr>
          <p:spPr>
            <a:xfrm>
              <a:off x="1752480" y="2743200"/>
              <a:ext cx="2286000" cy="838080"/>
            </a:xfrm>
            <a:prstGeom prst="wedgeRoundRectCallout">
              <a:avLst>
                <a:gd name="adj1" fmla="val -54583"/>
                <a:gd name="adj2" fmla="val 10189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fficulties to collect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ata for farming and diversification measures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accountancy systems do not collect enough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2680" y="1600200"/>
              <a:ext cx="2286000" cy="838080"/>
            </a:xfrm>
            <a:prstGeom prst="wedgeRoundRectCallout">
              <a:avLst>
                <a:gd name="adj1" fmla="val -16875"/>
                <a:gd name="adj2" fmla="val 10643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collect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liable economic information of farm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not receiving support from RDP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66880" y="2971800"/>
            <a:ext cx="3657600" cy="2895480"/>
            <a:chOff x="2666880" y="2971800"/>
            <a:chExt cx="3657600" cy="2895480"/>
          </a:xfrm>
        </p:grpSpPr>
        <p:sp>
          <p:nvSpPr>
            <p:cNvPr id="137" name=""/>
            <p:cNvSpPr/>
            <p:nvPr/>
          </p:nvSpPr>
          <p:spPr>
            <a:xfrm>
              <a:off x="2666880" y="5029200"/>
              <a:ext cx="2286000" cy="838080"/>
            </a:xfrm>
            <a:prstGeom prst="wedgeRoundRectCallout">
              <a:avLst>
                <a:gd name="adj1" fmla="val 42569"/>
                <a:gd name="adj2" fmla="val 8598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deal with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ime gap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2-3 years) between the availability of data of Eurostat which is used for the baseline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320" y="2971800"/>
              <a:ext cx="1676160" cy="838080"/>
            </a:xfrm>
            <a:prstGeom prst="wedgeRoundRectCallout">
              <a:avLst>
                <a:gd name="adj1" fmla="val -185796"/>
                <a:gd name="adj2" fmla="val 8200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ide more information on the different 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ata sources at EU level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7FAB-B80A-4CB2-85DD-015F04B621B9}" type="slidenum">
              <a:t>10</a:t>
            </a:fld>
          </a:p>
        </p:txBody>
      </p:sp>
    </p:spTree>
  </p:cSld>
  <p:transition>
    <p:pull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Leader an QoL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up relevant know-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dequate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ckling the qualitative nature of the effects &amp; small scale of interven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ing beneficiaries in the evalu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14800" y="3429000"/>
            <a:ext cx="2286000" cy="609480"/>
          </a:xfrm>
          <a:prstGeom prst="wedgeRoundRectCallout">
            <a:avLst>
              <a:gd name="adj1" fmla="val -57986"/>
              <a:gd name="adj2" fmla="val 736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case of quality of life it is not clear 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what data should be collected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00200"/>
            <a:ext cx="4952880" cy="4648320"/>
            <a:chOff x="304920" y="1600200"/>
            <a:chExt cx="4952880" cy="4648320"/>
          </a:xfrm>
        </p:grpSpPr>
        <p:sp>
          <p:nvSpPr>
            <p:cNvPr id="144" name=""/>
            <p:cNvSpPr/>
            <p:nvPr/>
          </p:nvSpPr>
          <p:spPr>
            <a:xfrm>
              <a:off x="2971800" y="1676520"/>
              <a:ext cx="2286000" cy="838080"/>
            </a:xfrm>
            <a:prstGeom prst="wedgeRoundRectCallout">
              <a:avLst>
                <a:gd name="adj1" fmla="val -32361"/>
                <a:gd name="adj2" fmla="val 264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is very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ifficult to evaluate qualitative asp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like governance, capacity and the use of endogenous potential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920" y="1600200"/>
              <a:ext cx="1981080" cy="1219320"/>
            </a:xfrm>
            <a:prstGeom prst="wedgeRoundRectCallout">
              <a:avLst>
                <a:gd name="adj1" fmla="val 115462"/>
                <a:gd name="adj2" fmla="val 11224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greatest challenges ar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ime gap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etween the launch of the measures and the moment when impacts are visibl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4400" y="5257800"/>
              <a:ext cx="2286000" cy="990720"/>
            </a:xfrm>
            <a:prstGeom prst="wedgeRoundRectCallout">
              <a:avLst>
                <a:gd name="adj1" fmla="val 55763"/>
                <a:gd name="adj2" fmla="val -10000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implementation period is rather short and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mount of money allocated is rather smal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The impact will be evident over a longer period of tim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28600" y="3276720"/>
            <a:ext cx="2286000" cy="1143000"/>
          </a:xfrm>
          <a:prstGeom prst="wedgeRoundRectCallout">
            <a:avLst>
              <a:gd name="adj1" fmla="val 99097"/>
              <a:gd name="adj2" fmla="val 6194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nvolvement of beneficiarie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will be difficult since they are  not trained for impact measurement and it is uncertain to what extent they can co-ope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505320" y="2743200"/>
            <a:ext cx="2819160" cy="3429000"/>
            <a:chOff x="3505320" y="2743200"/>
            <a:chExt cx="2819160" cy="3429000"/>
          </a:xfrm>
        </p:grpSpPr>
        <p:sp>
          <p:nvSpPr>
            <p:cNvPr id="149" name=""/>
            <p:cNvSpPr/>
            <p:nvPr/>
          </p:nvSpPr>
          <p:spPr>
            <a:xfrm>
              <a:off x="3505320" y="5562720"/>
              <a:ext cx="2286000" cy="609480"/>
            </a:xfrm>
            <a:prstGeom prst="wedgeRoundRectCallout">
              <a:avLst>
                <a:gd name="adj1" fmla="val 65625"/>
                <a:gd name="adj2" fmla="val 5234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re is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of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revious experience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the evaluation of Leader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8480" y="2743200"/>
              <a:ext cx="2286000" cy="609480"/>
            </a:xfrm>
            <a:prstGeom prst="wedgeRoundRectCallout">
              <a:avLst>
                <a:gd name="adj1" fmla="val -39722"/>
                <a:gd name="adj2" fmla="val -7317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evaluator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oes not have experience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evaluating Leader &amp; Quality of Lif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2520" y="4876920"/>
              <a:ext cx="2286000" cy="609480"/>
            </a:xfrm>
            <a:prstGeom prst="wedgeRoundRectCallout">
              <a:avLst>
                <a:gd name="adj1" fmla="val -22013"/>
                <a:gd name="adj2" fmla="val -11250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Leader approach is still 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under construction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E4F-7AFF-4629-8D06-49B72A3140A6}" type="slidenum">
              <a:t>11</a:t>
            </a:fld>
          </a:p>
        </p:txBody>
      </p:sp>
    </p:spTree>
  </p:cSld>
  <p:transition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CEQ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general scope and use  of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the links between EQ, criteria and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he meaning of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examples for answers to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the horizontal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1600200"/>
            <a:ext cx="1981080" cy="609480"/>
          </a:xfrm>
          <a:prstGeom prst="wedgeRoundRectCallout">
            <a:avLst>
              <a:gd name="adj1" fmla="val 40064"/>
              <a:gd name="adj2" fmla="val 32291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 of answer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to EQ would be welco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505320" y="1523880"/>
            <a:ext cx="2895480" cy="4724640"/>
            <a:chOff x="3505320" y="1523880"/>
            <a:chExt cx="2895480" cy="4724640"/>
          </a:xfrm>
        </p:grpSpPr>
        <p:sp>
          <p:nvSpPr>
            <p:cNvPr id="157" name=""/>
            <p:cNvSpPr/>
            <p:nvPr/>
          </p:nvSpPr>
          <p:spPr>
            <a:xfrm>
              <a:off x="4114800" y="1523880"/>
              <a:ext cx="2286000" cy="914400"/>
            </a:xfrm>
            <a:prstGeom prst="wedgeRoundRectCallout">
              <a:avLst>
                <a:gd name="adj1" fmla="val -60694"/>
                <a:gd name="adj2" fmla="val 486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EQ:s ar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wide in scope and very ambitiou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ens up for a variety of approach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05320" y="5562720"/>
              <a:ext cx="2286000" cy="685800"/>
            </a:xfrm>
            <a:prstGeom prst="wedgeRoundRectCallout">
              <a:avLst>
                <a:gd name="adj1" fmla="val -55763"/>
                <a:gd name="adj2" fmla="val -17245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w to compare EU wide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when local methods and definitions are applied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52280" y="3352680"/>
            <a:ext cx="6172200" cy="1752840"/>
            <a:chOff x="152280" y="3352680"/>
            <a:chExt cx="6172200" cy="1752840"/>
          </a:xfrm>
        </p:grpSpPr>
        <p:sp>
          <p:nvSpPr>
            <p:cNvPr id="160" name=""/>
            <p:cNvSpPr/>
            <p:nvPr/>
          </p:nvSpPr>
          <p:spPr>
            <a:xfrm>
              <a:off x="4038480" y="3352680"/>
              <a:ext cx="2286000" cy="1143000"/>
            </a:xfrm>
            <a:prstGeom prst="wedgeRoundRectCallout">
              <a:avLst>
                <a:gd name="adj1" fmla="val -46875"/>
                <a:gd name="adj2" fmla="val -87638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overlapping of EQ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common and horizontal) results in confusion, risk to receive similar answers to many different question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2280" y="3581280"/>
              <a:ext cx="1524240" cy="838440"/>
            </a:xfrm>
            <a:prstGeom prst="wedgeRoundRectCallout">
              <a:avLst>
                <a:gd name="adj1" fmla="val -42601"/>
                <a:gd name="adj2" fmla="val 164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 of precise definition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terms and concepts used in the formulati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4495680"/>
              <a:ext cx="1828800" cy="609840"/>
            </a:xfrm>
            <a:prstGeom prst="wedgeRoundRectCallout">
              <a:avLst>
                <a:gd name="adj1" fmla="val 41407"/>
                <a:gd name="adj2" fmla="val -11692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rizontal questions are more makro level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han programme level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990720" y="2209680"/>
            <a:ext cx="3047760" cy="4114800"/>
            <a:chOff x="990720" y="2209680"/>
            <a:chExt cx="3047760" cy="4114800"/>
          </a:xfrm>
        </p:grpSpPr>
        <p:sp>
          <p:nvSpPr>
            <p:cNvPr id="164" name=""/>
            <p:cNvSpPr/>
            <p:nvPr/>
          </p:nvSpPr>
          <p:spPr>
            <a:xfrm>
              <a:off x="2286000" y="2209680"/>
              <a:ext cx="1752480" cy="762120"/>
            </a:xfrm>
            <a:prstGeom prst="wedgeRoundRectCallout">
              <a:avLst>
                <a:gd name="adj1" fmla="val 27717"/>
                <a:gd name="adj2" fmla="val 13312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of connection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etween Common indicators and CEQ: develop a matrix!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90720" y="5638680"/>
              <a:ext cx="1828800" cy="685800"/>
            </a:xfrm>
            <a:prstGeom prst="wedgeRoundRectCallout">
              <a:avLst>
                <a:gd name="adj1" fmla="val 60851"/>
                <a:gd name="adj2" fmla="val -10023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m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questions are “summaries”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other questio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213-092C-4744-B849-35FEF890D6D7}" type="slidenum">
              <a:t>12</a:t>
            </a:fld>
          </a:p>
        </p:txBody>
      </p:sp>
    </p:spTree>
  </p:cSld>
  <p:transition>
    <p:pull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further need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Helpdesk’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work more usefu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lso for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outputs of Thematic Working Group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more tangible and 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nsur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speedy follow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form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xplain th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purpose of the guidan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good practices and direct exchan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tween evaluators in the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2AF-DCC3-4C90-818B-D0EAB4953F3C}" type="slidenum">
              <a:t>13</a:t>
            </a:fld>
          </a:p>
        </p:txBody>
      </p:sp>
    </p:spTree>
  </p:cSld>
  <p:transition>
    <p:pull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Themes for thematic working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valuation of specific measures/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y of Life and LEADER; agri-environmental measures; link between axi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B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fically cover impact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Climate change, water quality, HNV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C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evaluation approaches /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ative impacts, counterfactual and participatory approach, methodological problem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D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ther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evaluation of national networks; data collection and data validity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ative and quantitative indicators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; semantic clarifications about the EQ; thematic groups on programme intervention and horizontal EQ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A9C-12B1-4949-9CF4-39420ECE6916}" type="slidenum">
              <a:t>14</a:t>
            </a:fld>
          </a:p>
        </p:txBody>
      </p:sp>
    </p:spTree>
  </p:cSld>
  <p:transition>
    <p:pull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support for the assessment of RD impacts indicators and the overall programme impact is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Confirms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Deepening and integrating work of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y more attention to specific methodological challenges in assessing imp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Task for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 specific analytical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New themes for Thematic pool, information exchange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666-90C1-4FF1-A1E1-2C856B748E17}" type="slidenum">
              <a:t>15</a:t>
            </a:fld>
          </a:p>
        </p:txBody>
      </p:sp>
    </p:spTree>
  </p:cSld>
  <p:transition>
    <p:pull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 practical examples and collaborative working methods to bridge the gap between theory and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working method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vide specific help for understanding, interpreting and answering the CEQ (in view of MTE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activity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 into account data-gaps at the output and result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Guidance how to handle existing data gaps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ed up procedures for answering technical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Reserve sufficient capacity to provide adequate and immediate answers to technical question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e outputs of the Thematic Working Groups more tang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Involve evaluators more directly into the work!  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seminate and interlink knowledge and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Provide an effective platform for information exchange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7C7-85C9-46E9-9F71-CFB4A48F4BD7}" type="slidenum">
              <a:t>16</a:t>
            </a:fld>
          </a:p>
        </p:txBody>
      </p:sp>
    </p:spTree>
  </p:cSld>
  <p:transition>
    <p:pull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8D7-A138-4E3F-B1A1-0A70779E2175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tent</a:t>
            </a: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	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 themes of focus group discu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 of the 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group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82C4-185B-493F-8C67-37E18AEC06C0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Purpose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ighlight the specific nee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evaluation stakeholders related to the  mid-term evaluations (M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elp fine-tune ongoing activ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dentify potential new areas for the Helpdes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4FB-676F-40CF-BED7-9F6C53E6512D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Specific focus of needs assessment in 2009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eds related to the mid-term-evaluation in particular conce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Measurement/assessment of the CMEF impact indicator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Evaluation of Leader and Quality of Lif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Data gap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Common Evaluation Questions, intervention logi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s for Thematic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2848-BDF0-4A8F-BBF5-521AA48450DF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Organisation of focus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458200" cy="476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93A8-72CE-438D-8CE5-46AA462BAF5C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In which areas is support most needed?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2560" y="1895400"/>
            <a:ext cx="4543560" cy="331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1900080"/>
            <a:ext cx="4097520" cy="3314880"/>
          </a:xfrm>
          <a:custGeom>
            <a:avLst/>
            <a:gdLst/>
            <a:ahLst/>
            <a:rect l="l" t="t" r="r" b="b"/>
            <a:pathLst>
              <a:path w="2581" h="2088">
                <a:moveTo>
                  <a:pt x="5" y="0"/>
                </a:moveTo>
                <a:lnTo>
                  <a:pt x="5" y="2088"/>
                </a:lnTo>
                <a:lnTo>
                  <a:pt x="0" y="2088"/>
                </a:lnTo>
                <a:lnTo>
                  <a:pt x="0" y="0"/>
                </a:lnTo>
                <a:lnTo>
                  <a:pt x="5" y="0"/>
                </a:lnTo>
                <a:close/>
                <a:moveTo>
                  <a:pt x="290" y="0"/>
                </a:moveTo>
                <a:lnTo>
                  <a:pt x="290" y="2088"/>
                </a:lnTo>
                <a:lnTo>
                  <a:pt x="286" y="2088"/>
                </a:lnTo>
                <a:lnTo>
                  <a:pt x="286" y="0"/>
                </a:lnTo>
                <a:lnTo>
                  <a:pt x="290" y="0"/>
                </a:lnTo>
                <a:close/>
                <a:moveTo>
                  <a:pt x="576" y="0"/>
                </a:moveTo>
                <a:lnTo>
                  <a:pt x="576" y="2088"/>
                </a:lnTo>
                <a:lnTo>
                  <a:pt x="571" y="2088"/>
                </a:lnTo>
                <a:lnTo>
                  <a:pt x="571" y="0"/>
                </a:lnTo>
                <a:lnTo>
                  <a:pt x="576" y="0"/>
                </a:lnTo>
                <a:close/>
                <a:moveTo>
                  <a:pt x="862" y="0"/>
                </a:moveTo>
                <a:lnTo>
                  <a:pt x="862" y="2088"/>
                </a:lnTo>
                <a:lnTo>
                  <a:pt x="857" y="2088"/>
                </a:lnTo>
                <a:lnTo>
                  <a:pt x="857" y="0"/>
                </a:lnTo>
                <a:lnTo>
                  <a:pt x="862" y="0"/>
                </a:lnTo>
                <a:close/>
                <a:moveTo>
                  <a:pt x="1148" y="0"/>
                </a:moveTo>
                <a:lnTo>
                  <a:pt x="1148" y="2088"/>
                </a:lnTo>
                <a:lnTo>
                  <a:pt x="1143" y="2088"/>
                </a:lnTo>
                <a:lnTo>
                  <a:pt x="1143" y="0"/>
                </a:lnTo>
                <a:lnTo>
                  <a:pt x="1148" y="0"/>
                </a:lnTo>
                <a:close/>
                <a:moveTo>
                  <a:pt x="1438" y="0"/>
                </a:moveTo>
                <a:lnTo>
                  <a:pt x="1438" y="2088"/>
                </a:lnTo>
                <a:lnTo>
                  <a:pt x="1433" y="2088"/>
                </a:lnTo>
                <a:lnTo>
                  <a:pt x="1433" y="0"/>
                </a:lnTo>
                <a:lnTo>
                  <a:pt x="1438" y="0"/>
                </a:lnTo>
                <a:close/>
                <a:moveTo>
                  <a:pt x="1724" y="0"/>
                </a:moveTo>
                <a:lnTo>
                  <a:pt x="1724" y="2088"/>
                </a:lnTo>
                <a:lnTo>
                  <a:pt x="1719" y="2088"/>
                </a:lnTo>
                <a:lnTo>
                  <a:pt x="1719" y="0"/>
                </a:lnTo>
                <a:lnTo>
                  <a:pt x="1724" y="0"/>
                </a:lnTo>
                <a:close/>
                <a:moveTo>
                  <a:pt x="2010" y="0"/>
                </a:moveTo>
                <a:lnTo>
                  <a:pt x="2010" y="2088"/>
                </a:lnTo>
                <a:lnTo>
                  <a:pt x="2005" y="2088"/>
                </a:lnTo>
                <a:lnTo>
                  <a:pt x="2005" y="0"/>
                </a:lnTo>
                <a:lnTo>
                  <a:pt x="2010" y="0"/>
                </a:lnTo>
                <a:close/>
                <a:moveTo>
                  <a:pt x="2296" y="0"/>
                </a:moveTo>
                <a:lnTo>
                  <a:pt x="2296" y="2088"/>
                </a:lnTo>
                <a:lnTo>
                  <a:pt x="2291" y="2088"/>
                </a:lnTo>
                <a:lnTo>
                  <a:pt x="2291" y="0"/>
                </a:lnTo>
                <a:lnTo>
                  <a:pt x="2296" y="0"/>
                </a:lnTo>
                <a:close/>
                <a:moveTo>
                  <a:pt x="2581" y="0"/>
                </a:moveTo>
                <a:lnTo>
                  <a:pt x="2581" y="2088"/>
                </a:lnTo>
                <a:lnTo>
                  <a:pt x="2576" y="2088"/>
                </a:lnTo>
                <a:lnTo>
                  <a:pt x="2576" y="0"/>
                </a:lnTo>
                <a:lnTo>
                  <a:pt x="2581" y="0"/>
                </a:lnTo>
                <a:close/>
              </a:path>
            </a:pathLst>
          </a:cu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7240" y="1938240"/>
            <a:ext cx="3838680" cy="2683080"/>
          </a:xfrm>
          <a:custGeom>
            <a:avLst/>
            <a:gdLst/>
            <a:ahLst/>
            <a:rect l="l" t="t" r="r" b="b"/>
            <a:pathLst>
              <a:path w="2418" h="1690">
                <a:moveTo>
                  <a:pt x="660" y="1690"/>
                </a:moveTo>
                <a:lnTo>
                  <a:pt x="0" y="1690"/>
                </a:lnTo>
                <a:lnTo>
                  <a:pt x="0" y="1389"/>
                </a:lnTo>
                <a:lnTo>
                  <a:pt x="660" y="1389"/>
                </a:lnTo>
                <a:lnTo>
                  <a:pt x="660" y="1690"/>
                </a:lnTo>
                <a:close/>
                <a:moveTo>
                  <a:pt x="1758" y="1340"/>
                </a:moveTo>
                <a:lnTo>
                  <a:pt x="0" y="1340"/>
                </a:lnTo>
                <a:lnTo>
                  <a:pt x="0" y="1044"/>
                </a:lnTo>
                <a:lnTo>
                  <a:pt x="1758" y="1044"/>
                </a:lnTo>
                <a:lnTo>
                  <a:pt x="1758" y="1340"/>
                </a:lnTo>
                <a:close/>
                <a:moveTo>
                  <a:pt x="1867" y="990"/>
                </a:moveTo>
                <a:lnTo>
                  <a:pt x="0" y="990"/>
                </a:lnTo>
                <a:lnTo>
                  <a:pt x="0" y="695"/>
                </a:lnTo>
                <a:lnTo>
                  <a:pt x="1867" y="695"/>
                </a:lnTo>
                <a:lnTo>
                  <a:pt x="1867" y="990"/>
                </a:lnTo>
                <a:close/>
                <a:moveTo>
                  <a:pt x="2197" y="645"/>
                </a:moveTo>
                <a:lnTo>
                  <a:pt x="0" y="645"/>
                </a:lnTo>
                <a:lnTo>
                  <a:pt x="0" y="345"/>
                </a:lnTo>
                <a:lnTo>
                  <a:pt x="2197" y="345"/>
                </a:lnTo>
                <a:lnTo>
                  <a:pt x="2197" y="645"/>
                </a:lnTo>
                <a:close/>
                <a:moveTo>
                  <a:pt x="2418" y="296"/>
                </a:moveTo>
                <a:lnTo>
                  <a:pt x="0" y="296"/>
                </a:lnTo>
                <a:lnTo>
                  <a:pt x="0" y="0"/>
                </a:lnTo>
                <a:lnTo>
                  <a:pt x="2418" y="0"/>
                </a:lnTo>
                <a:lnTo>
                  <a:pt x="2418" y="296"/>
                </a:lnTo>
                <a:close/>
              </a:path>
            </a:pathLst>
          </a:cu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2560" y="1935000"/>
            <a:ext cx="3848040" cy="2689560"/>
          </a:xfrm>
          <a:custGeom>
            <a:avLst/>
            <a:gdLst/>
            <a:ahLst/>
            <a:rect l="l" t="t" r="r" b="b"/>
            <a:pathLst>
              <a:path w="7872" h="5504">
                <a:moveTo>
                  <a:pt x="2160" y="5496"/>
                </a:moveTo>
                <a:cubicBezTo>
                  <a:pt x="2160" y="5501"/>
                  <a:pt x="2157" y="5504"/>
                  <a:pt x="2152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2152" y="4512"/>
                </a:lnTo>
                <a:cubicBezTo>
                  <a:pt x="2157" y="4512"/>
                  <a:pt x="2160" y="4516"/>
                  <a:pt x="2160" y="4520"/>
                </a:cubicBezTo>
                <a:lnTo>
                  <a:pt x="2160" y="5496"/>
                </a:lnTo>
                <a:close/>
                <a:moveTo>
                  <a:pt x="2144" y="4520"/>
                </a:moveTo>
                <a:lnTo>
                  <a:pt x="2152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2152" y="5488"/>
                </a:lnTo>
                <a:lnTo>
                  <a:pt x="2144" y="5496"/>
                </a:lnTo>
                <a:lnTo>
                  <a:pt x="2144" y="4520"/>
                </a:lnTo>
                <a:close/>
                <a:moveTo>
                  <a:pt x="5728" y="4360"/>
                </a:moveTo>
                <a:cubicBezTo>
                  <a:pt x="5728" y="4365"/>
                  <a:pt x="5725" y="4368"/>
                  <a:pt x="5720" y="4368"/>
                </a:cubicBezTo>
                <a:lnTo>
                  <a:pt x="8" y="4368"/>
                </a:lnTo>
                <a:cubicBezTo>
                  <a:pt x="4" y="4368"/>
                  <a:pt x="0" y="4365"/>
                  <a:pt x="0" y="4360"/>
                </a:cubicBezTo>
                <a:lnTo>
                  <a:pt x="0" y="3400"/>
                </a:lnTo>
                <a:cubicBezTo>
                  <a:pt x="0" y="3396"/>
                  <a:pt x="4" y="3392"/>
                  <a:pt x="8" y="3392"/>
                </a:cubicBezTo>
                <a:lnTo>
                  <a:pt x="5720" y="3392"/>
                </a:lnTo>
                <a:cubicBezTo>
                  <a:pt x="5725" y="3392"/>
                  <a:pt x="5728" y="3396"/>
                  <a:pt x="5728" y="3400"/>
                </a:cubicBezTo>
                <a:lnTo>
                  <a:pt x="5728" y="4360"/>
                </a:lnTo>
                <a:close/>
                <a:moveTo>
                  <a:pt x="5712" y="3400"/>
                </a:moveTo>
                <a:lnTo>
                  <a:pt x="5720" y="3408"/>
                </a:lnTo>
                <a:lnTo>
                  <a:pt x="8" y="3408"/>
                </a:lnTo>
                <a:lnTo>
                  <a:pt x="16" y="3400"/>
                </a:lnTo>
                <a:lnTo>
                  <a:pt x="16" y="4360"/>
                </a:lnTo>
                <a:lnTo>
                  <a:pt x="8" y="4352"/>
                </a:lnTo>
                <a:lnTo>
                  <a:pt x="5720" y="4352"/>
                </a:lnTo>
                <a:lnTo>
                  <a:pt x="5712" y="4360"/>
                </a:lnTo>
                <a:lnTo>
                  <a:pt x="5712" y="3400"/>
                </a:lnTo>
                <a:close/>
                <a:moveTo>
                  <a:pt x="6080" y="3224"/>
                </a:moveTo>
                <a:cubicBezTo>
                  <a:pt x="6080" y="3229"/>
                  <a:pt x="6077" y="3232"/>
                  <a:pt x="6072" y="3232"/>
                </a:cubicBezTo>
                <a:lnTo>
                  <a:pt x="8" y="3232"/>
                </a:lnTo>
                <a:cubicBezTo>
                  <a:pt x="4" y="3232"/>
                  <a:pt x="0" y="3229"/>
                  <a:pt x="0" y="3224"/>
                </a:cubicBezTo>
                <a:lnTo>
                  <a:pt x="0" y="2264"/>
                </a:lnTo>
                <a:cubicBezTo>
                  <a:pt x="0" y="2260"/>
                  <a:pt x="4" y="2256"/>
                  <a:pt x="8" y="2256"/>
                </a:cubicBezTo>
                <a:lnTo>
                  <a:pt x="6072" y="2256"/>
                </a:lnTo>
                <a:cubicBezTo>
                  <a:pt x="6077" y="2256"/>
                  <a:pt x="6080" y="2260"/>
                  <a:pt x="6080" y="2264"/>
                </a:cubicBezTo>
                <a:lnTo>
                  <a:pt x="6080" y="3224"/>
                </a:lnTo>
                <a:close/>
                <a:moveTo>
                  <a:pt x="6064" y="2264"/>
                </a:moveTo>
                <a:lnTo>
                  <a:pt x="6072" y="2272"/>
                </a:lnTo>
                <a:lnTo>
                  <a:pt x="8" y="2272"/>
                </a:lnTo>
                <a:lnTo>
                  <a:pt x="16" y="2264"/>
                </a:lnTo>
                <a:lnTo>
                  <a:pt x="16" y="3224"/>
                </a:lnTo>
                <a:lnTo>
                  <a:pt x="8" y="3216"/>
                </a:lnTo>
                <a:lnTo>
                  <a:pt x="6072" y="3216"/>
                </a:lnTo>
                <a:lnTo>
                  <a:pt x="6064" y="3224"/>
                </a:lnTo>
                <a:lnTo>
                  <a:pt x="6064" y="2264"/>
                </a:lnTo>
                <a:close/>
                <a:moveTo>
                  <a:pt x="7152" y="2104"/>
                </a:moveTo>
                <a:cubicBezTo>
                  <a:pt x="7152" y="2109"/>
                  <a:pt x="7149" y="2112"/>
                  <a:pt x="7144" y="2112"/>
                </a:cubicBezTo>
                <a:lnTo>
                  <a:pt x="8" y="2112"/>
                </a:lnTo>
                <a:cubicBezTo>
                  <a:pt x="4" y="2112"/>
                  <a:pt x="0" y="2109"/>
                  <a:pt x="0" y="2104"/>
                </a:cubicBezTo>
                <a:lnTo>
                  <a:pt x="0" y="1128"/>
                </a:lnTo>
                <a:cubicBezTo>
                  <a:pt x="0" y="1124"/>
                  <a:pt x="4" y="1120"/>
                  <a:pt x="8" y="1120"/>
                </a:cubicBezTo>
                <a:lnTo>
                  <a:pt x="7144" y="1120"/>
                </a:lnTo>
                <a:cubicBezTo>
                  <a:pt x="7149" y="1120"/>
                  <a:pt x="7152" y="1124"/>
                  <a:pt x="7152" y="1128"/>
                </a:cubicBezTo>
                <a:lnTo>
                  <a:pt x="7152" y="2104"/>
                </a:lnTo>
                <a:close/>
                <a:moveTo>
                  <a:pt x="7136" y="1128"/>
                </a:moveTo>
                <a:lnTo>
                  <a:pt x="7144" y="1136"/>
                </a:lnTo>
                <a:lnTo>
                  <a:pt x="8" y="1136"/>
                </a:lnTo>
                <a:lnTo>
                  <a:pt x="16" y="1128"/>
                </a:lnTo>
                <a:lnTo>
                  <a:pt x="16" y="2104"/>
                </a:lnTo>
                <a:lnTo>
                  <a:pt x="8" y="2096"/>
                </a:lnTo>
                <a:lnTo>
                  <a:pt x="7144" y="2096"/>
                </a:lnTo>
                <a:lnTo>
                  <a:pt x="7136" y="2104"/>
                </a:lnTo>
                <a:lnTo>
                  <a:pt x="7136" y="1128"/>
                </a:lnTo>
                <a:close/>
                <a:moveTo>
                  <a:pt x="7872" y="968"/>
                </a:moveTo>
                <a:cubicBezTo>
                  <a:pt x="7872" y="973"/>
                  <a:pt x="7869" y="976"/>
                  <a:pt x="7864" y="976"/>
                </a:cubicBezTo>
                <a:lnTo>
                  <a:pt x="8" y="976"/>
                </a:lnTo>
                <a:cubicBezTo>
                  <a:pt x="4" y="976"/>
                  <a:pt x="0" y="973"/>
                  <a:pt x="0" y="968"/>
                </a:cubicBez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lnTo>
                  <a:pt x="7864" y="0"/>
                </a:lnTo>
                <a:cubicBezTo>
                  <a:pt x="7869" y="0"/>
                  <a:pt x="7872" y="4"/>
                  <a:pt x="7872" y="8"/>
                </a:cubicBezTo>
                <a:lnTo>
                  <a:pt x="7872" y="968"/>
                </a:lnTo>
                <a:close/>
                <a:moveTo>
                  <a:pt x="7856" y="8"/>
                </a:moveTo>
                <a:lnTo>
                  <a:pt x="7864" y="16"/>
                </a:lnTo>
                <a:lnTo>
                  <a:pt x="8" y="16"/>
                </a:lnTo>
                <a:lnTo>
                  <a:pt x="16" y="8"/>
                </a:lnTo>
                <a:lnTo>
                  <a:pt x="16" y="968"/>
                </a:lnTo>
                <a:lnTo>
                  <a:pt x="8" y="960"/>
                </a:lnTo>
                <a:lnTo>
                  <a:pt x="7864" y="960"/>
                </a:lnTo>
                <a:lnTo>
                  <a:pt x="7856" y="968"/>
                </a:lnTo>
                <a:lnTo>
                  <a:pt x="7856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45200" y="1938240"/>
            <a:ext cx="3495600" cy="2683080"/>
          </a:xfrm>
          <a:custGeom>
            <a:avLst/>
            <a:gdLst/>
            <a:ahLst/>
            <a:rect l="l" t="t" r="r" b="b"/>
            <a:pathLst>
              <a:path w="2202" h="1690">
                <a:moveTo>
                  <a:pt x="2202" y="1690"/>
                </a:moveTo>
                <a:lnTo>
                  <a:pt x="0" y="1690"/>
                </a:lnTo>
                <a:lnTo>
                  <a:pt x="0" y="1389"/>
                </a:lnTo>
                <a:lnTo>
                  <a:pt x="2202" y="1389"/>
                </a:lnTo>
                <a:lnTo>
                  <a:pt x="2202" y="1690"/>
                </a:lnTo>
                <a:close/>
                <a:moveTo>
                  <a:pt x="2202" y="1340"/>
                </a:moveTo>
                <a:lnTo>
                  <a:pt x="1098" y="1340"/>
                </a:lnTo>
                <a:lnTo>
                  <a:pt x="1098" y="1044"/>
                </a:lnTo>
                <a:lnTo>
                  <a:pt x="2202" y="1044"/>
                </a:lnTo>
                <a:lnTo>
                  <a:pt x="2202" y="1340"/>
                </a:lnTo>
                <a:close/>
                <a:moveTo>
                  <a:pt x="2202" y="990"/>
                </a:moveTo>
                <a:lnTo>
                  <a:pt x="1207" y="990"/>
                </a:lnTo>
                <a:lnTo>
                  <a:pt x="1207" y="695"/>
                </a:lnTo>
                <a:lnTo>
                  <a:pt x="2202" y="695"/>
                </a:lnTo>
                <a:lnTo>
                  <a:pt x="2202" y="990"/>
                </a:lnTo>
                <a:close/>
                <a:moveTo>
                  <a:pt x="2202" y="645"/>
                </a:moveTo>
                <a:lnTo>
                  <a:pt x="1537" y="645"/>
                </a:lnTo>
                <a:lnTo>
                  <a:pt x="1537" y="345"/>
                </a:lnTo>
                <a:lnTo>
                  <a:pt x="2202" y="345"/>
                </a:lnTo>
                <a:lnTo>
                  <a:pt x="2202" y="645"/>
                </a:lnTo>
                <a:close/>
                <a:moveTo>
                  <a:pt x="2202" y="296"/>
                </a:moveTo>
                <a:lnTo>
                  <a:pt x="1758" y="296"/>
                </a:lnTo>
                <a:lnTo>
                  <a:pt x="1758" y="0"/>
                </a:lnTo>
                <a:lnTo>
                  <a:pt x="2202" y="0"/>
                </a:lnTo>
                <a:lnTo>
                  <a:pt x="2202" y="296"/>
                </a:lnTo>
                <a:close/>
              </a:path>
            </a:pathLst>
          </a:cu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40160" y="1935000"/>
            <a:ext cx="3503880" cy="2689560"/>
          </a:xfrm>
          <a:custGeom>
            <a:avLst/>
            <a:gdLst/>
            <a:ahLst/>
            <a:rect l="l" t="t" r="r" b="b"/>
            <a:pathLst>
              <a:path w="7168" h="5504">
                <a:moveTo>
                  <a:pt x="7168" y="5496"/>
                </a:moveTo>
                <a:cubicBezTo>
                  <a:pt x="7168" y="5501"/>
                  <a:pt x="7165" y="5504"/>
                  <a:pt x="7160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7160" y="4512"/>
                </a:lnTo>
                <a:cubicBezTo>
                  <a:pt x="7165" y="4512"/>
                  <a:pt x="7168" y="4516"/>
                  <a:pt x="7168" y="4520"/>
                </a:cubicBezTo>
                <a:lnTo>
                  <a:pt x="7168" y="5496"/>
                </a:lnTo>
                <a:close/>
                <a:moveTo>
                  <a:pt x="7152" y="4520"/>
                </a:moveTo>
                <a:lnTo>
                  <a:pt x="7160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7160" y="5488"/>
                </a:lnTo>
                <a:lnTo>
                  <a:pt x="7152" y="5496"/>
                </a:lnTo>
                <a:lnTo>
                  <a:pt x="7152" y="4520"/>
                </a:lnTo>
                <a:close/>
                <a:moveTo>
                  <a:pt x="7168" y="4360"/>
                </a:moveTo>
                <a:cubicBezTo>
                  <a:pt x="7168" y="4365"/>
                  <a:pt x="7165" y="4368"/>
                  <a:pt x="7160" y="4368"/>
                </a:cubicBezTo>
                <a:lnTo>
                  <a:pt x="3576" y="4368"/>
                </a:lnTo>
                <a:cubicBezTo>
                  <a:pt x="3572" y="4368"/>
                  <a:pt x="3568" y="4365"/>
                  <a:pt x="3568" y="4360"/>
                </a:cubicBezTo>
                <a:lnTo>
                  <a:pt x="3568" y="3400"/>
                </a:lnTo>
                <a:cubicBezTo>
                  <a:pt x="3568" y="3396"/>
                  <a:pt x="3572" y="3392"/>
                  <a:pt x="3576" y="3392"/>
                </a:cubicBezTo>
                <a:lnTo>
                  <a:pt x="7160" y="3392"/>
                </a:lnTo>
                <a:cubicBezTo>
                  <a:pt x="7165" y="3392"/>
                  <a:pt x="7168" y="3396"/>
                  <a:pt x="7168" y="3400"/>
                </a:cubicBezTo>
                <a:lnTo>
                  <a:pt x="7168" y="4360"/>
                </a:lnTo>
                <a:close/>
                <a:moveTo>
                  <a:pt x="7152" y="3400"/>
                </a:moveTo>
                <a:lnTo>
                  <a:pt x="7160" y="3408"/>
                </a:lnTo>
                <a:lnTo>
                  <a:pt x="3576" y="3408"/>
                </a:lnTo>
                <a:lnTo>
                  <a:pt x="3584" y="3400"/>
                </a:lnTo>
                <a:lnTo>
                  <a:pt x="3584" y="4360"/>
                </a:lnTo>
                <a:lnTo>
                  <a:pt x="3576" y="4352"/>
                </a:lnTo>
                <a:lnTo>
                  <a:pt x="7160" y="4352"/>
                </a:lnTo>
                <a:lnTo>
                  <a:pt x="7152" y="4360"/>
                </a:lnTo>
                <a:lnTo>
                  <a:pt x="7152" y="3400"/>
                </a:lnTo>
                <a:close/>
                <a:moveTo>
                  <a:pt x="7168" y="3224"/>
                </a:moveTo>
                <a:cubicBezTo>
                  <a:pt x="7168" y="3229"/>
                  <a:pt x="7165" y="3232"/>
                  <a:pt x="7160" y="3232"/>
                </a:cubicBezTo>
                <a:lnTo>
                  <a:pt x="3928" y="3232"/>
                </a:lnTo>
                <a:cubicBezTo>
                  <a:pt x="3924" y="3232"/>
                  <a:pt x="3920" y="3229"/>
                  <a:pt x="3920" y="3224"/>
                </a:cubicBezTo>
                <a:lnTo>
                  <a:pt x="3920" y="2264"/>
                </a:lnTo>
                <a:cubicBezTo>
                  <a:pt x="3920" y="2260"/>
                  <a:pt x="3924" y="2256"/>
                  <a:pt x="3928" y="2256"/>
                </a:cubicBezTo>
                <a:lnTo>
                  <a:pt x="7160" y="2256"/>
                </a:lnTo>
                <a:cubicBezTo>
                  <a:pt x="7165" y="2256"/>
                  <a:pt x="7168" y="2260"/>
                  <a:pt x="7168" y="2264"/>
                </a:cubicBezTo>
                <a:lnTo>
                  <a:pt x="7168" y="3224"/>
                </a:lnTo>
                <a:close/>
                <a:moveTo>
                  <a:pt x="7152" y="2264"/>
                </a:moveTo>
                <a:lnTo>
                  <a:pt x="7160" y="2272"/>
                </a:lnTo>
                <a:lnTo>
                  <a:pt x="3928" y="2272"/>
                </a:lnTo>
                <a:lnTo>
                  <a:pt x="3936" y="2264"/>
                </a:lnTo>
                <a:lnTo>
                  <a:pt x="3936" y="3224"/>
                </a:lnTo>
                <a:lnTo>
                  <a:pt x="3928" y="3216"/>
                </a:lnTo>
                <a:lnTo>
                  <a:pt x="7160" y="3216"/>
                </a:lnTo>
                <a:lnTo>
                  <a:pt x="7152" y="3224"/>
                </a:lnTo>
                <a:lnTo>
                  <a:pt x="7152" y="2264"/>
                </a:lnTo>
                <a:close/>
                <a:moveTo>
                  <a:pt x="7168" y="2104"/>
                </a:moveTo>
                <a:cubicBezTo>
                  <a:pt x="7168" y="2109"/>
                  <a:pt x="7165" y="2112"/>
                  <a:pt x="7160" y="2112"/>
                </a:cubicBezTo>
                <a:lnTo>
                  <a:pt x="5000" y="2112"/>
                </a:lnTo>
                <a:cubicBezTo>
                  <a:pt x="4996" y="2112"/>
                  <a:pt x="4992" y="2109"/>
                  <a:pt x="4992" y="2104"/>
                </a:cubicBezTo>
                <a:lnTo>
                  <a:pt x="4992" y="1128"/>
                </a:lnTo>
                <a:cubicBezTo>
                  <a:pt x="4992" y="1124"/>
                  <a:pt x="4996" y="1120"/>
                  <a:pt x="5000" y="1120"/>
                </a:cubicBezTo>
                <a:lnTo>
                  <a:pt x="7160" y="1120"/>
                </a:lnTo>
                <a:cubicBezTo>
                  <a:pt x="7165" y="1120"/>
                  <a:pt x="7168" y="1124"/>
                  <a:pt x="7168" y="1128"/>
                </a:cubicBezTo>
                <a:lnTo>
                  <a:pt x="7168" y="2104"/>
                </a:lnTo>
                <a:close/>
                <a:moveTo>
                  <a:pt x="7152" y="1128"/>
                </a:moveTo>
                <a:lnTo>
                  <a:pt x="7160" y="1136"/>
                </a:lnTo>
                <a:lnTo>
                  <a:pt x="5000" y="1136"/>
                </a:lnTo>
                <a:lnTo>
                  <a:pt x="5008" y="1128"/>
                </a:lnTo>
                <a:lnTo>
                  <a:pt x="5008" y="2104"/>
                </a:lnTo>
                <a:lnTo>
                  <a:pt x="5000" y="2096"/>
                </a:lnTo>
                <a:lnTo>
                  <a:pt x="7160" y="2096"/>
                </a:lnTo>
                <a:lnTo>
                  <a:pt x="7152" y="2104"/>
                </a:lnTo>
                <a:lnTo>
                  <a:pt x="7152" y="1128"/>
                </a:lnTo>
                <a:close/>
                <a:moveTo>
                  <a:pt x="7168" y="968"/>
                </a:moveTo>
                <a:cubicBezTo>
                  <a:pt x="7168" y="973"/>
                  <a:pt x="7165" y="976"/>
                  <a:pt x="7160" y="976"/>
                </a:cubicBezTo>
                <a:lnTo>
                  <a:pt x="5720" y="976"/>
                </a:lnTo>
                <a:cubicBezTo>
                  <a:pt x="5716" y="976"/>
                  <a:pt x="5712" y="973"/>
                  <a:pt x="5712" y="968"/>
                </a:cubicBezTo>
                <a:lnTo>
                  <a:pt x="5712" y="8"/>
                </a:lnTo>
                <a:cubicBezTo>
                  <a:pt x="5712" y="4"/>
                  <a:pt x="5716" y="0"/>
                  <a:pt x="5720" y="0"/>
                </a:cubicBezTo>
                <a:lnTo>
                  <a:pt x="7160" y="0"/>
                </a:lnTo>
                <a:cubicBezTo>
                  <a:pt x="7165" y="0"/>
                  <a:pt x="7168" y="4"/>
                  <a:pt x="7168" y="8"/>
                </a:cubicBezTo>
                <a:lnTo>
                  <a:pt x="7168" y="968"/>
                </a:lnTo>
                <a:close/>
                <a:moveTo>
                  <a:pt x="7152" y="8"/>
                </a:moveTo>
                <a:lnTo>
                  <a:pt x="7160" y="16"/>
                </a:lnTo>
                <a:lnTo>
                  <a:pt x="5720" y="16"/>
                </a:lnTo>
                <a:lnTo>
                  <a:pt x="5728" y="8"/>
                </a:lnTo>
                <a:lnTo>
                  <a:pt x="5728" y="968"/>
                </a:lnTo>
                <a:lnTo>
                  <a:pt x="5720" y="960"/>
                </a:lnTo>
                <a:lnTo>
                  <a:pt x="7160" y="960"/>
                </a:lnTo>
                <a:lnTo>
                  <a:pt x="7152" y="968"/>
                </a:lnTo>
                <a:lnTo>
                  <a:pt x="7152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7240" y="5211720"/>
            <a:ext cx="4543560" cy="64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2560" y="1900080"/>
            <a:ext cx="7920" cy="33148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65560" y="535788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8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93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7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152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72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12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644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184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48640" y="5357880"/>
            <a:ext cx="3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2040" y="4303800"/>
            <a:ext cx="320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for review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9600" y="4483080"/>
            <a:ext cx="145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vention log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1080" y="3751200"/>
            <a:ext cx="360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need for a new Thematic 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8120" y="39304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1320" y="3198960"/>
            <a:ext cx="31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a need on guidance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6080" y="3378240"/>
            <a:ext cx="22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on evaluation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09240" y="2827440"/>
            <a:ext cx="297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on data ga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4720" y="2093760"/>
            <a:ext cx="239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support 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62960" y="2273400"/>
            <a:ext cx="281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surement/assessment of imp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8560" y="5630760"/>
            <a:ext cx="21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cus groups (1 per Member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3800" y="5268960"/>
            <a:ext cx="125640" cy="125280"/>
          </a:xfrm>
          <a:prstGeom prst="rect">
            <a:avLst/>
          </a:pr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0560" y="5265720"/>
            <a:ext cx="131760" cy="1332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64" y="0"/>
                </a:lnTo>
                <a:cubicBezTo>
                  <a:pt x="269" y="0"/>
                  <a:pt x="272" y="4"/>
                  <a:pt x="272" y="8"/>
                </a:cubicBezTo>
                <a:lnTo>
                  <a:pt x="272" y="264"/>
                </a:lnTo>
                <a:cubicBezTo>
                  <a:pt x="272" y="269"/>
                  <a:pt x="269" y="272"/>
                  <a:pt x="264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64" y="256"/>
                </a:lnTo>
                <a:lnTo>
                  <a:pt x="256" y="264"/>
                </a:lnTo>
                <a:lnTo>
                  <a:pt x="256" y="8"/>
                </a:lnTo>
                <a:lnTo>
                  <a:pt x="264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07720" y="5197320"/>
            <a:ext cx="34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5880" y="5268960"/>
            <a:ext cx="131760" cy="125280"/>
          </a:xfrm>
          <a:prstGeom prst="rect">
            <a:avLst/>
          </a:pr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1200" y="5265720"/>
            <a:ext cx="141480" cy="133200"/>
          </a:xfrm>
          <a:custGeom>
            <a:avLst/>
            <a:gdLst/>
            <a:ahLst/>
            <a:rect l="l" t="t" r="r" b="b"/>
            <a:pathLst>
              <a:path w="288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80" y="0"/>
                </a:lnTo>
                <a:cubicBezTo>
                  <a:pt x="285" y="0"/>
                  <a:pt x="288" y="4"/>
                  <a:pt x="288" y="8"/>
                </a:cubicBezTo>
                <a:lnTo>
                  <a:pt x="288" y="264"/>
                </a:lnTo>
                <a:cubicBezTo>
                  <a:pt x="288" y="269"/>
                  <a:pt x="285" y="272"/>
                  <a:pt x="280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80" y="256"/>
                </a:lnTo>
                <a:lnTo>
                  <a:pt x="272" y="264"/>
                </a:lnTo>
                <a:lnTo>
                  <a:pt x="272" y="8"/>
                </a:lnTo>
                <a:lnTo>
                  <a:pt x="280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58040" y="5197320"/>
            <a:ext cx="31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667" t="6667" r="-0" b="10000"/>
          <a:stretch/>
        </p:blipFill>
        <p:spPr>
          <a:xfrm>
            <a:off x="-2438280" y="1676520"/>
            <a:ext cx="10667880" cy="56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73B-6B16-4984-8445-AAF075CCA3B2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ing impacts at an early stage of programme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mplementing the CMEF impact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grayscl/>
            <a:lum contrast="-6000"/>
          </a:blip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038480" y="1523880"/>
            <a:ext cx="2362320" cy="4038840"/>
            <a:chOff x="4038480" y="1523880"/>
            <a:chExt cx="2362320" cy="4038840"/>
          </a:xfrm>
        </p:grpSpPr>
        <p:sp>
          <p:nvSpPr>
            <p:cNvPr id="98" name=""/>
            <p:cNvSpPr/>
            <p:nvPr/>
          </p:nvSpPr>
          <p:spPr>
            <a:xfrm>
              <a:off x="4114800" y="4572000"/>
              <a:ext cx="2286000" cy="990720"/>
            </a:xfrm>
            <a:prstGeom prst="wedgeRoundRectCallout">
              <a:avLst>
                <a:gd name="adj1" fmla="val -29097"/>
                <a:gd name="adj2" fmla="val 96634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RDP is at a very early stage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of implementation (…)  with the exception of the measures continued from the past period (axis 2 mesures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38480" y="1523880"/>
              <a:ext cx="2286000" cy="1447920"/>
            </a:xfrm>
            <a:prstGeom prst="wedgeRoundRectCallout">
              <a:avLst>
                <a:gd name="adj1" fmla="val -86666"/>
                <a:gd name="adj2" fmla="val 6138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re is a clear focus on effects but 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RDP has not yet provided a great number of effects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. Rather, this evaluation should focus on how projects and processes are established and how they can be integrated in their contexts and in the programme structur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85800" y="1600200"/>
            <a:ext cx="2286000" cy="4572000"/>
            <a:chOff x="685800" y="1600200"/>
            <a:chExt cx="2286000" cy="4572000"/>
          </a:xfrm>
        </p:grpSpPr>
        <p:sp>
          <p:nvSpPr>
            <p:cNvPr id="101" name=""/>
            <p:cNvSpPr/>
            <p:nvPr/>
          </p:nvSpPr>
          <p:spPr>
            <a:xfrm>
              <a:off x="685800" y="5105520"/>
              <a:ext cx="2286000" cy="1066680"/>
            </a:xfrm>
            <a:prstGeom prst="wedgeRoundRectCallout">
              <a:avLst>
                <a:gd name="adj1" fmla="val 12847"/>
                <a:gd name="adj2" fmla="val -166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ubt about whether CMEF offers 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ight indicators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</a:t>
              </a:r>
              <a:br>
                <a:rPr sz="1000"/>
              </a:b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rvention logics should indicate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ll regional causal relationships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not only RDP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800" y="1600200"/>
              <a:ext cx="2286000" cy="1295280"/>
            </a:xfrm>
            <a:prstGeom prst="wedgeRoundRectCallout">
              <a:avLst>
                <a:gd name="adj1" fmla="val -47083"/>
                <a:gd name="adj2" fmla="val 7916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re is a need to demonstrate the wider relevance and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importance of impact assessment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and evaluation to beneficiaries in order to encourage their participation and strengthen their inpu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C17-F80E-4195-AAA2-2E112AE2D2E0}" type="slidenum">
              <a:t>7</a:t>
            </a:fld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 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ercoming methodological problems in assessing the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 scale and aggregation of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304920" y="2209680"/>
            <a:ext cx="6019560" cy="3200400"/>
            <a:chOff x="304920" y="2209680"/>
            <a:chExt cx="6019560" cy="3200400"/>
          </a:xfrm>
        </p:grpSpPr>
        <p:sp>
          <p:nvSpPr>
            <p:cNvPr id="107" name=""/>
            <p:cNvSpPr/>
            <p:nvPr/>
          </p:nvSpPr>
          <p:spPr>
            <a:xfrm>
              <a:off x="4038480" y="3581280"/>
              <a:ext cx="2286000" cy="1143000"/>
            </a:xfrm>
            <a:prstGeom prst="wedgeRoundRectCallout">
              <a:avLst>
                <a:gd name="adj1" fmla="val -82361"/>
                <a:gd name="adj2" fmla="val 2208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t which leve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should impacts be calculated? sectoral? or for the whole national economy? at the level of a holding or for the whole sector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2209680"/>
              <a:ext cx="2286000" cy="838440"/>
            </a:xfrm>
            <a:prstGeom prst="wedgeRoundRectCallout">
              <a:avLst>
                <a:gd name="adj1" fmla="val 32499"/>
                <a:gd name="adj2" fmla="val 134467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ggregate impacts at programme leve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estimated by measurements at case study level or regional level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920" y="4800600"/>
              <a:ext cx="2286000" cy="609480"/>
            </a:xfrm>
            <a:prstGeom prst="wedgeRoundRectCallout">
              <a:avLst>
                <a:gd name="adj1" fmla="val 31458"/>
                <a:gd name="adj2" fmla="val -18229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pass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from case study to regional assessment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447920" y="1523880"/>
            <a:ext cx="4876560" cy="4800600"/>
            <a:chOff x="1447920" y="1523880"/>
            <a:chExt cx="4876560" cy="4800600"/>
          </a:xfrm>
        </p:grpSpPr>
        <p:sp>
          <p:nvSpPr>
            <p:cNvPr id="111" name=""/>
            <p:cNvSpPr/>
            <p:nvPr/>
          </p:nvSpPr>
          <p:spPr>
            <a:xfrm>
              <a:off x="4038480" y="5562720"/>
              <a:ext cx="2286000" cy="685800"/>
            </a:xfrm>
            <a:prstGeom prst="wedgeRoundRectCallout">
              <a:avLst>
                <a:gd name="adj1" fmla="val -79444"/>
                <a:gd name="adj2" fmla="val -16898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separate RDP eff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from effects of other programme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0920" y="1523880"/>
              <a:ext cx="1981080" cy="685800"/>
            </a:xfrm>
            <a:prstGeom prst="wedgeRoundRectCallout">
              <a:avLst>
                <a:gd name="adj1" fmla="val -64180"/>
                <a:gd name="adj2" fmla="val 32847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solate the effect of a specific measure/axis 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evolution of one impact indicato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19720" y="2133720"/>
              <a:ext cx="1904760" cy="1143000"/>
            </a:xfrm>
            <a:prstGeom prst="wedgeRoundRectCallout">
              <a:avLst>
                <a:gd name="adj1" fmla="val -67083"/>
                <a:gd name="adj2" fmla="val 1805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net out deadweight, displacement and multiplier eff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o obtain net additional value for economic indicator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7920" y="5638680"/>
              <a:ext cx="1828800" cy="685800"/>
            </a:xfrm>
            <a:prstGeom prst="wedgeRoundRectCallout">
              <a:avLst>
                <a:gd name="adj1" fmla="val 30990"/>
                <a:gd name="adj2" fmla="val -12060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measure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mpact in the same year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the payme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CDB-B3C5-42DC-8328-8B0EA7F99719}" type="slidenum">
              <a:t>8</a:t>
            </a:fld>
          </a:p>
        </p:txBody>
      </p:sp>
    </p:spTree>
  </p:cSld>
  <p:transition>
    <p:pull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further specific analytic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228600" y="1523880"/>
            <a:ext cx="6172200" cy="4419720"/>
            <a:chOff x="228600" y="1523880"/>
            <a:chExt cx="6172200" cy="4419720"/>
          </a:xfrm>
        </p:grpSpPr>
        <p:grpSp>
          <p:nvGrpSpPr>
            <p:cNvPr id="119" name=""/>
            <p:cNvGrpSpPr/>
            <p:nvPr/>
          </p:nvGrpSpPr>
          <p:grpSpPr>
            <a:xfrm>
              <a:off x="228600" y="1600200"/>
              <a:ext cx="6172200" cy="4343400"/>
              <a:chOff x="228600" y="1600200"/>
              <a:chExt cx="6172200" cy="4343400"/>
            </a:xfrm>
          </p:grpSpPr>
          <p:sp>
            <p:nvSpPr>
              <p:cNvPr id="120" name=""/>
              <p:cNvSpPr/>
              <p:nvPr/>
            </p:nvSpPr>
            <p:spPr>
              <a:xfrm>
                <a:off x="4114800" y="4876920"/>
                <a:ext cx="2286000" cy="685800"/>
              </a:xfrm>
              <a:prstGeom prst="wedgeRoundRectCallout">
                <a:avLst>
                  <a:gd name="adj1" fmla="val 40416"/>
                  <a:gd name="adj2" fmla="val 137731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There is a need for support on how to use 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GIS for environmental indicators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600" y="1600200"/>
                <a:ext cx="2286000" cy="990720"/>
              </a:xfrm>
              <a:prstGeom prst="wedgeRoundRectCallout">
                <a:avLst>
                  <a:gd name="adj1" fmla="val 80555"/>
                  <a:gd name="adj2" fmla="val -5129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Regression analysis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is used for 3 economic impact indicators and gives advantage to measure net effect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6720" y="3124080"/>
                <a:ext cx="2286000" cy="838440"/>
              </a:xfrm>
              <a:prstGeom prst="wedgeRoundRectCallout">
                <a:avLst>
                  <a:gd name="adj1" fmla="val -95416"/>
                  <a:gd name="adj2" fmla="val 25379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“</a:t>
                </a:r>
                <a:r>
                  <a:rPr b="1" i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Shift and share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” analysis is used for the measurement of the 3 economic impact indicators.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5800" y="5105520"/>
                <a:ext cx="2286000" cy="838080"/>
              </a:xfrm>
              <a:prstGeom prst="wedgeRoundRectCallout">
                <a:avLst>
                  <a:gd name="adj1" fmla="val 14791"/>
                  <a:gd name="adj2" fmla="val -182574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GIS analysis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at very low scale of all indicators contributing to biodiversity could provide very useful additional information to impact indicator 4 .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114800" y="1523880"/>
              <a:ext cx="2286000" cy="838440"/>
            </a:xfrm>
            <a:prstGeom prst="wedgeRoundRectCallout">
              <a:avLst>
                <a:gd name="adj1" fmla="val -48125"/>
                <a:gd name="adj2" fmla="val 11287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ross-checking against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counterfactual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situation: how to build up comparable control group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224-5EB0-484C-9B07-1507BA5537A7}" type="slidenum">
              <a:t>9</a:t>
            </a:fld>
          </a:p>
        </p:txBody>
      </p:sp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9:40:08Z</dcterms:created>
  <dc:creator>Hannes Wimmer</dc:creator>
  <dc:description/>
  <dc:language>en-US</dc:language>
  <cp:lastModifiedBy>zaoujjo</cp:lastModifiedBy>
  <dcterms:modified xsi:type="dcterms:W3CDTF">2009-12-08T08:34:50Z</dcterms:modified>
  <cp:revision>188</cp:revision>
  <dc:subject/>
  <dc:title>Needs Assessment 2009</dc:title>
</cp:coreProperties>
</file>