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B394-7D22-445D-ADE8-276C144A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07E-7C87-437A-AE07-54C39C1E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BF49-A4D0-4058-A5CF-9BC5CDEB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491-B523-4345-86D5-77A17F7E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8201-758B-48A7-96CA-E1EF5842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641E-0FEB-4EA9-B2DE-E3894DAC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300-0CBF-49DF-AC58-2FC5F3C8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DBF-5051-438C-B52E-08E8224C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2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CFA4-87F1-4D95-92CB-642E9781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352E-B6A8-49CC-B109-B8C92E60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933-F8DA-40F1-BBA8-6F8D26A6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B26D-DFFF-49D5-8531-2DFAF2E0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4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7 December 2009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valuation Expert Committee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16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07E6-3EE3-4705-B629-69080040B508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553080" y="237960"/>
            <a:ext cx="2403720" cy="744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Update of the </a:t>
            </a:r>
            <a:br>
              <a:rPr sz="4000"/>
            </a:b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Needs Assessment in the Member States</a:t>
            </a:r>
            <a:endParaRPr b="1" lang="en-US" sz="40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33333"/>
                </a:solidFill>
                <a:latin typeface="Arial"/>
              </a:rPr>
              <a:t>Hannes Wim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9EE-4BFA-4E83-A315-2BF26FFC79F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data ga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data availability and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the data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aling with existing data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62520" y="4419720"/>
            <a:ext cx="2286000" cy="838080"/>
          </a:xfrm>
          <a:prstGeom prst="wedgeRoundRectCallout">
            <a:avLst>
              <a:gd name="adj1" fmla="val -74166"/>
              <a:gd name="adj2" fmla="val -795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rms have different financial reporting obligations from companies, so data is not always compara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600200"/>
            <a:ext cx="2286000" cy="838080"/>
          </a:xfrm>
          <a:prstGeom prst="wedgeRoundRectCallout">
            <a:avLst>
              <a:gd name="adj1" fmla="val 1805"/>
              <a:gd name="adj2" fmla="val 12556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rief written supplementary guidance to CMEF as was provided for GVA would be helpfu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1600200"/>
            <a:ext cx="2286000" cy="838080"/>
          </a:xfrm>
          <a:prstGeom prst="wedgeRoundRectCallout">
            <a:avLst>
              <a:gd name="adj1" fmla="val -16875"/>
              <a:gd name="adj2" fmla="val 10643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metimes national statistics are showing different numbers compared to Eurostat.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4343400"/>
            <a:ext cx="1981080" cy="838080"/>
          </a:xfrm>
          <a:prstGeom prst="wedgeRoundRectCallout">
            <a:avLst>
              <a:gd name="adj1" fmla="val -10254"/>
              <a:gd name="adj2" fmla="val -153787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ta gathering should be recognized as highly important by MA, so “ongoing and priority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276720"/>
            <a:ext cx="2286000" cy="838080"/>
          </a:xfrm>
          <a:prstGeom prst="wedgeRoundRectCallout">
            <a:avLst>
              <a:gd name="adj1" fmla="val -91250"/>
              <a:gd name="adj2" fmla="val 6553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to collect data for farming and diversification measures, accountancy systems do not collect enough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5257800"/>
            <a:ext cx="2286000" cy="838080"/>
          </a:xfrm>
          <a:prstGeom prst="wedgeRoundRectCallout">
            <a:avLst>
              <a:gd name="adj1" fmla="val 42569"/>
              <a:gd name="adj2" fmla="val 5871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deal with the time gaps (2-3 years) between the availability of data of Eurostat which is used for the baselin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257800"/>
            <a:ext cx="1981440" cy="1066680"/>
          </a:xfrm>
          <a:prstGeom prst="wedgeRoundRectCallout">
            <a:avLst>
              <a:gd name="adj1" fmla="val -70273"/>
              <a:gd name="adj2" fmla="val -520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uidance on providing qualitative assessment methodologies in the absence of robust quantitative inform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A4E-291E-4D6F-8DDF-D0CC410218C0}" type="slidenum">
              <a:t>10</a:t>
            </a:fld>
          </a:p>
        </p:txBody>
      </p:sp>
    </p:spTree>
  </p:cSld>
  <p:transition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Leader an QoL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up relevant know 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adequate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ckling the qualitative nature of the effects &amp; small scale of interven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ing beneficiaries in the evalu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14800" y="3657600"/>
            <a:ext cx="2286000" cy="609480"/>
          </a:xfrm>
          <a:prstGeom prst="wedgeRoundRectCallout">
            <a:avLst>
              <a:gd name="adj1" fmla="val -57986"/>
              <a:gd name="adj2" fmla="val 361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 case of quality of life it is not clear what data should be collec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1523880"/>
            <a:ext cx="2286000" cy="838440"/>
          </a:xfrm>
          <a:prstGeom prst="wedgeRoundRectCallout">
            <a:avLst>
              <a:gd name="adj1" fmla="val -95138"/>
              <a:gd name="adj2" fmla="val 7026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dicators provided in the CMEF are mostly quantitative, while Leader is an approach to developmen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600200"/>
            <a:ext cx="1981080" cy="1219320"/>
          </a:xfrm>
          <a:prstGeom prst="wedgeRoundRectCallout">
            <a:avLst>
              <a:gd name="adj1" fmla="val 115462"/>
              <a:gd name="adj2" fmla="val 112240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eatest challenges are time gap between the launch of the measures and the moment when impacts are visibl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562720"/>
            <a:ext cx="2286000" cy="609480"/>
          </a:xfrm>
          <a:prstGeom prst="wedgeRoundRectCallout">
            <a:avLst>
              <a:gd name="adj1" fmla="val 65625"/>
              <a:gd name="adj2" fmla="val 5234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lack of previous experience in the evaluation of Leade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5257800"/>
            <a:ext cx="2286000" cy="990720"/>
          </a:xfrm>
          <a:prstGeom prst="wedgeRoundRectCallout">
            <a:avLst>
              <a:gd name="adj1" fmla="val 75763"/>
              <a:gd name="adj2" fmla="val -100000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lementation period is rather short and the amount of money allocated is rather small. The impact will be evident over a longer period of tim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809880"/>
            <a:ext cx="2286000" cy="1143000"/>
          </a:xfrm>
          <a:prstGeom prst="wedgeRoundRectCallout">
            <a:avLst>
              <a:gd name="adj1" fmla="val 96736"/>
              <a:gd name="adj2" fmla="val 458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ment of Beneficiaries will be difficult since they are not trained for impact measurement and it is uncertain to what extent they can co-ope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7D6F-C9A8-4A42-A4C2-192EE8D82A16}" type="slidenum">
              <a:t>11</a:t>
            </a:fld>
          </a:p>
        </p:txBody>
      </p:sp>
    </p:spTree>
  </p:cSld>
  <p:transition>
    <p:pull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CEQ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general scope and use  of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the links between EQ, criteria and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ing the meaning of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examples for answers to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the horizontal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038480" y="3352680"/>
            <a:ext cx="2286000" cy="1143000"/>
          </a:xfrm>
          <a:prstGeom prst="wedgeRoundRectCallout">
            <a:avLst>
              <a:gd name="adj1" fmla="val -46875"/>
              <a:gd name="adj2" fmla="val -8763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overlapping of EQ (common and horizontal) results in confusion, risk to receive similar answers to many different ques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523880"/>
            <a:ext cx="2286000" cy="914400"/>
          </a:xfrm>
          <a:prstGeom prst="wedgeRoundRectCallout">
            <a:avLst>
              <a:gd name="adj1" fmla="val -60694"/>
              <a:gd name="adj2" fmla="val 486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in wording of EQ […]. with different words, the same things are asked. Evaluator will probably produce very similar answers for th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600200"/>
            <a:ext cx="1981080" cy="609480"/>
          </a:xfrm>
          <a:prstGeom prst="wedgeRoundRectCallout">
            <a:avLst>
              <a:gd name="adj1" fmla="val 40064"/>
              <a:gd name="adj2" fmla="val 32291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 of answers to EQ would be welco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5562720"/>
            <a:ext cx="2286000" cy="685800"/>
          </a:xfrm>
          <a:prstGeom prst="wedgeRoundRectCallout">
            <a:avLst>
              <a:gd name="adj1" fmla="val -55763"/>
              <a:gd name="adj2" fmla="val -17245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compare EU wide when local methods and definitions are applied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3581280"/>
            <a:ext cx="1524240" cy="838440"/>
          </a:xfrm>
          <a:prstGeom prst="wedgeRoundRectCallout">
            <a:avLst>
              <a:gd name="adj1" fmla="val -42601"/>
              <a:gd name="adj2" fmla="val 16496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 lack  of precise definition of terms and concepts used in their form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2209680"/>
            <a:ext cx="1752480" cy="762120"/>
          </a:xfrm>
          <a:prstGeom prst="wedgeRoundRectCallout">
            <a:avLst>
              <a:gd name="adj1" fmla="val 27717"/>
              <a:gd name="adj2" fmla="val 1331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ack of connection between Common indicators and CEQ: develop a matrix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495680"/>
            <a:ext cx="1828800" cy="609840"/>
          </a:xfrm>
          <a:prstGeom prst="wedgeRoundRectCallout">
            <a:avLst>
              <a:gd name="adj1" fmla="val 41407"/>
              <a:gd name="adj2" fmla="val -1169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rizontal questions are more makro level than programme leve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638680"/>
            <a:ext cx="1828800" cy="685800"/>
          </a:xfrm>
          <a:prstGeom prst="wedgeRoundRectCallout">
            <a:avLst>
              <a:gd name="adj1" fmla="val 60851"/>
              <a:gd name="adj2" fmla="val -10023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me questions are “summaries” of other ques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B80-4151-418F-BC73-5F0465B5C524}" type="slidenum">
              <a:t>12</a:t>
            </a:fld>
          </a:p>
        </p:txBody>
      </p:sp>
    </p:spTree>
  </p:cSld>
  <p:transition>
    <p:pull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further need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Helpdesk’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work more usefu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lso for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outputs of Thematic Working Group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more tangible and 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nsur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speedy follow-u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formation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xplain th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purpose of the guidan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or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good practices and direct exchan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tween evaluators in the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A937-3892-4B43-9C70-F918C6B9DEFC}" type="slidenum">
              <a:t>13</a:t>
            </a:fld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Themes for thematic working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valuation of specific measures/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y of Life and LEADER; agri-environmental measures; link between axi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B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pecifically cover impact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Climate change, water quality, HNV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C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evaluation approaches /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ative impacts, counterfactual and participatory approach, methodological problem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D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ther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evaluation of national networks; data collection and data validity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ative and quantitative indicators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; semantic clarifications about the EQ; thematic groups on programme intervention and horizontal EQ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593-19B1-426A-866A-679E416BAEA6}" type="slidenum">
              <a:t>14</a:t>
            </a:fld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tional support for the assessment of RD impacts indicators and the overall programme impact is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Confirms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Deepening and integrating work of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y more attention to specific methodological challenges in assessing imp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Task for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 specific analytical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New themes for Thematic pool, information exchange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345-1AE0-4CB2-817A-B4C4AE27EE6C}" type="slidenum">
              <a:t>15</a:t>
            </a:fld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 practical examples and collaborative working methods to bridge the gap between theory and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working method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vide specific help for understanding, interpreting and answering the CEQ (in view of MTE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activity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 into account data-gaps at the output and result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Guidance how to handle existing data gaps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ed up procedures for answering technical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Reserve sufficient capacity to provide adequate and immediate answers to technical question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ke outputs of the Thematic Working Groups more tang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Involve evaluators more directly into the work!  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seminate and interlink knowledge and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Provide an effective platform for information exchange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257-B6F0-4523-86B2-23BD52354074}" type="slidenum">
              <a:t>16</a:t>
            </a:fld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B46-E698-4AA0-88A7-E320E4E74C75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tent</a:t>
            </a: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	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 of the 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 themes of focus group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group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34F5-4D6B-42EA-B4BB-6971DC372837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Purpose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ighlight the specific nee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evaluation stakeholders related to the  mid-term evaluations (M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elp fine-tune ongoing activit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dentify potential new areas for the Helpdesk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9EFB-8152-4170-83D4-456D55E19B67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Specific focus of needs assessment in 2009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eds related to the mid-term-evaluation in particular conce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Measurement/assessment of the CMEF impact indicator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Evaluation of Leader and Quality of Lif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Data gap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Common Evaluation Questions, intervention logi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s for Thematic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E0D-B496-47D2-A050-7AD9BB8B71C4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Organisation of focus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458200" cy="476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7277-0CD6-47B3-8805-594BFF074DCC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In which areas is support most needed?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2560" y="1895400"/>
            <a:ext cx="4543560" cy="331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1900080"/>
            <a:ext cx="4097520" cy="3314880"/>
          </a:xfrm>
          <a:custGeom>
            <a:avLst/>
            <a:gdLst/>
            <a:ahLst/>
            <a:rect l="l" t="t" r="r" b="b"/>
            <a:pathLst>
              <a:path w="2581" h="2088">
                <a:moveTo>
                  <a:pt x="5" y="0"/>
                </a:moveTo>
                <a:lnTo>
                  <a:pt x="5" y="2088"/>
                </a:lnTo>
                <a:lnTo>
                  <a:pt x="0" y="2088"/>
                </a:lnTo>
                <a:lnTo>
                  <a:pt x="0" y="0"/>
                </a:lnTo>
                <a:lnTo>
                  <a:pt x="5" y="0"/>
                </a:lnTo>
                <a:close/>
                <a:moveTo>
                  <a:pt x="290" y="0"/>
                </a:moveTo>
                <a:lnTo>
                  <a:pt x="290" y="2088"/>
                </a:lnTo>
                <a:lnTo>
                  <a:pt x="286" y="2088"/>
                </a:lnTo>
                <a:lnTo>
                  <a:pt x="286" y="0"/>
                </a:lnTo>
                <a:lnTo>
                  <a:pt x="290" y="0"/>
                </a:lnTo>
                <a:close/>
                <a:moveTo>
                  <a:pt x="576" y="0"/>
                </a:moveTo>
                <a:lnTo>
                  <a:pt x="576" y="2088"/>
                </a:lnTo>
                <a:lnTo>
                  <a:pt x="571" y="2088"/>
                </a:lnTo>
                <a:lnTo>
                  <a:pt x="571" y="0"/>
                </a:lnTo>
                <a:lnTo>
                  <a:pt x="576" y="0"/>
                </a:lnTo>
                <a:close/>
                <a:moveTo>
                  <a:pt x="862" y="0"/>
                </a:moveTo>
                <a:lnTo>
                  <a:pt x="862" y="2088"/>
                </a:lnTo>
                <a:lnTo>
                  <a:pt x="857" y="2088"/>
                </a:lnTo>
                <a:lnTo>
                  <a:pt x="857" y="0"/>
                </a:lnTo>
                <a:lnTo>
                  <a:pt x="862" y="0"/>
                </a:lnTo>
                <a:close/>
                <a:moveTo>
                  <a:pt x="1148" y="0"/>
                </a:moveTo>
                <a:lnTo>
                  <a:pt x="1148" y="2088"/>
                </a:lnTo>
                <a:lnTo>
                  <a:pt x="1143" y="2088"/>
                </a:lnTo>
                <a:lnTo>
                  <a:pt x="1143" y="0"/>
                </a:lnTo>
                <a:lnTo>
                  <a:pt x="1148" y="0"/>
                </a:lnTo>
                <a:close/>
                <a:moveTo>
                  <a:pt x="1438" y="0"/>
                </a:moveTo>
                <a:lnTo>
                  <a:pt x="1438" y="2088"/>
                </a:lnTo>
                <a:lnTo>
                  <a:pt x="1433" y="2088"/>
                </a:lnTo>
                <a:lnTo>
                  <a:pt x="1433" y="0"/>
                </a:lnTo>
                <a:lnTo>
                  <a:pt x="1438" y="0"/>
                </a:lnTo>
                <a:close/>
                <a:moveTo>
                  <a:pt x="1724" y="0"/>
                </a:moveTo>
                <a:lnTo>
                  <a:pt x="1724" y="2088"/>
                </a:lnTo>
                <a:lnTo>
                  <a:pt x="1719" y="2088"/>
                </a:lnTo>
                <a:lnTo>
                  <a:pt x="1719" y="0"/>
                </a:lnTo>
                <a:lnTo>
                  <a:pt x="1724" y="0"/>
                </a:lnTo>
                <a:close/>
                <a:moveTo>
                  <a:pt x="2010" y="0"/>
                </a:moveTo>
                <a:lnTo>
                  <a:pt x="2010" y="2088"/>
                </a:lnTo>
                <a:lnTo>
                  <a:pt x="2005" y="2088"/>
                </a:lnTo>
                <a:lnTo>
                  <a:pt x="2005" y="0"/>
                </a:lnTo>
                <a:lnTo>
                  <a:pt x="2010" y="0"/>
                </a:lnTo>
                <a:close/>
                <a:moveTo>
                  <a:pt x="2296" y="0"/>
                </a:moveTo>
                <a:lnTo>
                  <a:pt x="2296" y="2088"/>
                </a:lnTo>
                <a:lnTo>
                  <a:pt x="2291" y="2088"/>
                </a:lnTo>
                <a:lnTo>
                  <a:pt x="2291" y="0"/>
                </a:lnTo>
                <a:lnTo>
                  <a:pt x="2296" y="0"/>
                </a:lnTo>
                <a:close/>
                <a:moveTo>
                  <a:pt x="2581" y="0"/>
                </a:moveTo>
                <a:lnTo>
                  <a:pt x="2581" y="2088"/>
                </a:lnTo>
                <a:lnTo>
                  <a:pt x="2576" y="2088"/>
                </a:lnTo>
                <a:lnTo>
                  <a:pt x="2576" y="0"/>
                </a:lnTo>
                <a:lnTo>
                  <a:pt x="2581" y="0"/>
                </a:lnTo>
                <a:close/>
              </a:path>
            </a:pathLst>
          </a:cu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7240" y="1938240"/>
            <a:ext cx="3838680" cy="2683080"/>
          </a:xfrm>
          <a:custGeom>
            <a:avLst/>
            <a:gdLst/>
            <a:ahLst/>
            <a:rect l="l" t="t" r="r" b="b"/>
            <a:pathLst>
              <a:path w="2418" h="1690">
                <a:moveTo>
                  <a:pt x="660" y="1690"/>
                </a:moveTo>
                <a:lnTo>
                  <a:pt x="0" y="1690"/>
                </a:lnTo>
                <a:lnTo>
                  <a:pt x="0" y="1389"/>
                </a:lnTo>
                <a:lnTo>
                  <a:pt x="660" y="1389"/>
                </a:lnTo>
                <a:lnTo>
                  <a:pt x="660" y="1690"/>
                </a:lnTo>
                <a:close/>
                <a:moveTo>
                  <a:pt x="1758" y="1340"/>
                </a:moveTo>
                <a:lnTo>
                  <a:pt x="0" y="1340"/>
                </a:lnTo>
                <a:lnTo>
                  <a:pt x="0" y="1044"/>
                </a:lnTo>
                <a:lnTo>
                  <a:pt x="1758" y="1044"/>
                </a:lnTo>
                <a:lnTo>
                  <a:pt x="1758" y="1340"/>
                </a:lnTo>
                <a:close/>
                <a:moveTo>
                  <a:pt x="1867" y="990"/>
                </a:moveTo>
                <a:lnTo>
                  <a:pt x="0" y="990"/>
                </a:lnTo>
                <a:lnTo>
                  <a:pt x="0" y="695"/>
                </a:lnTo>
                <a:lnTo>
                  <a:pt x="1867" y="695"/>
                </a:lnTo>
                <a:lnTo>
                  <a:pt x="1867" y="990"/>
                </a:lnTo>
                <a:close/>
                <a:moveTo>
                  <a:pt x="2197" y="645"/>
                </a:moveTo>
                <a:lnTo>
                  <a:pt x="0" y="645"/>
                </a:lnTo>
                <a:lnTo>
                  <a:pt x="0" y="345"/>
                </a:lnTo>
                <a:lnTo>
                  <a:pt x="2197" y="345"/>
                </a:lnTo>
                <a:lnTo>
                  <a:pt x="2197" y="645"/>
                </a:lnTo>
                <a:close/>
                <a:moveTo>
                  <a:pt x="2418" y="296"/>
                </a:moveTo>
                <a:lnTo>
                  <a:pt x="0" y="296"/>
                </a:lnTo>
                <a:lnTo>
                  <a:pt x="0" y="0"/>
                </a:lnTo>
                <a:lnTo>
                  <a:pt x="2418" y="0"/>
                </a:lnTo>
                <a:lnTo>
                  <a:pt x="2418" y="296"/>
                </a:lnTo>
                <a:close/>
              </a:path>
            </a:pathLst>
          </a:cu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2560" y="1935000"/>
            <a:ext cx="3848040" cy="2689560"/>
          </a:xfrm>
          <a:custGeom>
            <a:avLst/>
            <a:gdLst/>
            <a:ahLst/>
            <a:rect l="l" t="t" r="r" b="b"/>
            <a:pathLst>
              <a:path w="7872" h="5504">
                <a:moveTo>
                  <a:pt x="2160" y="5496"/>
                </a:moveTo>
                <a:cubicBezTo>
                  <a:pt x="2160" y="5501"/>
                  <a:pt x="2157" y="5504"/>
                  <a:pt x="2152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2152" y="4512"/>
                </a:lnTo>
                <a:cubicBezTo>
                  <a:pt x="2157" y="4512"/>
                  <a:pt x="2160" y="4516"/>
                  <a:pt x="2160" y="4520"/>
                </a:cubicBezTo>
                <a:lnTo>
                  <a:pt x="2160" y="5496"/>
                </a:lnTo>
                <a:close/>
                <a:moveTo>
                  <a:pt x="2144" y="4520"/>
                </a:moveTo>
                <a:lnTo>
                  <a:pt x="2152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2152" y="5488"/>
                </a:lnTo>
                <a:lnTo>
                  <a:pt x="2144" y="5496"/>
                </a:lnTo>
                <a:lnTo>
                  <a:pt x="2144" y="4520"/>
                </a:lnTo>
                <a:close/>
                <a:moveTo>
                  <a:pt x="5728" y="4360"/>
                </a:moveTo>
                <a:cubicBezTo>
                  <a:pt x="5728" y="4365"/>
                  <a:pt x="5725" y="4368"/>
                  <a:pt x="5720" y="4368"/>
                </a:cubicBezTo>
                <a:lnTo>
                  <a:pt x="8" y="4368"/>
                </a:lnTo>
                <a:cubicBezTo>
                  <a:pt x="4" y="4368"/>
                  <a:pt x="0" y="4365"/>
                  <a:pt x="0" y="4360"/>
                </a:cubicBezTo>
                <a:lnTo>
                  <a:pt x="0" y="3400"/>
                </a:lnTo>
                <a:cubicBezTo>
                  <a:pt x="0" y="3396"/>
                  <a:pt x="4" y="3392"/>
                  <a:pt x="8" y="3392"/>
                </a:cubicBezTo>
                <a:lnTo>
                  <a:pt x="5720" y="3392"/>
                </a:lnTo>
                <a:cubicBezTo>
                  <a:pt x="5725" y="3392"/>
                  <a:pt x="5728" y="3396"/>
                  <a:pt x="5728" y="3400"/>
                </a:cubicBezTo>
                <a:lnTo>
                  <a:pt x="5728" y="4360"/>
                </a:lnTo>
                <a:close/>
                <a:moveTo>
                  <a:pt x="5712" y="3400"/>
                </a:moveTo>
                <a:lnTo>
                  <a:pt x="5720" y="3408"/>
                </a:lnTo>
                <a:lnTo>
                  <a:pt x="8" y="3408"/>
                </a:lnTo>
                <a:lnTo>
                  <a:pt x="16" y="3400"/>
                </a:lnTo>
                <a:lnTo>
                  <a:pt x="16" y="4360"/>
                </a:lnTo>
                <a:lnTo>
                  <a:pt x="8" y="4352"/>
                </a:lnTo>
                <a:lnTo>
                  <a:pt x="5720" y="4352"/>
                </a:lnTo>
                <a:lnTo>
                  <a:pt x="5712" y="4360"/>
                </a:lnTo>
                <a:lnTo>
                  <a:pt x="5712" y="3400"/>
                </a:lnTo>
                <a:close/>
                <a:moveTo>
                  <a:pt x="6080" y="3224"/>
                </a:moveTo>
                <a:cubicBezTo>
                  <a:pt x="6080" y="3229"/>
                  <a:pt x="6077" y="3232"/>
                  <a:pt x="6072" y="3232"/>
                </a:cubicBezTo>
                <a:lnTo>
                  <a:pt x="8" y="3232"/>
                </a:lnTo>
                <a:cubicBezTo>
                  <a:pt x="4" y="3232"/>
                  <a:pt x="0" y="3229"/>
                  <a:pt x="0" y="3224"/>
                </a:cubicBezTo>
                <a:lnTo>
                  <a:pt x="0" y="2264"/>
                </a:lnTo>
                <a:cubicBezTo>
                  <a:pt x="0" y="2260"/>
                  <a:pt x="4" y="2256"/>
                  <a:pt x="8" y="2256"/>
                </a:cubicBezTo>
                <a:lnTo>
                  <a:pt x="6072" y="2256"/>
                </a:lnTo>
                <a:cubicBezTo>
                  <a:pt x="6077" y="2256"/>
                  <a:pt x="6080" y="2260"/>
                  <a:pt x="6080" y="2264"/>
                </a:cubicBezTo>
                <a:lnTo>
                  <a:pt x="6080" y="3224"/>
                </a:lnTo>
                <a:close/>
                <a:moveTo>
                  <a:pt x="6064" y="2264"/>
                </a:moveTo>
                <a:lnTo>
                  <a:pt x="6072" y="2272"/>
                </a:lnTo>
                <a:lnTo>
                  <a:pt x="8" y="2272"/>
                </a:lnTo>
                <a:lnTo>
                  <a:pt x="16" y="2264"/>
                </a:lnTo>
                <a:lnTo>
                  <a:pt x="16" y="3224"/>
                </a:lnTo>
                <a:lnTo>
                  <a:pt x="8" y="3216"/>
                </a:lnTo>
                <a:lnTo>
                  <a:pt x="6072" y="3216"/>
                </a:lnTo>
                <a:lnTo>
                  <a:pt x="6064" y="3224"/>
                </a:lnTo>
                <a:lnTo>
                  <a:pt x="6064" y="2264"/>
                </a:lnTo>
                <a:close/>
                <a:moveTo>
                  <a:pt x="7152" y="2104"/>
                </a:moveTo>
                <a:cubicBezTo>
                  <a:pt x="7152" y="2109"/>
                  <a:pt x="7149" y="2112"/>
                  <a:pt x="7144" y="2112"/>
                </a:cubicBezTo>
                <a:lnTo>
                  <a:pt x="8" y="2112"/>
                </a:lnTo>
                <a:cubicBezTo>
                  <a:pt x="4" y="2112"/>
                  <a:pt x="0" y="2109"/>
                  <a:pt x="0" y="2104"/>
                </a:cubicBezTo>
                <a:lnTo>
                  <a:pt x="0" y="1128"/>
                </a:lnTo>
                <a:cubicBezTo>
                  <a:pt x="0" y="1124"/>
                  <a:pt x="4" y="1120"/>
                  <a:pt x="8" y="1120"/>
                </a:cubicBezTo>
                <a:lnTo>
                  <a:pt x="7144" y="1120"/>
                </a:lnTo>
                <a:cubicBezTo>
                  <a:pt x="7149" y="1120"/>
                  <a:pt x="7152" y="1124"/>
                  <a:pt x="7152" y="1128"/>
                </a:cubicBezTo>
                <a:lnTo>
                  <a:pt x="7152" y="2104"/>
                </a:lnTo>
                <a:close/>
                <a:moveTo>
                  <a:pt x="7136" y="1128"/>
                </a:moveTo>
                <a:lnTo>
                  <a:pt x="7144" y="1136"/>
                </a:lnTo>
                <a:lnTo>
                  <a:pt x="8" y="1136"/>
                </a:lnTo>
                <a:lnTo>
                  <a:pt x="16" y="1128"/>
                </a:lnTo>
                <a:lnTo>
                  <a:pt x="16" y="2104"/>
                </a:lnTo>
                <a:lnTo>
                  <a:pt x="8" y="2096"/>
                </a:lnTo>
                <a:lnTo>
                  <a:pt x="7144" y="2096"/>
                </a:lnTo>
                <a:lnTo>
                  <a:pt x="7136" y="2104"/>
                </a:lnTo>
                <a:lnTo>
                  <a:pt x="7136" y="1128"/>
                </a:lnTo>
                <a:close/>
                <a:moveTo>
                  <a:pt x="7872" y="968"/>
                </a:moveTo>
                <a:cubicBezTo>
                  <a:pt x="7872" y="973"/>
                  <a:pt x="7869" y="976"/>
                  <a:pt x="7864" y="976"/>
                </a:cubicBezTo>
                <a:lnTo>
                  <a:pt x="8" y="976"/>
                </a:lnTo>
                <a:cubicBezTo>
                  <a:pt x="4" y="976"/>
                  <a:pt x="0" y="973"/>
                  <a:pt x="0" y="968"/>
                </a:cubicBez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lnTo>
                  <a:pt x="7864" y="0"/>
                </a:lnTo>
                <a:cubicBezTo>
                  <a:pt x="7869" y="0"/>
                  <a:pt x="7872" y="4"/>
                  <a:pt x="7872" y="8"/>
                </a:cubicBezTo>
                <a:lnTo>
                  <a:pt x="7872" y="968"/>
                </a:lnTo>
                <a:close/>
                <a:moveTo>
                  <a:pt x="7856" y="8"/>
                </a:moveTo>
                <a:lnTo>
                  <a:pt x="7864" y="16"/>
                </a:lnTo>
                <a:lnTo>
                  <a:pt x="8" y="16"/>
                </a:lnTo>
                <a:lnTo>
                  <a:pt x="16" y="8"/>
                </a:lnTo>
                <a:lnTo>
                  <a:pt x="16" y="968"/>
                </a:lnTo>
                <a:lnTo>
                  <a:pt x="8" y="960"/>
                </a:lnTo>
                <a:lnTo>
                  <a:pt x="7864" y="960"/>
                </a:lnTo>
                <a:lnTo>
                  <a:pt x="7856" y="968"/>
                </a:lnTo>
                <a:lnTo>
                  <a:pt x="7856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45200" y="1938240"/>
            <a:ext cx="3495600" cy="2683080"/>
          </a:xfrm>
          <a:custGeom>
            <a:avLst/>
            <a:gdLst/>
            <a:ahLst/>
            <a:rect l="l" t="t" r="r" b="b"/>
            <a:pathLst>
              <a:path w="2202" h="1690">
                <a:moveTo>
                  <a:pt x="2202" y="1690"/>
                </a:moveTo>
                <a:lnTo>
                  <a:pt x="0" y="1690"/>
                </a:lnTo>
                <a:lnTo>
                  <a:pt x="0" y="1389"/>
                </a:lnTo>
                <a:lnTo>
                  <a:pt x="2202" y="1389"/>
                </a:lnTo>
                <a:lnTo>
                  <a:pt x="2202" y="1690"/>
                </a:lnTo>
                <a:close/>
                <a:moveTo>
                  <a:pt x="2202" y="1340"/>
                </a:moveTo>
                <a:lnTo>
                  <a:pt x="1098" y="1340"/>
                </a:lnTo>
                <a:lnTo>
                  <a:pt x="1098" y="1044"/>
                </a:lnTo>
                <a:lnTo>
                  <a:pt x="2202" y="1044"/>
                </a:lnTo>
                <a:lnTo>
                  <a:pt x="2202" y="1340"/>
                </a:lnTo>
                <a:close/>
                <a:moveTo>
                  <a:pt x="2202" y="990"/>
                </a:moveTo>
                <a:lnTo>
                  <a:pt x="1207" y="990"/>
                </a:lnTo>
                <a:lnTo>
                  <a:pt x="1207" y="695"/>
                </a:lnTo>
                <a:lnTo>
                  <a:pt x="2202" y="695"/>
                </a:lnTo>
                <a:lnTo>
                  <a:pt x="2202" y="990"/>
                </a:lnTo>
                <a:close/>
                <a:moveTo>
                  <a:pt x="2202" y="645"/>
                </a:moveTo>
                <a:lnTo>
                  <a:pt x="1537" y="645"/>
                </a:lnTo>
                <a:lnTo>
                  <a:pt x="1537" y="345"/>
                </a:lnTo>
                <a:lnTo>
                  <a:pt x="2202" y="345"/>
                </a:lnTo>
                <a:lnTo>
                  <a:pt x="2202" y="645"/>
                </a:lnTo>
                <a:close/>
                <a:moveTo>
                  <a:pt x="2202" y="296"/>
                </a:moveTo>
                <a:lnTo>
                  <a:pt x="1758" y="296"/>
                </a:lnTo>
                <a:lnTo>
                  <a:pt x="1758" y="0"/>
                </a:lnTo>
                <a:lnTo>
                  <a:pt x="2202" y="0"/>
                </a:lnTo>
                <a:lnTo>
                  <a:pt x="2202" y="296"/>
                </a:lnTo>
                <a:close/>
              </a:path>
            </a:pathLst>
          </a:cu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40160" y="1935000"/>
            <a:ext cx="3503880" cy="2689560"/>
          </a:xfrm>
          <a:custGeom>
            <a:avLst/>
            <a:gdLst/>
            <a:ahLst/>
            <a:rect l="l" t="t" r="r" b="b"/>
            <a:pathLst>
              <a:path w="7168" h="5504">
                <a:moveTo>
                  <a:pt x="7168" y="5496"/>
                </a:moveTo>
                <a:cubicBezTo>
                  <a:pt x="7168" y="5501"/>
                  <a:pt x="7165" y="5504"/>
                  <a:pt x="7160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7160" y="4512"/>
                </a:lnTo>
                <a:cubicBezTo>
                  <a:pt x="7165" y="4512"/>
                  <a:pt x="7168" y="4516"/>
                  <a:pt x="7168" y="4520"/>
                </a:cubicBezTo>
                <a:lnTo>
                  <a:pt x="7168" y="5496"/>
                </a:lnTo>
                <a:close/>
                <a:moveTo>
                  <a:pt x="7152" y="4520"/>
                </a:moveTo>
                <a:lnTo>
                  <a:pt x="7160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7160" y="5488"/>
                </a:lnTo>
                <a:lnTo>
                  <a:pt x="7152" y="5496"/>
                </a:lnTo>
                <a:lnTo>
                  <a:pt x="7152" y="4520"/>
                </a:lnTo>
                <a:close/>
                <a:moveTo>
                  <a:pt x="7168" y="4360"/>
                </a:moveTo>
                <a:cubicBezTo>
                  <a:pt x="7168" y="4365"/>
                  <a:pt x="7165" y="4368"/>
                  <a:pt x="7160" y="4368"/>
                </a:cubicBezTo>
                <a:lnTo>
                  <a:pt x="3576" y="4368"/>
                </a:lnTo>
                <a:cubicBezTo>
                  <a:pt x="3572" y="4368"/>
                  <a:pt x="3568" y="4365"/>
                  <a:pt x="3568" y="4360"/>
                </a:cubicBezTo>
                <a:lnTo>
                  <a:pt x="3568" y="3400"/>
                </a:lnTo>
                <a:cubicBezTo>
                  <a:pt x="3568" y="3396"/>
                  <a:pt x="3572" y="3392"/>
                  <a:pt x="3576" y="3392"/>
                </a:cubicBezTo>
                <a:lnTo>
                  <a:pt x="7160" y="3392"/>
                </a:lnTo>
                <a:cubicBezTo>
                  <a:pt x="7165" y="3392"/>
                  <a:pt x="7168" y="3396"/>
                  <a:pt x="7168" y="3400"/>
                </a:cubicBezTo>
                <a:lnTo>
                  <a:pt x="7168" y="4360"/>
                </a:lnTo>
                <a:close/>
                <a:moveTo>
                  <a:pt x="7152" y="3400"/>
                </a:moveTo>
                <a:lnTo>
                  <a:pt x="7160" y="3408"/>
                </a:lnTo>
                <a:lnTo>
                  <a:pt x="3576" y="3408"/>
                </a:lnTo>
                <a:lnTo>
                  <a:pt x="3584" y="3400"/>
                </a:lnTo>
                <a:lnTo>
                  <a:pt x="3584" y="4360"/>
                </a:lnTo>
                <a:lnTo>
                  <a:pt x="3576" y="4352"/>
                </a:lnTo>
                <a:lnTo>
                  <a:pt x="7160" y="4352"/>
                </a:lnTo>
                <a:lnTo>
                  <a:pt x="7152" y="4360"/>
                </a:lnTo>
                <a:lnTo>
                  <a:pt x="7152" y="3400"/>
                </a:lnTo>
                <a:close/>
                <a:moveTo>
                  <a:pt x="7168" y="3224"/>
                </a:moveTo>
                <a:cubicBezTo>
                  <a:pt x="7168" y="3229"/>
                  <a:pt x="7165" y="3232"/>
                  <a:pt x="7160" y="3232"/>
                </a:cubicBezTo>
                <a:lnTo>
                  <a:pt x="3928" y="3232"/>
                </a:lnTo>
                <a:cubicBezTo>
                  <a:pt x="3924" y="3232"/>
                  <a:pt x="3920" y="3229"/>
                  <a:pt x="3920" y="3224"/>
                </a:cubicBezTo>
                <a:lnTo>
                  <a:pt x="3920" y="2264"/>
                </a:lnTo>
                <a:cubicBezTo>
                  <a:pt x="3920" y="2260"/>
                  <a:pt x="3924" y="2256"/>
                  <a:pt x="3928" y="2256"/>
                </a:cubicBezTo>
                <a:lnTo>
                  <a:pt x="7160" y="2256"/>
                </a:lnTo>
                <a:cubicBezTo>
                  <a:pt x="7165" y="2256"/>
                  <a:pt x="7168" y="2260"/>
                  <a:pt x="7168" y="2264"/>
                </a:cubicBezTo>
                <a:lnTo>
                  <a:pt x="7168" y="3224"/>
                </a:lnTo>
                <a:close/>
                <a:moveTo>
                  <a:pt x="7152" y="2264"/>
                </a:moveTo>
                <a:lnTo>
                  <a:pt x="7160" y="2272"/>
                </a:lnTo>
                <a:lnTo>
                  <a:pt x="3928" y="2272"/>
                </a:lnTo>
                <a:lnTo>
                  <a:pt x="3936" y="2264"/>
                </a:lnTo>
                <a:lnTo>
                  <a:pt x="3936" y="3224"/>
                </a:lnTo>
                <a:lnTo>
                  <a:pt x="3928" y="3216"/>
                </a:lnTo>
                <a:lnTo>
                  <a:pt x="7160" y="3216"/>
                </a:lnTo>
                <a:lnTo>
                  <a:pt x="7152" y="3224"/>
                </a:lnTo>
                <a:lnTo>
                  <a:pt x="7152" y="2264"/>
                </a:lnTo>
                <a:close/>
                <a:moveTo>
                  <a:pt x="7168" y="2104"/>
                </a:moveTo>
                <a:cubicBezTo>
                  <a:pt x="7168" y="2109"/>
                  <a:pt x="7165" y="2112"/>
                  <a:pt x="7160" y="2112"/>
                </a:cubicBezTo>
                <a:lnTo>
                  <a:pt x="5000" y="2112"/>
                </a:lnTo>
                <a:cubicBezTo>
                  <a:pt x="4996" y="2112"/>
                  <a:pt x="4992" y="2109"/>
                  <a:pt x="4992" y="2104"/>
                </a:cubicBezTo>
                <a:lnTo>
                  <a:pt x="4992" y="1128"/>
                </a:lnTo>
                <a:cubicBezTo>
                  <a:pt x="4992" y="1124"/>
                  <a:pt x="4996" y="1120"/>
                  <a:pt x="5000" y="1120"/>
                </a:cubicBezTo>
                <a:lnTo>
                  <a:pt x="7160" y="1120"/>
                </a:lnTo>
                <a:cubicBezTo>
                  <a:pt x="7165" y="1120"/>
                  <a:pt x="7168" y="1124"/>
                  <a:pt x="7168" y="1128"/>
                </a:cubicBezTo>
                <a:lnTo>
                  <a:pt x="7168" y="2104"/>
                </a:lnTo>
                <a:close/>
                <a:moveTo>
                  <a:pt x="7152" y="1128"/>
                </a:moveTo>
                <a:lnTo>
                  <a:pt x="7160" y="1136"/>
                </a:lnTo>
                <a:lnTo>
                  <a:pt x="5000" y="1136"/>
                </a:lnTo>
                <a:lnTo>
                  <a:pt x="5008" y="1128"/>
                </a:lnTo>
                <a:lnTo>
                  <a:pt x="5008" y="2104"/>
                </a:lnTo>
                <a:lnTo>
                  <a:pt x="5000" y="2096"/>
                </a:lnTo>
                <a:lnTo>
                  <a:pt x="7160" y="2096"/>
                </a:lnTo>
                <a:lnTo>
                  <a:pt x="7152" y="2104"/>
                </a:lnTo>
                <a:lnTo>
                  <a:pt x="7152" y="1128"/>
                </a:lnTo>
                <a:close/>
                <a:moveTo>
                  <a:pt x="7168" y="968"/>
                </a:moveTo>
                <a:cubicBezTo>
                  <a:pt x="7168" y="973"/>
                  <a:pt x="7165" y="976"/>
                  <a:pt x="7160" y="976"/>
                </a:cubicBezTo>
                <a:lnTo>
                  <a:pt x="5720" y="976"/>
                </a:lnTo>
                <a:cubicBezTo>
                  <a:pt x="5716" y="976"/>
                  <a:pt x="5712" y="973"/>
                  <a:pt x="5712" y="968"/>
                </a:cubicBezTo>
                <a:lnTo>
                  <a:pt x="5712" y="8"/>
                </a:lnTo>
                <a:cubicBezTo>
                  <a:pt x="5712" y="4"/>
                  <a:pt x="5716" y="0"/>
                  <a:pt x="5720" y="0"/>
                </a:cubicBezTo>
                <a:lnTo>
                  <a:pt x="7160" y="0"/>
                </a:lnTo>
                <a:cubicBezTo>
                  <a:pt x="7165" y="0"/>
                  <a:pt x="7168" y="4"/>
                  <a:pt x="7168" y="8"/>
                </a:cubicBezTo>
                <a:lnTo>
                  <a:pt x="7168" y="968"/>
                </a:lnTo>
                <a:close/>
                <a:moveTo>
                  <a:pt x="7152" y="8"/>
                </a:moveTo>
                <a:lnTo>
                  <a:pt x="7160" y="16"/>
                </a:lnTo>
                <a:lnTo>
                  <a:pt x="5720" y="16"/>
                </a:lnTo>
                <a:lnTo>
                  <a:pt x="5728" y="8"/>
                </a:lnTo>
                <a:lnTo>
                  <a:pt x="5728" y="968"/>
                </a:lnTo>
                <a:lnTo>
                  <a:pt x="5720" y="960"/>
                </a:lnTo>
                <a:lnTo>
                  <a:pt x="7160" y="960"/>
                </a:lnTo>
                <a:lnTo>
                  <a:pt x="7152" y="968"/>
                </a:lnTo>
                <a:lnTo>
                  <a:pt x="7152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7240" y="5211720"/>
            <a:ext cx="4543560" cy="64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2560" y="1900080"/>
            <a:ext cx="7920" cy="33148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65560" y="535788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8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93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7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152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72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12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644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184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48640" y="5357880"/>
            <a:ext cx="31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2040" y="4303800"/>
            <a:ext cx="320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for review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9600" y="4483080"/>
            <a:ext cx="145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rvention log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1080" y="3751200"/>
            <a:ext cx="360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need for a new Thematic 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8120" y="39304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o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1320" y="3198960"/>
            <a:ext cx="31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a need on guidance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86080" y="3378240"/>
            <a:ext cx="22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on evaluation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09240" y="2827440"/>
            <a:ext cx="297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on data ga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4720" y="2093760"/>
            <a:ext cx="239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support 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62960" y="2273400"/>
            <a:ext cx="281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asurement/assessment of imp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78560" y="5630760"/>
            <a:ext cx="219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cus groups (1 per Member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3800" y="5268960"/>
            <a:ext cx="125640" cy="125280"/>
          </a:xfrm>
          <a:prstGeom prst="rect">
            <a:avLst/>
          </a:pr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0560" y="5265720"/>
            <a:ext cx="131760" cy="1332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64" y="0"/>
                </a:lnTo>
                <a:cubicBezTo>
                  <a:pt x="269" y="0"/>
                  <a:pt x="272" y="4"/>
                  <a:pt x="272" y="8"/>
                </a:cubicBezTo>
                <a:lnTo>
                  <a:pt x="272" y="264"/>
                </a:lnTo>
                <a:cubicBezTo>
                  <a:pt x="272" y="269"/>
                  <a:pt x="269" y="272"/>
                  <a:pt x="264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64" y="256"/>
                </a:lnTo>
                <a:lnTo>
                  <a:pt x="256" y="264"/>
                </a:lnTo>
                <a:lnTo>
                  <a:pt x="256" y="8"/>
                </a:lnTo>
                <a:lnTo>
                  <a:pt x="264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07720" y="5197320"/>
            <a:ext cx="34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5880" y="5268960"/>
            <a:ext cx="131760" cy="125280"/>
          </a:xfrm>
          <a:prstGeom prst="rect">
            <a:avLst/>
          </a:pr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1200" y="5265720"/>
            <a:ext cx="141480" cy="133200"/>
          </a:xfrm>
          <a:custGeom>
            <a:avLst/>
            <a:gdLst/>
            <a:ahLst/>
            <a:rect l="l" t="t" r="r" b="b"/>
            <a:pathLst>
              <a:path w="288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80" y="0"/>
                </a:lnTo>
                <a:cubicBezTo>
                  <a:pt x="285" y="0"/>
                  <a:pt x="288" y="4"/>
                  <a:pt x="288" y="8"/>
                </a:cubicBezTo>
                <a:lnTo>
                  <a:pt x="288" y="264"/>
                </a:lnTo>
                <a:cubicBezTo>
                  <a:pt x="288" y="269"/>
                  <a:pt x="285" y="272"/>
                  <a:pt x="280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80" y="256"/>
                </a:lnTo>
                <a:lnTo>
                  <a:pt x="272" y="264"/>
                </a:lnTo>
                <a:lnTo>
                  <a:pt x="272" y="8"/>
                </a:lnTo>
                <a:lnTo>
                  <a:pt x="280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58040" y="5197320"/>
            <a:ext cx="316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6667" t="6667" r="-0" b="10000"/>
          <a:stretch/>
        </p:blipFill>
        <p:spPr>
          <a:xfrm>
            <a:off x="-2438280" y="1676520"/>
            <a:ext cx="10667880" cy="56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4DC-609F-415C-AC60-C306C5273A47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mplementing the CMEF impact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ing impacts at an early stage of programm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114800" y="4572000"/>
            <a:ext cx="2286000" cy="990720"/>
          </a:xfrm>
          <a:prstGeom prst="wedgeRoundRectCallout">
            <a:avLst>
              <a:gd name="adj1" fmla="val -29097"/>
              <a:gd name="adj2" fmla="val 9663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 RDP is at a very early stage of implementation (…)  with the exception of the measures continued from the past period (axis 2 mesur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1523880"/>
            <a:ext cx="2286000" cy="1447920"/>
          </a:xfrm>
          <a:prstGeom prst="wedgeRoundRectCallout">
            <a:avLst>
              <a:gd name="adj1" fmla="val -86666"/>
              <a:gd name="adj2" fmla="val 613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clear focus on effects but the RDP has not yet provided a great number of effects. Rather, this evaluation should focus on how projects and processes are established and how they can be integrated in their contexts and in the programme structu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486400"/>
            <a:ext cx="2286000" cy="685800"/>
          </a:xfrm>
          <a:prstGeom prst="wedgeRoundRectCallout">
            <a:avLst>
              <a:gd name="adj1" fmla="val 17916"/>
              <a:gd name="adj2" fmla="val -30231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ubt about whether CMEF offers the right indicator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600200"/>
            <a:ext cx="2286000" cy="1295280"/>
          </a:xfrm>
          <a:prstGeom prst="wedgeRoundRectCallout">
            <a:avLst>
              <a:gd name="adj1" fmla="val -47083"/>
              <a:gd name="adj2" fmla="val 7916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need to demonstrate the wider relevance and importance of impact assessment and evaluation to beneficiaries in order to encourage their participation and strengthen their inpu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282-AC5A-4E70-879B-D5319F3FD8C0}" type="slidenum">
              <a:t>7</a:t>
            </a:fld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 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vercoming methodological problems in assessing the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 scale and aggregation of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38480" y="3581280"/>
            <a:ext cx="2286000" cy="1143000"/>
          </a:xfrm>
          <a:prstGeom prst="wedgeRoundRectCallout">
            <a:avLst>
              <a:gd name="adj1" fmla="val -82361"/>
              <a:gd name="adj2" fmla="val 2208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t which level should impacts be calculated? sectoral? or for the whole national economy? at the level of a holding or for the whole secto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209680"/>
            <a:ext cx="2286000" cy="838440"/>
          </a:xfrm>
          <a:prstGeom prst="wedgeRoundRectCallout">
            <a:avLst>
              <a:gd name="adj1" fmla="val 32499"/>
              <a:gd name="adj2" fmla="val 134467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aggregate impacts at programme level estimated by measurements at case study level or regional leve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800600"/>
            <a:ext cx="2286000" cy="609480"/>
          </a:xfrm>
          <a:prstGeom prst="wedgeRoundRectCallout">
            <a:avLst>
              <a:gd name="adj1" fmla="val 31458"/>
              <a:gd name="adj2" fmla="val -18229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pass from case study to regional assessmen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5562720"/>
            <a:ext cx="2286000" cy="685800"/>
          </a:xfrm>
          <a:prstGeom prst="wedgeRoundRectCallout">
            <a:avLst>
              <a:gd name="adj1" fmla="val -79444"/>
              <a:gd name="adj2" fmla="val -16898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separate RDP effects of other programme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1523880"/>
            <a:ext cx="1981080" cy="609840"/>
          </a:xfrm>
          <a:prstGeom prst="wedgeRoundRectCallout">
            <a:avLst>
              <a:gd name="adj1" fmla="val 15546"/>
              <a:gd name="adj2" fmla="val 20703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separate external impacts from impacts of RDP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057400"/>
            <a:ext cx="1904760" cy="1143000"/>
          </a:xfrm>
          <a:prstGeom prst="wedgeRoundRectCallout">
            <a:avLst>
              <a:gd name="adj1" fmla="val -70833"/>
              <a:gd name="adj2" fmla="val 649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net out deadweight, displacement and multiplier effects to obtain net additional value for economic indicator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5638680"/>
            <a:ext cx="1828800" cy="685800"/>
          </a:xfrm>
          <a:prstGeom prst="wedgeRoundRectCallout">
            <a:avLst>
              <a:gd name="adj1" fmla="val 30990"/>
              <a:gd name="adj2" fmla="val -12060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measure the impact in the same year of the paymen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358-F64C-4773-BF02-500F9D411CE5}" type="slidenum">
              <a:t>8</a:t>
            </a:fld>
          </a:p>
        </p:txBody>
      </p:sp>
    </p:spTree>
  </p:cSld>
  <p:transition>
    <p:pull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further specific analytica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14800" y="4876920"/>
            <a:ext cx="2286000" cy="685800"/>
          </a:xfrm>
          <a:prstGeom prst="wedgeRoundRectCallout">
            <a:avLst>
              <a:gd name="adj1" fmla="val 40416"/>
              <a:gd name="adj2" fmla="val 13773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need for support on how to use GIS for environmental indicato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00200"/>
            <a:ext cx="2286000" cy="990720"/>
          </a:xfrm>
          <a:prstGeom prst="wedgeRoundRectCallout">
            <a:avLst>
              <a:gd name="adj1" fmla="val 80555"/>
              <a:gd name="adj2" fmla="val -512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gression analysis is used for 3 economic impact indicators and gives advantage to measure net eff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2666880"/>
            <a:ext cx="2286000" cy="838440"/>
          </a:xfrm>
          <a:prstGeom prst="wedgeRoundRectCallout">
            <a:avLst>
              <a:gd name="adj1" fmla="val -75416"/>
              <a:gd name="adj2" fmla="val 799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hift and share” analysis is used for the measurement of the 3 economic impact indicator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105520"/>
            <a:ext cx="2286000" cy="838080"/>
          </a:xfrm>
          <a:prstGeom prst="wedgeRoundRectCallout">
            <a:avLst>
              <a:gd name="adj1" fmla="val 14791"/>
              <a:gd name="adj2" fmla="val -18257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IS analysis at very low scale of all indicators contributing to biodiversity could provide very useful additional information to impact indicator 4 .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E795-5C73-4746-B0E0-D7A8E2F3BC78}" type="slidenum">
              <a:t>9</a:t>
            </a:fld>
          </a:p>
        </p:txBody>
      </p:sp>
    </p:spTree>
  </p:cSld>
  <p:transition>
    <p:pull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9:40:08Z</dcterms:created>
  <dc:creator>Hannes Wimmer</dc:creator>
  <dc:description/>
  <dc:language>en-US</dc:language>
  <cp:lastModifiedBy>zaoujjo</cp:lastModifiedBy>
  <dcterms:modified xsi:type="dcterms:W3CDTF">2009-12-08T08:33:52Z</dcterms:modified>
  <cp:revision>169</cp:revision>
  <dc:subject/>
  <dc:title>Needs Assessment 2009</dc:title>
</cp:coreProperties>
</file>