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8ED2A33-7719-4376-9F47-E4BD27618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00EAC85-208E-4B62-81FF-502541A86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0975EE8-8F06-4A7F-AE77-3EEE5A3D1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FAC723E-679D-45FB-82AC-17F332382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16E8830-DF9D-4F3D-9E8A-0E099D832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BE67-DA60-4BC3-B5D2-66C8752B9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7803-8944-4BB3-B682-2AB2C0264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46CD-CE08-4932-B18F-DA47CF6AE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B5F2-9380-471F-B7E6-807FF2A70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5E61-2B8E-4EF3-87B8-137E1C6CAD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B3F4-DB96-4988-9301-34459CA9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1E3E9-65EF-478A-A637-8FDBCC2F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4C1E-D236-4D5C-9243-C777E0DD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1068D-DF84-40E9-853E-80C0FB77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1FF46-684A-4EA1-B5F5-D561098D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6160-52CD-40BC-A5C5-EE6DB17B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00C3-D069-4EB1-BF7B-1AF778355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FD0AA-2C8D-4B3C-86C4-EC074ED5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5074D-4628-4A63-B0E6-05674DB3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D7647-106E-4A0A-B13C-CFEF4BB9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3B16-9135-48BE-8E8E-590018D7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0B67A-90A9-4DA7-AC01-4FF52E63A1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BA15-62EB-4B1E-95C0-2F5BCD32B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2A0E-D612-49B6-AE27-C0329BE54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54F9-BCAB-4350-ABF4-373902B78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36E0-6921-4AB9-AE14-F7676CC03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D7AC-5165-485B-8CF7-E9ED321DC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D081-88F6-47DF-9218-7CCE3D1D0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A713-684B-41A8-9786-2549A2F66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49DA-9303-44AA-89FE-E4B6869C0827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9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468360" y="643248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07 De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1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Methodological approaches for capturing the impact of Leader and of measures to improve quality of life in rural area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900000" y="4292640"/>
            <a:ext cx="74599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and process of the Thematic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HAEL HEG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lpdesk 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686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83720" indent="-3402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s 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losing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oncluding drafting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the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to the </a:t>
            </a: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xper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ine-tu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Working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issemin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definition of relevant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ollow-up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help make the guidance more operational to Member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D4E5-72E6-4636-8D55-10AC023EE8D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3: VALIDATION &amp; FIN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22100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inalisation workshop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May 18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inalisation drafting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of Working Paper 3 (WP3), May 26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presentation of WP3 to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Expert Committe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early Jun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Fine-tuning and dissemination of guidance and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efinition of </a:t>
            </a:r>
            <a:br>
              <a:rPr sz="2000"/>
            </a:br>
            <a:r>
              <a:rPr b="1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ollow-up activities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end Jun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F5D7-1FFD-4DA3-8401-AB09D030728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91D6-1CE4-4643-9AA0-1CB153F3B6E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el 1"/>
          <p:cNvSpPr/>
          <p:nvPr/>
        </p:nvSpPr>
        <p:spPr>
          <a:xfrm>
            <a:off x="0" y="0"/>
            <a:ext cx="6516720" cy="1197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CONTENT OF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haltsplatzhalter 2"/>
          <p:cNvSpPr/>
          <p:nvPr/>
        </p:nvSpPr>
        <p:spPr>
          <a:xfrm>
            <a:off x="395280" y="1628640"/>
            <a:ext cx="822960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States’ needs for methodological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in assessing impacts for Leader and Quality of Life (axes 3 &amp;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ematic working group (TWG)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Objective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expected results, proposed methods,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6156-1099-4D31-AF9E-6341D00C673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haltsplatzhalter 2"/>
          <p:cNvSpPr/>
          <p:nvPr/>
        </p:nvSpPr>
        <p:spPr>
          <a:xfrm>
            <a:off x="395280" y="1484280"/>
            <a:ext cx="8137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s assessment conducted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cus Groups (2008 &amp; 2009) in Member State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ssion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etings / other contacts with evaluation community from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MEMBER STATES’ NEEDS FOR METHODOLOGICAL GUIDANC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0D6E-A5B1-4716-B61F-2FFB6A64E9D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haltsplatzhalter 2"/>
          <p:cNvSpPr/>
          <p:nvPr/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findings of needs assessment for evaluation of impacts of axes 3 &amp;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adequate definitions, criteria and indicators for LEADER and Quality of Lif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ckling the qualitative nature of the eff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ing contributions of small-scale inter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ing the stimulation of cultural change through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entangle Leader effects from deadweight, double counting, displacement and other intervention policies (viz. counterfact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olving beneficiaries in the evaluation process (reliable data, active participation in the evaluation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MEMBER STATES’ NEEDS FOR METHODOLOGICAL GUIDANC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current identified challenges (draft Concept Note) complementing needs assess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mon Evaluation Ques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challenging – assessing effects of the Leader approach, and contribution to improved qualit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th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“double scope” of Lead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rocess and prod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ittle guidance in CME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although some previous experience from Leader II &amp; Leader+, &amp; Quality of Life 2000-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+ stresse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“structuring a common evaluation strate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t all levels…&amp; should follow an overall bottom-up approac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Gaps in evaluator specialis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ntextual knowledge, experi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ling with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iffuse distribution of eff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erms of time, geography, community and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MEF requirements estimating impact at: a)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ocal lev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and b) contribution to general tren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t programm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CHALLENGES IN ASSESSING IMPACTS OF LEADER AND QUALITY OF LIFE 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1939-31B5-4CC9-8DBC-F73E517600F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THE THEMATIC WORKING GROUP PROCES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provide practical methodological guidance in assessing the impacts of Leader and measures to improve the Quality of Life through rural development program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cte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uidance document describing state-of-the-art and current/good evaluation practice and complementary tools, to supp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programme evaluators/MAs to make use of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optimal approaches to rural development evaluation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 and …..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to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select appropriate evaluation methods and tool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development of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convergent methods of RDP evaluation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 at EU-level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975F-A62A-4141-AEF0-9B76DF39F10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THE THEMATIC WORKING GROUP 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484280"/>
            <a:ext cx="7777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3-step proc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raf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and fin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1: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686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initia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TW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ising the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oncept N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thering and reviewing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urrent evaluation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state-of-the-a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Leader and Qualit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l kick-off of the process through 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worksh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6B46-9905-4833-8210-8E0DF080DFB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716280"/>
            <a:ext cx="88930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463"/>
                </a:solidFill>
                <a:uFillTx/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raft Concept Note, Nov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questionnaire survey of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current practic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in MS, by Dec 18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ocument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drafted on current practice in MS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d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ocument drafted on </a:t>
            </a:r>
            <a:r>
              <a:rPr b="1" lang="en-GB" sz="2000" spc="-1" strike="noStrike">
                <a:solidFill>
                  <a:srgbClr val="006666"/>
                </a:solidFill>
                <a:latin typeface="Arial"/>
                <a:ea typeface="Arial"/>
              </a:rPr>
              <a:t>state-of-the-art practices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v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TWG composition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confirmed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vi) launch of TWG through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workshop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n Brussels, Jan 26 (or 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ctivity develops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raft working pap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ing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state-of-the-a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methods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ncorporation of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etailed current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pecific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evaluation challen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Member Stat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ing also on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global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4B75-2888-45A9-88E3-DFA810D50F1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2: DRAF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716280"/>
            <a:ext cx="8748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463"/>
                </a:solidFill>
                <a:uFillTx/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raft Working Paper 1 (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WP1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), Mar. 4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workshop in MS, bringing forward detailed current pract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Mar 2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revised draft Working Paper 2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(WP2), sent to MS, Apr.16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2nd workshop in MS (if required) for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urther current practic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Apr 29 → incorporated into Working Paper 3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(WP3), May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zaoujjo</cp:lastModifiedBy>
  <cp:lastPrinted>2008-05-30T14:18:28Z</cp:lastPrinted>
  <dcterms:modified xsi:type="dcterms:W3CDTF">2009-12-08T08:32:23Z</dcterms:modified>
  <cp:revision>454</cp:revision>
  <dc:subject/>
  <dc:title>EENRD presentation</dc:title>
</cp:coreProperties>
</file>