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C2049A8-F09C-4922-94F0-9C7ADB614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8BFDE44-0190-4B83-8A83-2C7CF5B4D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5D4391A-9663-4268-91B4-5DEAA6BC8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D795BD8-29E6-49E6-8AE8-D159C2E269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3535-0DDA-4D13-A374-78BAA531C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1C61-BFC3-4BB4-B006-016D0E863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98BA-88F2-465D-835D-BB2E8CBA0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EC7E-F7C8-44B9-80ED-0ED5D04E9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7DC7-4B6D-4089-BEBB-4E552DC9BD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74BD-F84A-4C5C-92C2-A1245608A4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CFDC-A909-4563-915C-AC24FEAA6F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A1BB-DEDC-40C4-9172-04EF606555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6B7D-3477-48EC-B1C2-C35F9AB9D8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064D-774A-4025-975E-361E5DC996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4637-0742-4B69-8577-FBBB19AD78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FC0E-1B6C-4832-87A7-817B3E03C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1385-FD02-4924-9592-DF4CAA4FF3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43F5-798A-42E5-ACB5-583547C8CE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7074-C6D9-4626-9D19-AC8B1D4077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8A423-6306-403E-8E8C-592553D2C4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9F889-038A-4F63-BAEC-038B215F28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BD87-BDB4-45DD-99F4-49AD0092B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FCD3-C5A9-4D8B-8B0B-87901CA72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C087-2607-453B-8AE7-516331405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B5E3-3C45-4878-ADC0-1E9B84FC2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86377-0F67-4526-8705-91B552082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484E-B072-4324-ABC7-267A48C3F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70F1-C8B6-4A9B-BDBD-366D5A6C0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177C-3A7F-4A4B-9A81-FD09053C3179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29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1"/>
          <p:cNvSpPr/>
          <p:nvPr/>
        </p:nvSpPr>
        <p:spPr>
          <a:xfrm>
            <a:off x="3348000" y="6381720"/>
            <a:ext cx="259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aluation Expert Committee 3rd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07EA-5082-4E8A-B293-6770A30429D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1714680"/>
            <a:ext cx="850104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</a:t>
            </a: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8</a:t>
            </a: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6463"/>
                </a:solidFill>
                <a:latin typeface="Arial"/>
              </a:rPr>
              <a:t>Preliminary findings</a:t>
            </a:r>
            <a:br>
              <a:rPr sz="3200"/>
            </a:b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900000" y="4292640"/>
            <a:ext cx="745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lrike WEINSP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desk Evaluation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B958-9DB3-43A9-B0A7-C919FC4CDA41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52480" y="501300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help improve ongoing evaluation systems in the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AT IS THE PURPOSE OF THE SYNTHE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852480" y="256536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enhance the quality of evaluation reporting by fostering consistent approaches across the 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852480" y="3733920"/>
            <a:ext cx="829152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.. identify and promote good practice in conducting and reporting about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852480" y="1500120"/>
            <a:ext cx="82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Evaluation Helpdesk prepares it annually, to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7127-2803-46DB-8670-048543F2BFE7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eport on progress on every component of the ongoing evaluation system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rovide more detailed information on all relevant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cus your reporting on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activit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ised or underway and provide a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 timetabl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the activities planned for the following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aking into account that most APRs (for 2008) were already drafted by the time the </a:t>
            </a:r>
            <a:r>
              <a:rPr b="0" i="1" lang="pl-PL" sz="2400" spc="-1" strike="noStrike">
                <a:solidFill>
                  <a:srgbClr val="000000"/>
                </a:solidFill>
                <a:latin typeface="Arial"/>
              </a:rPr>
              <a:t>previous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nthesis was presented, these recommendations remain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MINDER OF THE MAIN RECOMMENDATIONS FROM THE PREVIOUS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AEE0-93ED-4C14-A501-7DC4B01F032B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ction on ongoing evaluation in the APRs reviewed this year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varies in information content, quality and leng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s describe sufficiently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stitution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ttle information is provided on reviewing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25% of APR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evaluation ques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 of AP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review of indicato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ddressed in 50% of APRs, but little detail is provided on how this was done and what were the mai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than 50% of the APRs refer to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ethodologies that will be used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6500880" cy="1143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GENERAL FINDING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FROM APRs FO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B029-22D9-4A3C-959D-18C2602D8DE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720" y="-27360"/>
            <a:ext cx="6335640" cy="129708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VERAGE OF EVALUATION SYSTEM AND ACTIVITIES (2007 and 2008)</a:t>
            </a:r>
            <a:endParaRPr b="1" lang="en-US" sz="2000" spc="-1" strike="noStrike">
              <a:solidFill>
                <a:srgbClr val="006463"/>
              </a:solidFill>
              <a:latin typeface="Arial"/>
            </a:endParaRPr>
          </a:p>
        </p:txBody>
      </p:sp>
      <p:graphicFrame>
        <p:nvGraphicFramePr>
          <p:cNvPr id="112" name="Rectangle 13"/>
          <p:cNvGraphicFramePr/>
          <p:nvPr/>
        </p:nvGraphicFramePr>
        <p:xfrm>
          <a:off x="530280" y="1700280"/>
          <a:ext cx="814392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Rectangle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1700280"/>
                    <a:ext cx="814392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7A59-19AB-4B54-9F3D-AA55192E323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rding to Art 82 2) d) of Council Regulation 1698/2005, MS are requested to provide in the AP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umma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1" lang="pl-PL" sz="2000" spc="-1" strike="noStrike">
                <a:solidFill>
                  <a:srgbClr val="009999"/>
                </a:solidFill>
                <a:latin typeface="Arial"/>
              </a:rPr>
              <a:t>f their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evaluation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ever, if these summa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ain on a general and abstract level,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ill be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difficult to assess the progress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ing on ongoing evaluation should not just be an additional burden, but rath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timulate 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M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ongoing evaluat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e an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exchange of experience and good practi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conducting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ibute to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 continuous capacity building and interac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valuation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PR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AS A TOOL OF ONGO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AA1F-D4BC-4BDF-AF4B-3B8160AA759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6463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 is essential that the fine-tuning of th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tervention logic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the review of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dicators and evaluation ques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s carried out in </a:t>
            </a: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preparation for th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M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2010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preferably in 2009) and properly reported 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information is need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Methodological wor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S are undertaking or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the different activities of the MTE are organised (</a:t>
            </a: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operational plan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and what ha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een or will b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one including milestones, timelin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assist MS, a 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ore detailed explanatory note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2010 reporting</a:t>
            </a: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0" y="0"/>
            <a:ext cx="6500880" cy="119700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RECOMMENDATIONS TO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FOR REPORTING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8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F49-57B1-4DC5-85B9-273BF2DDA8A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9F71-661F-4B45-A840-F5E228744D9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explanatory note follows the indicative outline provided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ance Not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0076" t="7346" r="1949" b="48359"/>
          <a:stretch/>
        </p:blipFill>
        <p:spPr>
          <a:xfrm>
            <a:off x="928800" y="2060640"/>
            <a:ext cx="7132680" cy="389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Oval 5"/>
          <p:cNvSpPr/>
          <p:nvPr/>
        </p:nvSpPr>
        <p:spPr>
          <a:xfrm>
            <a:off x="1979640" y="2205000"/>
            <a:ext cx="865080" cy="2890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CMEF HANDBOOK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3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7 Dec.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2800" spc="-1" strike="noStrike">
              <a:solidFill>
                <a:srgbClr val="006463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5311800" cy="357804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CF76-1271-4DC1-8601-BA28363BBFC2}" type="slidenum"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zaoujjo</cp:lastModifiedBy>
  <cp:lastPrinted>2008-05-30T14:18:28Z</cp:lastPrinted>
  <dcterms:modified xsi:type="dcterms:W3CDTF">2009-12-08T08:29:20Z</dcterms:modified>
  <cp:revision>344</cp:revision>
  <dc:subject/>
  <dc:title>EENRD presentation</dc:title>
</cp:coreProperties>
</file>