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FF0A-7FAD-415B-B314-E45CD989E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8273-593E-47D3-96B1-ED48E0360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E803-46E8-44DC-87B1-C35B08DF8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B198-2EEB-44E5-B1D9-6CD1387DF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9BBE-27D6-458C-854A-FE3937854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C265-E3BE-4810-85CB-AADCBCAFE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B9FE-0EE4-4E76-8592-2BC0D2026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14BE-B9AD-4D5E-89BB-7EE2E4126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DC8D-0851-46FB-8470-5490AC0FF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D009-57A3-4A47-8AB0-5156A7662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F0E8-F2B3-49AB-8F8F-29EDE8B74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5F34-9696-454B-BE33-1A6329F14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06CD0-2A2A-4C46-A68A-D70CE023F9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9900"/>
                </a:solidFill>
                <a:latin typeface="Arial"/>
              </a:rPr>
              <a:t>TITOLO</a:t>
            </a:r>
            <a:endParaRPr b="1" lang="en-US" sz="36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XXX XXXX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Titol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es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8T15:56:53Z</dcterms:created>
  <dc:creator>---</dc:creator>
  <dc:description/>
  <dc:language>en-US</dc:language>
  <cp:lastModifiedBy>---</cp:lastModifiedBy>
  <dcterms:modified xsi:type="dcterms:W3CDTF">2008-12-17T10:52:14Z</dcterms:modified>
  <cp:revision>6</cp:revision>
  <dc:subject/>
  <dc:title>Diapositiva 1</dc:title>
</cp:coreProperties>
</file>