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2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2BFA6E5-5887-4DE7-9F4E-2D2684BC2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12B9CC0-1642-49CE-B67D-919EFB06D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FBF6187-4C26-4CC1-AB2F-A65812E85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0F27DA1-2054-49A0-958F-E0A425730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CB930C9-B5D2-44A9-ACD8-45F9392D3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03284F2-2F60-444A-BEFA-298A7F2BD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499A65F-1163-48E4-B21B-254A7F1B9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2143966-38A0-4E5E-AFC7-414F6D6B9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4F94E17-5DED-4A56-ADCA-3022FC89C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D9FA525-2635-431C-A8C7-0B92BB307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A8A4AB5-62D2-4CAA-A83C-700D78F33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CF09BF-E98F-40CB-878A-7DCFD2DE8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F3FB742-C39E-4984-A8F9-5E8362FEE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2579FF8-7AA9-4270-BDC9-55A866224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4FC7706-8767-474C-897B-A41A8DCEE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6B979D4-2FAD-483C-B07D-23C9D3FF7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3E963BC-614B-43B3-B4D2-F252A3D3A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E4E2-D274-4FDF-8D8D-3DE5BCAA6D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E338-19A0-4C00-81D3-67866B53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89FB-2358-4B2E-B525-A5D87D1B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B62F-E7C6-4C4B-96E6-E471A7D88B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9FFD5-5401-4D8F-B968-B98712C3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94794-EC79-4538-8E38-9D7C969D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532ED-E89D-4595-A852-815C6E60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C0257-F9E9-4192-8126-B2069927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22CB5-317D-4A51-B354-53AFBB0D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91F00-B14C-458D-BF89-B2B3B8B4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D41BB-1F85-4F16-A21E-FAF2BD35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7E78-663A-4F58-847E-C0F7F111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2EC7F-4355-4D3B-823D-038A97F8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0F50B-3DA5-408B-8D8B-269F5D7E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FAA45-FC66-43C9-BD87-E47C544D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315AD-6417-49CF-8FE5-854AF63F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A5786-FB00-483E-824A-C2DFA16E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05BE-9BAB-45C5-8C32-86C32522B1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B3BC-589F-49B4-8497-F7C87F3E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9380-97B5-4EF9-9EB4-4D75376B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3494-FBD2-4553-882D-29178845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1542-BD42-4E5C-9199-42B547B0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5D17-3400-4BF2-9C63-39FD76D5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9A00-DFF9-4060-8D55-AC1F13EE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3B08-B5BB-448C-8A8A-5697F935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9C9F-1030-46FE-B3AC-939DA624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E887-0BB7-4F4B-B538-B13CF481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50FB-6BB8-4351-86E6-55188194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8BB8-7EAF-42E3-9A92-9DEBD9F7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3555-D73A-4034-8068-DDA4851FD7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05C36-DF71-4526-9C26-F097F8B84F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CA3AB-D0D2-4F6B-B23E-4C37B731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E49EE-519B-472F-814C-5CB9E155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52B6-10C1-4BD9-830C-DFB7444F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5DE87-CFBB-45F6-95BB-D008B53A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A10EE-D4D1-4C6A-BF17-7D822C8C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4CBF9-BC75-4D35-8E19-D952E5A0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64EB6-F134-4DE6-8C2D-6CDB0008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D0CD9-4B88-4FE7-ABB2-7EE600C5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1E6B3-72A1-45FE-8AED-51688FE8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95FB2-C5D3-4283-8F2A-A59E1C9A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C00FA-8684-4C97-9E35-835F7462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5B2CB-420D-49AA-BA12-36C903C951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B855-F5AE-4C07-9B4A-F449EC19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B735-4CED-4B79-A2E3-1F92DB08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DE64-A1EA-412F-8348-296A1996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BD0D-F5DB-4097-848F-8D77C290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0F8C-236D-44E3-9D5C-87A9457D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4F49-E384-4A65-8A31-027D4C6CA028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4894-B9F9-4BA9-BC02-F06F3A856048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0EA0-C113-473E-AC11-75980896BE4B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9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840" y="1714320"/>
            <a:ext cx="8501040" cy="35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8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Hannes Wimmer &amp; Margot Van Soetendael</a:t>
            </a:r>
            <a:endParaRPr b="1" lang="en-US" sz="2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28800" y="4714920"/>
            <a:ext cx="74595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3ADC-D8DC-4567-802B-15053C6DC1A9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ystems for data col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tail and describe respon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ain data sources &amp; typ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ata ga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ctivities to overcome data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to provide evaluators with necessary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629400" y="1523880"/>
            <a:ext cx="2416320" cy="2590920"/>
          </a:xfrm>
          <a:prstGeom prst="wedgeRoundRectCallout">
            <a:avLst>
              <a:gd name="adj1" fmla="val -77333"/>
              <a:gd name="adj2" fmla="val 1825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include a diagram or description of the architecture of the system for data management; information flow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etworking activit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gradually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 focus groups organized by Evaluation Helpdesk;  Helpdesk missions and visit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APRs (17) report on evaluation-related workshops at national or intern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networking activities are reported for MS with regional programmes and in New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slowly taking up but remains mo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7552-EAA8-4851-B16B-D83657F06049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BC28-D8E1-47E5-B4F3-1A95F6E35F13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 particip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evant networking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the details of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urpose, outcome and follow-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, workshops and seminar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references on further docu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629400" y="1600200"/>
            <a:ext cx="2416320" cy="1185840"/>
          </a:xfrm>
          <a:prstGeom prst="wedgeRoundRectCallout">
            <a:avLst>
              <a:gd name="adj1" fmla="val -106356"/>
              <a:gd name="adj2" fmla="val 4746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t local, regional, national and EU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6651720" y="3000240"/>
            <a:ext cx="2415960" cy="1643040"/>
          </a:xfrm>
          <a:prstGeom prst="wedgeRoundRectCallout">
            <a:avLst>
              <a:gd name="adj1" fmla="val -97300"/>
              <a:gd name="adj2" fmla="val 1209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are the initiators,  the participants? What are the lessons learne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6651720" y="4815000"/>
            <a:ext cx="2415960" cy="685800"/>
          </a:xfrm>
          <a:prstGeom prst="wedgeRoundRectCallout">
            <a:avLst>
              <a:gd name="adj1" fmla="val -83509"/>
              <a:gd name="adj2" fmla="val -1643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.g. publications, internet-link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ifficulties encountered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ut also more practical in nature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I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in dealing with simultaneous evaluation tasks, (e.g.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evaluation 2000-2006 and the preparation of MTE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practical application of the overall CM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fulfilling the requirements of the monitor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FA93-8701-417E-B3EB-FB42881130F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B7F8-97FC-4E73-BBED-424B0EEB91C2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ost relevant difficul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erienced in fulfilling ongoing evaluation 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lanned and realized solu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or overcoming these difficul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ifferenti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difficulties to be resolved at programme, Member State or EU level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629400" y="1600200"/>
            <a:ext cx="2416320" cy="1371600"/>
          </a:xfrm>
          <a:prstGeom prst="wedgeRoundRectCallout">
            <a:avLst>
              <a:gd name="adj1" fmla="val -91587"/>
              <a:gd name="adj2" fmla="val 526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ive  references to previous chapters where problems ar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6651720" y="3809880"/>
            <a:ext cx="2415960" cy="1371600"/>
          </a:xfrm>
          <a:prstGeom prst="wedgeRoundRectCallout">
            <a:avLst>
              <a:gd name="adj1" fmla="val -80814"/>
              <a:gd name="adj2" fmla="val -2592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scribe the solutions adopted, the involved actors, the lessons lear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57520" y="2214720"/>
            <a:ext cx="37861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....see Annex 1 </a:t>
            </a:r>
            <a:r>
              <a:rPr b="1" lang="en-GB" sz="1800" spc="-1" strike="noStrike" u="sng">
                <a:solidFill>
                  <a:srgbClr val="006463"/>
                </a:solidFill>
                <a:uFillTx/>
                <a:latin typeface="Arial"/>
              </a:rPr>
              <a:t>Explanatory note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, providing clarifications to the MAs for preparing the section on ongoing evaluation in APRs (complementing Guidance Note B of the Handbook on CMEF) </a:t>
            </a:r>
            <a:br>
              <a:rPr sz="2800"/>
            </a:br>
            <a:endParaRPr b="1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E822-13A9-481C-808E-D016A649EE4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umsplatzhalter 4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4643280" cy="5506920"/>
          </a:xfrm>
          <a:prstGeom prst="rect">
            <a:avLst/>
          </a:prstGeom>
          <a:ln w="0">
            <a:noFill/>
          </a:ln>
        </p:spPr>
      </p:pic>
      <p:sp>
        <p:nvSpPr>
          <p:cNvPr id="254" name="Titel 1"/>
          <p:cNvSpPr/>
          <p:nvPr/>
        </p:nvSpPr>
        <p:spPr>
          <a:xfrm>
            <a:off x="468360" y="71280"/>
            <a:ext cx="633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For APR 2009 plea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7640" y="2637000"/>
            <a:ext cx="6336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6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A483-CDAE-440C-88A1-A81C04A1A2F0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1108-B6AC-45F9-8996-E6A966BD800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</a:rPr>
              <a:t>The Guidance Note B - Evaluation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27572" t="7346" r="11615" b="48359"/>
          <a:stretch/>
        </p:blipFill>
        <p:spPr>
          <a:xfrm>
            <a:off x="457200" y="2060640"/>
            <a:ext cx="5562720" cy="3892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81" name="Oval 5"/>
          <p:cNvSpPr/>
          <p:nvPr/>
        </p:nvSpPr>
        <p:spPr>
          <a:xfrm>
            <a:off x="811080" y="2149560"/>
            <a:ext cx="865440" cy="288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 and Focus of AP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6172200" y="1933560"/>
            <a:ext cx="2825640" cy="1424160"/>
          </a:xfrm>
          <a:prstGeom prst="wedgeRoundRectCallout">
            <a:avLst>
              <a:gd name="adj1" fmla="val -97402"/>
              <a:gd name="adj2" fmla="val 624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7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system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in the national/region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6172200" y="3814920"/>
            <a:ext cx="2825640" cy="2433600"/>
          </a:xfrm>
          <a:prstGeom prst="wedgeRoundRectCallout">
            <a:avLst>
              <a:gd name="adj1" fmla="val -99495"/>
              <a:gd name="adj2" fmla="val -39041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8+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activities undertaken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(incl. capacity building and methodological work), data collection, and difficulties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533520" y="3429000"/>
            <a:ext cx="42670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533520" y="3886200"/>
            <a:ext cx="426708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I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7652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Overall the sections on ongoing evaluation in the APRS for 2008 vary in their degree of completeness &amp; coverage of indicative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84F0-85B4-4254-B7B0-A68CA38F8183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0" t="5655" r="0" b="0"/>
          <a:stretch/>
        </p:blipFill>
        <p:spPr>
          <a:xfrm>
            <a:off x="790560" y="2357280"/>
            <a:ext cx="7281720" cy="3737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102"/>
          <p:cNvSpPr/>
          <p:nvPr/>
        </p:nvSpPr>
        <p:spPr>
          <a:xfrm>
            <a:off x="285840" y="3067200"/>
            <a:ext cx="50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1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3AAE-0F08-410B-9056-9D793B188D93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evaluation section of the APR as a tool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monstrate prog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ongoing evalu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in sufficient detail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ll (!) 5 topics indicated in Guidance </a:t>
            </a:r>
            <a:r>
              <a:rPr b="1" lang="pl-PL" sz="2000" spc="-1" strike="noStrike">
                <a:solidFill>
                  <a:srgbClr val="99cc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te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MEF Hand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77"/>
          <p:cNvSpPr/>
          <p:nvPr/>
        </p:nvSpPr>
        <p:spPr>
          <a:xfrm>
            <a:off x="6629400" y="1143000"/>
            <a:ext cx="2416320" cy="1600200"/>
          </a:xfrm>
          <a:prstGeom prst="wedgeRoundRectCallout">
            <a:avLst>
              <a:gd name="adj1" fmla="val -78777"/>
              <a:gd name="adj2" fmla="val 71430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Use cross-references if information is provided in previous reports or se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78"/>
          <p:cNvSpPr/>
          <p:nvPr/>
        </p:nvSpPr>
        <p:spPr>
          <a:xfrm>
            <a:off x="6629400" y="3200400"/>
            <a:ext cx="2416320" cy="2895480"/>
          </a:xfrm>
          <a:prstGeom prst="wedgeRoundRectCallout">
            <a:avLst>
              <a:gd name="adj1" fmla="val -89550"/>
              <a:gd name="adj2" fmla="val 6578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ay particular attention to the coverage of the topics ‘evaluation activities’, ‘networking activities’ and ‘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difficultie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encountered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214280"/>
            <a:ext cx="8534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 describ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stablishment of evalu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 approval of many RD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% of APR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ill cover description of evalu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dmin.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reparations for tende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 APRs mention selection procedure for external evalu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outsourcing models for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teering Grou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becoming oper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 SGs mentioned in 2008 (14 in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: input for ToRs; selection of evaluato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4366-CA2C-45F6-B253-BAEDD4E4FAB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9CCF-F34F-4EC2-8DD2-77A58AD68FE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comprehensively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evaluation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dministrative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for hiring (MTE) evalu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information on coordi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evaluation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082"/>
          <p:cNvSpPr/>
          <p:nvPr/>
        </p:nvSpPr>
        <p:spPr>
          <a:xfrm>
            <a:off x="6629400" y="1143000"/>
            <a:ext cx="2416320" cy="857160"/>
          </a:xfrm>
          <a:prstGeom prst="wedgeRoundRectCallout">
            <a:avLst>
              <a:gd name="adj1" fmla="val -104944"/>
              <a:gd name="adj2" fmla="val 12890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does what, how and wh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084"/>
          <p:cNvSpPr/>
          <p:nvPr/>
        </p:nvSpPr>
        <p:spPr>
          <a:xfrm>
            <a:off x="6651720" y="2357280"/>
            <a:ext cx="2415960" cy="2500560"/>
          </a:xfrm>
          <a:prstGeom prst="wedgeRoundRectCallout">
            <a:avLst>
              <a:gd name="adj1" fmla="val -76018"/>
              <a:gd name="adj2" fmla="val 483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oR preparation, type of tender, start and closure dates, activities outsourced, information on contracted companies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085"/>
          <p:cNvSpPr/>
          <p:nvPr/>
        </p:nvSpPr>
        <p:spPr>
          <a:xfrm>
            <a:off x="6629400" y="4952880"/>
            <a:ext cx="2416320" cy="1219320"/>
          </a:xfrm>
          <a:prstGeom prst="wedgeRoundRectCallout">
            <a:avLst>
              <a:gd name="adj1" fmla="val -75296"/>
              <a:gd name="adj2" fmla="val -549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teraction mechanisms with evaluators, Steering Group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verage of ongoing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 of APRs report on the review of result/impact indic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 mention the review of intervention 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 describe actions to review evaluation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in developing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aluatio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 APRs mention work on evaluation methodologi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lessons from ex-post &amp; ex-an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follow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matic stud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creasingly used (21 AP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B1AF-BE66-49D8-8C67-42A297B9AC8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ation to your evalu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n overview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reparatory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in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pecific evaluation methodolog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follow-up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lessons from ex post 2000-06 and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6629400" y="1643040"/>
            <a:ext cx="2416320" cy="1828800"/>
          </a:xfrm>
          <a:prstGeom prst="wedgeRoundRectCallout">
            <a:avLst>
              <a:gd name="adj1" fmla="val -101601"/>
              <a:gd name="adj2" fmla="val 321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reviews of intervention logic, result and impact indicators, and evaluation ques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6629400" y="4143240"/>
            <a:ext cx="2416320" cy="1785960"/>
          </a:xfrm>
          <a:prstGeom prst="wedgeRoundRectCallout">
            <a:avLst>
              <a:gd name="adj1" fmla="val -115986"/>
              <a:gd name="adj2" fmla="val -14083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ecify themes or outcomes of outsourced studies, surveys, case studi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collecti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racts major attention of A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organisational model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dat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Main data gaps</a:t>
            </a: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e to indicators for environmental measures, GVA-related and non-agricultural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rocess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unharmonized data as challe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vities to improv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quality &amp; overcome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DB6C-8789-4381-A2BC-53A1B035A1A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Hannes Wimmer</cp:lastModifiedBy>
  <cp:lastPrinted>2008-05-30T14:18:28Z</cp:lastPrinted>
  <dcterms:modified xsi:type="dcterms:W3CDTF">2010-03-15T10:49:27Z</dcterms:modified>
  <cp:revision>370</cp:revision>
  <dc:subject/>
  <dc:title>EENR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1144767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