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2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57B3A6A-9FD7-4B53-A1D4-4A169C27BA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E381E10-826B-4285-BA64-EDA669A95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3465095-FD00-46DF-AE76-0F73F52D3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D1FBB2D-0A1B-4590-863C-C7E86091B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302BCAA-1FD7-4333-8394-BD8C4DE32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9B51A8A-A0B4-4D7E-9E64-C92986AD6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1655BD4-E9F9-4605-A4D0-058AA4466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C9E163F-BA8E-4836-A48A-E3645AA02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26C448D-69C2-421B-A146-258399DDA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D21331E-129D-43C0-8E13-21E207421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5C29EDD-E749-4E97-A413-8C6E1693A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FD265A0-B95F-4893-B971-D40F027E4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F2D5603-C79C-4085-BA1A-2493C4C85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0605760-13F0-4D50-80D0-61D996B8A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CB76DBC-B4A8-4096-BCDC-1B4397141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B3137B2-E678-487A-96F4-57B9343C3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4230EE5-4736-4C94-9B58-2C6B4D3B3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4FC6-89B2-4E43-AC8C-B5C712EEE6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118B-F7D3-4FBE-9BFA-13B02BBC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CDEB0-85C4-41F1-8B4F-488FA591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EA033-54F1-4ACD-8BFB-F67994BDA9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CACBC-7120-4946-A9A6-9DC156EC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F1DDA-CE28-40A8-B6A6-6107FB56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A287D-2A42-422D-BEB5-AE081E55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2E69C-21F8-4916-9672-E874CE96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2100A-A7B8-47CC-90C6-4264B342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81328-557E-4D8D-8BB5-9283A6A5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C8F95-990E-4020-94D9-7DAF76D8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F61C1-A74B-4642-8FFF-91C0115D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2E513-7AB2-4CE5-850E-B50BFA56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D1C0B-7D02-4106-8119-B42BAC55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7B06D-26B8-4569-80AB-F5A59165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749E1-23BC-43EC-93B8-77D4C559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E4133-B00F-4CD1-994C-4E101E11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8B86-D469-4A65-BF2E-55A6B67259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20FA-019A-4955-ABCE-A4EF5B91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439F-2031-458A-A0C0-76E3751C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E762-CD29-4364-9CBA-EC697D02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79D9-A247-48ED-9F9D-1E139381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495C-CFC3-483C-9CC2-C57293DE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3DFA-3AEC-469F-B5A8-2D3223BD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EB3C-01C1-4026-8B57-5F4770F2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4C8D-4B5F-4173-88BB-231EA998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4932-DA9F-459F-9F56-3C3487D6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BED2-4058-4D44-BBB7-3901ED25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C9D0-61DA-4300-8DC0-C69481CF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BA6C-043F-41C3-BC89-7539D6CFC8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A6E6B-C514-4AD6-8644-7D26453A03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58362-E0EF-4160-921E-E0C9021C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9AE01-0981-4041-898C-EDB11CFA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0BEA-3C5F-48EC-9B05-91DEE68E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879CF4-0027-4E29-ABE9-A783A514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B54D9-9ED5-451C-B4CD-FEAB5B40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EEE0F-0733-4AE2-8A17-15EED7C4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3C052-79BB-48AE-8197-D50B23F3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62B9A-CAD6-4AFC-8B0C-497FE761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C8206-498C-40AA-8F80-81CF6D89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AD966A-1FA3-43D1-AE3A-BAE6E1FB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3D9F9-B0B3-425F-B8C4-CA679ADB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BE8D8-1CD3-448F-A24E-F5BD25709C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E37E-A301-4E60-AC0D-CF593A39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D4D9-ABA1-40BB-B831-49CFCD74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31ED-CCD0-485F-889C-EDAB4ADB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22CB-9118-4452-AC6E-1FD011CE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9F09-1A00-418E-979E-FC50F4D1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7BB3-8E23-4809-833E-F008A226AFA7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D91E-CEE6-40D4-BE36-3E90F84623DA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1"/>
          <p:cNvSpPr/>
          <p:nvPr/>
        </p:nvSpPr>
        <p:spPr>
          <a:xfrm>
            <a:off x="2120760" y="6381720"/>
            <a:ext cx="50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eting of the Expert Committe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Evaluation of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1"/>
          <p:cNvSpPr/>
          <p:nvPr/>
        </p:nvSpPr>
        <p:spPr>
          <a:xfrm>
            <a:off x="2120760" y="6381720"/>
            <a:ext cx="50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eting of the Expert Committe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Evaluation of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A56E-3676-4D64-8659-0E01D3ADEDCE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9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5840" y="1714320"/>
            <a:ext cx="8501040" cy="35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SYNTHESIS OF THE ANNUAL PROGRESS REPORTS FOR 2008</a:t>
            </a:r>
            <a:br>
              <a:rPr sz="3200"/>
            </a:b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CONCERNING ONGOING EVALUATION</a:t>
            </a:r>
            <a:br>
              <a:rPr sz="3200"/>
            </a:br>
            <a:br>
              <a:rPr sz="3200"/>
            </a:b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Hannes Wimmer &amp; Margot Van Soetendael</a:t>
            </a:r>
            <a:endParaRPr b="1" lang="en-US" sz="2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928800" y="4714920"/>
            <a:ext cx="74595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4. Systems for data collection and management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AA74-BA08-43A1-A486-3565BEA8E489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ystems for data coll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tail and describe responsi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ain data sources &amp; typ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verview 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ata ga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ctivities to overcome data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arrang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n to provide evaluators with necessary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6629400" y="1523880"/>
            <a:ext cx="2416320" cy="2590920"/>
          </a:xfrm>
          <a:prstGeom prst="wedgeRoundRectCallout">
            <a:avLst>
              <a:gd name="adj1" fmla="val -77333"/>
              <a:gd name="adj2" fmla="val 1825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g. include a diagram or description of the architecture of the system for data management; information flow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5. Networking activities of people involved in evaluation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Networking activit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gradually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  focus groups organized by Evaluation Helpdesk;  Helpdesk missions and visits to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w APRs (17) report on evaluation-related workshops at national or internatio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w networking activities are reported for MS with regional programmes and in New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apacity build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slowly taking up but remains mo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7549-17BD-4044-A9ED-C2681DDB0362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5. Networking activities of people involved in evaluation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0F4A-3807-4367-A2DC-01150E488E2B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verview on particip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relevant networking activi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the details of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urpose, outcome and follow-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networking events, workshops and seminar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references on further docu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networking event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apacity build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629400" y="1600200"/>
            <a:ext cx="2416320" cy="1185840"/>
          </a:xfrm>
          <a:prstGeom prst="wedgeRoundRectCallout">
            <a:avLst>
              <a:gd name="adj1" fmla="val -106356"/>
              <a:gd name="adj2" fmla="val 4746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t local, regional, national and EU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6651720" y="3000240"/>
            <a:ext cx="2415960" cy="1643040"/>
          </a:xfrm>
          <a:prstGeom prst="wedgeRoundRectCallout">
            <a:avLst>
              <a:gd name="adj1" fmla="val -97300"/>
              <a:gd name="adj2" fmla="val 1209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ho are the initiators,  the participants? What are the lessons learne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6651720" y="4815000"/>
            <a:ext cx="2415960" cy="685800"/>
          </a:xfrm>
          <a:prstGeom prst="wedgeRoundRectCallout">
            <a:avLst>
              <a:gd name="adj1" fmla="val -83509"/>
              <a:gd name="adj2" fmla="val -16435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.g. publications, internet-link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6. Difficulties encountered and need for additional work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ifficulties encountered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ut also more practical in nature,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IT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 in dealing with simultaneous evaluation tasks, (e.g. ex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evaluation 2000-2006 and the preparation of MTE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practical application of the overall CM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fulfilling the requirements of the monitoring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33FF-E259-4A5A-BC50-C8C3568C0BB4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6. Difficulties encountered and need for additional work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9806-3FE4-4DC4-ACA5-7D24AD37B5DE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ost relevant difficul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perienced in fulfilling ongoing evaluation  activi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lanned and realized solu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for overcoming these difficul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ifferenti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difficulties to be resolved at programme, Member State or EU level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6629400" y="1600200"/>
            <a:ext cx="2416320" cy="1371600"/>
          </a:xfrm>
          <a:prstGeom prst="wedgeRoundRectCallout">
            <a:avLst>
              <a:gd name="adj1" fmla="val -91587"/>
              <a:gd name="adj2" fmla="val 5266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ive  references to previous chapters where problems are repor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6651720" y="3809880"/>
            <a:ext cx="2415960" cy="1371600"/>
          </a:xfrm>
          <a:prstGeom prst="wedgeRoundRectCallout">
            <a:avLst>
              <a:gd name="adj1" fmla="val -80814"/>
              <a:gd name="adj2" fmla="val -25925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scribe the solutions adopted, the involved actors, the lessons lear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57520" y="2214720"/>
            <a:ext cx="37861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....see Annex 1 </a:t>
            </a:r>
            <a:r>
              <a:rPr b="1" lang="en-GB" sz="1800" spc="-1" strike="noStrike" u="sng">
                <a:solidFill>
                  <a:srgbClr val="006463"/>
                </a:solidFill>
                <a:uFillTx/>
                <a:latin typeface="Arial"/>
              </a:rPr>
              <a:t>Explanatory note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, providing clarifications to the MAs for preparing the section on ongoing evaluation in APRs (complementing Guidance Note B of the Handbook on CMEF) </a:t>
            </a:r>
            <a:br>
              <a:rPr sz="2800"/>
            </a:br>
            <a:endParaRPr b="1" lang="en-US" sz="18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1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2044-777C-485B-92F8-DBEE321E2BE9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umsplatzhalter 4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42960" y="785880"/>
            <a:ext cx="4643280" cy="5506920"/>
          </a:xfrm>
          <a:prstGeom prst="rect">
            <a:avLst/>
          </a:prstGeom>
          <a:ln w="0">
            <a:noFill/>
          </a:ln>
        </p:spPr>
      </p:pic>
      <p:sp>
        <p:nvSpPr>
          <p:cNvPr id="254" name="Titel 1"/>
          <p:cNvSpPr/>
          <p:nvPr/>
        </p:nvSpPr>
        <p:spPr>
          <a:xfrm>
            <a:off x="468360" y="71280"/>
            <a:ext cx="6335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For APR 2009 pleas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7640" y="2637000"/>
            <a:ext cx="6336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6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6E5E-2DE5-4D14-8189-5304595D4E08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F0EE-70AE-4DAD-9D44-7D3B3BB38044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68360" y="14130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</a:rPr>
              <a:t>The Guidance Note B - Evaluation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rcRect l="27572" t="7346" r="11615" b="48359"/>
          <a:stretch/>
        </p:blipFill>
        <p:spPr>
          <a:xfrm>
            <a:off x="457200" y="2060640"/>
            <a:ext cx="5562720" cy="3892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81" name="Oval 5"/>
          <p:cNvSpPr/>
          <p:nvPr/>
        </p:nvSpPr>
        <p:spPr>
          <a:xfrm>
            <a:off x="811080" y="2149560"/>
            <a:ext cx="865440" cy="2887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 and Focus of AP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6172200" y="1933560"/>
            <a:ext cx="2825640" cy="1424160"/>
          </a:xfrm>
          <a:prstGeom prst="wedgeRoundRectCallout">
            <a:avLst>
              <a:gd name="adj1" fmla="val -97402"/>
              <a:gd name="adj2" fmla="val 6244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PR 2007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main focus on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valuation system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in the national/regional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6172200" y="3814920"/>
            <a:ext cx="2825640" cy="2433600"/>
          </a:xfrm>
          <a:prstGeom prst="wedgeRoundRectCallout">
            <a:avLst>
              <a:gd name="adj1" fmla="val -99495"/>
              <a:gd name="adj2" fmla="val -39041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PR 2008+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main focus on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valuation activities undertaken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(incl. capacity building and methodological work), data collection, and difficulties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533520" y="3429000"/>
            <a:ext cx="426708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533520" y="3886200"/>
            <a:ext cx="4267080" cy="1523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I. The Ongoing Evaluation Sections in APRs - overview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7652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Overall the sections on ongoing evaluation in the APRS for 2008 vary in their degree of completeness &amp; coverage of indicative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366C-8970-4714-A541-241C80926DA1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rcRect l="0" t="5655" r="0" b="0"/>
          <a:stretch/>
        </p:blipFill>
        <p:spPr>
          <a:xfrm>
            <a:off x="790560" y="2357280"/>
            <a:ext cx="7281720" cy="37371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102"/>
          <p:cNvSpPr/>
          <p:nvPr/>
        </p:nvSpPr>
        <p:spPr>
          <a:xfrm>
            <a:off x="285840" y="3067200"/>
            <a:ext cx="50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r>
              <a:rPr b="0" lang="en-GB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r>
              <a:rPr b="0" lang="en-GB" sz="3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r>
              <a:rPr b="0" lang="en-GB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1. The Ongoing Evaluation Sections in APRs - overview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9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290E-F75A-48F5-8D8E-87C67B108414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evaluation section of the APR as a tool to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emonstrate prog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ongoing evalu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in sufficient detail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ll (!) 5 topics indicated in Guidance </a:t>
            </a:r>
            <a:r>
              <a:rPr b="1" lang="pl-PL" sz="2000" spc="-1" strike="noStrike">
                <a:solidFill>
                  <a:srgbClr val="99cc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te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CMEF Hand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077"/>
          <p:cNvSpPr/>
          <p:nvPr/>
        </p:nvSpPr>
        <p:spPr>
          <a:xfrm>
            <a:off x="6629400" y="1143000"/>
            <a:ext cx="2416320" cy="1600200"/>
          </a:xfrm>
          <a:prstGeom prst="wedgeRoundRectCallout">
            <a:avLst>
              <a:gd name="adj1" fmla="val -78777"/>
              <a:gd name="adj2" fmla="val 71430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Use cross-references if information is provided in previous reports or se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078"/>
          <p:cNvSpPr/>
          <p:nvPr/>
        </p:nvSpPr>
        <p:spPr>
          <a:xfrm>
            <a:off x="6629400" y="3200400"/>
            <a:ext cx="2416320" cy="2895480"/>
          </a:xfrm>
          <a:prstGeom prst="wedgeRoundRectCallout">
            <a:avLst>
              <a:gd name="adj1" fmla="val -89550"/>
              <a:gd name="adj2" fmla="val 6578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ay particular attention to the coverage of the topics ‘evaluation activities’, ‘networking activities’ and ‘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difficultie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encountered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2. The system established to ensure ongoing evaluation 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214280"/>
            <a:ext cx="853452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 describ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stablishment of evalu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e approval of many RD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% of APR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ill cover description of evalu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admin.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reparations for tende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 APRs mention selection procedure for external evalu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outsourcing models for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Steering Group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becoming oper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 SGs mentioned in 2008 (14 in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: input for ToRs; selection of evaluator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6193-DE49-40A3-B05C-E08CB471D991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2. The system established to ensure ongoing evaluation 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6C5C-A6B2-4F5C-BF03-51A86C71BB29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comprehensively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aluation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evaluation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dministrative arrang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n for hiring (MTE) evalu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information on coordin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evaluation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082"/>
          <p:cNvSpPr/>
          <p:nvPr/>
        </p:nvSpPr>
        <p:spPr>
          <a:xfrm>
            <a:off x="6629400" y="1143000"/>
            <a:ext cx="2416320" cy="857160"/>
          </a:xfrm>
          <a:prstGeom prst="wedgeRoundRectCallout">
            <a:avLst>
              <a:gd name="adj1" fmla="val -104944"/>
              <a:gd name="adj2" fmla="val 12890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ho does what, how and wh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084"/>
          <p:cNvSpPr/>
          <p:nvPr/>
        </p:nvSpPr>
        <p:spPr>
          <a:xfrm>
            <a:off x="6651720" y="2357280"/>
            <a:ext cx="2415960" cy="2500560"/>
          </a:xfrm>
          <a:prstGeom prst="wedgeRoundRectCallout">
            <a:avLst>
              <a:gd name="adj1" fmla="val -76018"/>
              <a:gd name="adj2" fmla="val 483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oR preparation, type of tender, start and closure dates, activities outsourced, information on contracted companies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085"/>
          <p:cNvSpPr/>
          <p:nvPr/>
        </p:nvSpPr>
        <p:spPr>
          <a:xfrm>
            <a:off x="6629400" y="4952880"/>
            <a:ext cx="2416320" cy="1219320"/>
          </a:xfrm>
          <a:prstGeom prst="wedgeRoundRectCallout">
            <a:avLst>
              <a:gd name="adj1" fmla="val -75296"/>
              <a:gd name="adj2" fmla="val -5494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Interaction mechanisms with evaluators, Steering Group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3. Ongoing evaluation activitie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70028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overage of ongoing evalu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 of APRs report on the review of result/impact indic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% mention the review of intervention lo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% describe actions to review evaluation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in developing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valuatio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 APRs mention work on evaluation methodologies an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lessons from ex-post &amp; ex-an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follow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Thematic stud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ncreasingly used (21 AP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7157-3DC9-4578-8E29-6553B1F20C86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3. Ongoing evaluation activitie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aluation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relation to your evalua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n overview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reparatory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the M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lin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pecific evaluation methodologi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 to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follow-up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lessons from ex post 2000-06 and ex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6629400" y="1643040"/>
            <a:ext cx="2416320" cy="1828800"/>
          </a:xfrm>
          <a:prstGeom prst="wedgeRoundRectCallout">
            <a:avLst>
              <a:gd name="adj1" fmla="val -101601"/>
              <a:gd name="adj2" fmla="val 3216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g. reviews of intervention logic, result and impact indicators, and evaluation ques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2"/>
          <p:cNvSpPr/>
          <p:nvPr/>
        </p:nvSpPr>
        <p:spPr>
          <a:xfrm>
            <a:off x="6629400" y="4143240"/>
            <a:ext cx="2416320" cy="1785960"/>
          </a:xfrm>
          <a:prstGeom prst="wedgeRoundRectCallout">
            <a:avLst>
              <a:gd name="adj1" fmla="val -115986"/>
              <a:gd name="adj2" fmla="val -14083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ecify themes or outcomes of outsourced studies, surveys, case studie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4. Systems for data collection and management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70028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ata collecti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tracts major attention of A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organisational model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dat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Main data gaps</a:t>
            </a: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ate to indicators for environmental measures, GVA-related and non-agricultural activ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Processi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unharmonized data as challe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tivities to improv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ata quality &amp; overcome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9351-8AB7-4BDD-B9E6-D732F0FD640F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Hannes Wimmer</cp:lastModifiedBy>
  <cp:lastPrinted>2008-05-30T14:18:28Z</cp:lastPrinted>
  <dcterms:modified xsi:type="dcterms:W3CDTF">2010-03-15T10:49:27Z</dcterms:modified>
  <cp:revision>370</cp:revision>
  <dc:subject/>
  <dc:title>EENRD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51144767</vt:r8>
  </property>
  <property fmtid="{D5CDD505-2E9C-101B-9397-08002B2CF9AE}" pid="3" name="_AuthorEmail">
    <vt:lpwstr>s.lafiandra@politicheagricole.gov.it</vt:lpwstr>
  </property>
  <property fmtid="{D5CDD505-2E9C-101B-9397-08002B2CF9AE}" pid="4" name="_AuthorEmailDisplayName">
    <vt:lpwstr>Lafiandra Stefano</vt:lpwstr>
  </property>
  <property fmtid="{D5CDD505-2E9C-101B-9397-08002B2CF9AE}" pid="5" name="_EmailSubject">
    <vt:lpwstr>Slides incontro RRE_evaluation group del 15/03/2010</vt:lpwstr>
  </property>
</Properties>
</file>