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5896E8-C739-4AA8-8735-30B960017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717D0E1-354E-40A2-95DB-0D1C2F930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B8C9AB5-0928-4C29-827B-A5A9AF8D9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F73B684-2B67-4154-BF32-2FA9B9CD5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5C510EA-6304-4B21-932D-D958FA704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16C460B-E34A-4573-B89D-C7EE6B858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83DE55F-C64B-4C9B-9D71-DE039D838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E20CB6-A3BB-418E-A319-17CCB1560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B8EA78D-05B9-4B9B-9762-D34D0A08C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3AEB6B9-8D28-486F-B543-6C69F16F1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9381C25-1051-41FD-94AF-34F44E8D3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204DBC7-B4A1-4F66-806C-90F4AE64A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A9087CB-9BAE-4B5E-8887-45477CB53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A5F7FCF-E90A-455A-A120-110D42228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BE07F7C-4A9D-42D7-AF94-4344BB91B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B3312C0-CA5D-462F-873E-CC308905C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9D0A8F3-A876-42DD-B433-0A7647B09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393C-09F5-4CF9-9288-BC150D9731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4DAB-35B1-4C8B-AEA5-8C32249B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2CE2-7FE4-4B99-868D-CE9DD622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CAAF-A109-4220-BEA9-A83EE77DA2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51182-28CE-4B61-AC10-E62288E8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5BBF8-B477-4604-A74D-B722691F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8C21D-B2E0-4D83-95DF-722A4D3C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3F31A-DD4D-4A5E-B269-FA3059CC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F0096-8BA7-42A6-8C22-0DF13717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670E1-5888-4076-9F9B-30D502D6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C2B94-7D65-4E05-883B-7CC15F84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3DF6-C371-42B9-8A43-068A85DC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0F460-6CD0-47FC-816B-8793FCCE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08196-56A2-4B4C-AF21-AD5A79DA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E3D30-FE72-48BE-AF36-50D31A1D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3525C-EF18-47FA-8E12-0419096C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62B2D-851D-4217-B140-6F6D8194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4D89-193B-4301-9660-B4CD85967C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B7A9-8FC3-4A9B-B80D-4AF07134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18A5-F55B-41DE-BAB7-D5E47BD7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B5AE-1AEA-4BE0-8D8A-BFAE69B1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C798-91C1-4CF1-BDC4-8FA180A5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5195-A7C8-4FB9-B61A-CB523B47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2218-87AF-4621-9BE4-064C70CD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47E5-0E47-4086-BADA-3F6FE070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1BEF-02A5-402E-A7B3-3C51F35E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F970-1BBE-49D9-8439-9CE2B339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F517-4BD0-4C6A-BE58-FD71FD9B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9C3C-E05A-410D-AC53-354DDB18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AA35-CA45-4712-A098-3CC1191EA0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128FC-5E7C-4815-B55E-5ABCE5C47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6CC23-AE00-4C0E-BBCC-D09F7A1A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68D36-F5BE-4A76-B20E-3124A360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054A-2A41-4EB8-8E3E-675424B7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2D4CD-015A-41DC-9F2B-5C9B776C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A86A1-7AE1-4DEB-B05F-489BBDC8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23A45-0DDE-4A6A-A729-BE2CC0E1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DAC4F-587C-402A-A500-A9CDD848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00B33-C001-4272-ACCC-380E777D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CDBC2-2996-4DE4-9871-785F6C09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4369F-4308-468E-ACED-54032FE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5F29C-7C15-4C41-8F5C-A20C4EDC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6BFCC-D142-4B00-984C-155296D9CF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19C1-0733-4371-BD1B-B3574C83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8027-2659-4966-8DF4-B7A9B6AB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1A42-6225-4C2C-A21C-DE116377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DE37-55F1-4148-9C5D-7A846A22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2D67-0892-40E3-B9B9-40F2F1FD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EB50-9A4A-42D4-8EC6-6C5F4D200C97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3E45-0617-4C44-A086-ADF0DA9580EC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948D-99DA-4523-BBAF-4CE1AA6244CB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9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50104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8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Hannes Wimmer &amp; Margot Van Soetendael</a:t>
            </a:r>
            <a:endParaRPr b="1" lang="en-US" sz="2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4714920"/>
            <a:ext cx="74595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FB9C-BB24-4870-A630-DA17CEEBFCD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ystems for data 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tail and describe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ain data sources &amp;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ata ga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ctivities to overcome data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to provide evaluators with necessary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629400" y="1523880"/>
            <a:ext cx="2416320" cy="2590920"/>
          </a:xfrm>
          <a:prstGeom prst="wedgeRoundRectCallout">
            <a:avLst>
              <a:gd name="adj1" fmla="val -77333"/>
              <a:gd name="adj2" fmla="val 1825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include a diagram or description of the architecture of the system for data management; information flow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etworking activit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gradually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focus groups organized by Evaluation Helpdesk;  Helpdesk missions and visit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APRs (17) report on evaluation-related workshops at national or inter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networking activities are reported for MS with regional programmes and in New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lowly taking up but remains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F70B-4471-4C58-A766-B32A9F9D45A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0F62-41E7-49DD-B4FC-B4EBD38A4FE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 particip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evant networking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details of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urpose, outcome and follow-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, workshops and seminar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ferences on further docu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629400" y="1600200"/>
            <a:ext cx="2416320" cy="1185840"/>
          </a:xfrm>
          <a:prstGeom prst="wedgeRoundRectCallout">
            <a:avLst>
              <a:gd name="adj1" fmla="val -106356"/>
              <a:gd name="adj2" fmla="val 4746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t local, regional, national and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651720" y="3000240"/>
            <a:ext cx="2415960" cy="1643040"/>
          </a:xfrm>
          <a:prstGeom prst="wedgeRoundRectCallout">
            <a:avLst>
              <a:gd name="adj1" fmla="val -97300"/>
              <a:gd name="adj2" fmla="val 1209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are the initiators,  the participants? What are the lessons learn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651720" y="4815000"/>
            <a:ext cx="2415960" cy="685800"/>
          </a:xfrm>
          <a:prstGeom prst="wedgeRoundRectCallout">
            <a:avLst>
              <a:gd name="adj1" fmla="val -83509"/>
              <a:gd name="adj2" fmla="val -1643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.g. publications, internet-link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fficulties encountered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more practical in natur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in dealing with simultaneous evaluation tasks, (e.g.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valuation 2000-2006 and the preparation of MTE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practical application of the overall C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fulfilling the requirements of the monitor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49A2-4C4F-4CD4-A96B-08A0A40ACCC0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B95E-8052-4621-8D6E-35BA1C4A351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ost relevant difficul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erienced in fulfilling ongoing evaluation 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lanned and realized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overcoming these difficul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ifferenti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ifficulties to be resolved at programme, Member State or EU leve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629400" y="1600200"/>
            <a:ext cx="2416320" cy="1371600"/>
          </a:xfrm>
          <a:prstGeom prst="wedgeRoundRectCallout">
            <a:avLst>
              <a:gd name="adj1" fmla="val -91587"/>
              <a:gd name="adj2" fmla="val 526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  references to previous chapters where problems ar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651720" y="3809880"/>
            <a:ext cx="2415960" cy="1371600"/>
          </a:xfrm>
          <a:prstGeom prst="wedgeRoundRectCallout">
            <a:avLst>
              <a:gd name="adj1" fmla="val -80814"/>
              <a:gd name="adj2" fmla="val -2592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scribe the solutions adopted, the involved actors, the lessons lear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57520" y="2214720"/>
            <a:ext cx="3786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....see Annex 1 </a:t>
            </a:r>
            <a:r>
              <a:rPr b="1" lang="en-GB" sz="1800" spc="-1" strike="noStrike" u="sng">
                <a:solidFill>
                  <a:srgbClr val="006463"/>
                </a:solidFill>
                <a:uFillTx/>
                <a:latin typeface="Arial"/>
              </a:rPr>
              <a:t>Explanatory note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, providing clarifications to the MAs for preparing the section on ongoing evaluation in APRs (complementing Guidance Note B of the Handbook on CMEF) </a:t>
            </a:r>
            <a:br>
              <a:rPr sz="2800"/>
            </a:br>
            <a:endParaRPr b="1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E173-3198-4335-BC16-3C133E1EBD0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umsplatzhalter 4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4643280" cy="5506920"/>
          </a:xfrm>
          <a:prstGeom prst="rect">
            <a:avLst/>
          </a:prstGeom>
          <a:ln w="0">
            <a:noFill/>
          </a:ln>
        </p:spPr>
      </p:pic>
      <p:sp>
        <p:nvSpPr>
          <p:cNvPr id="254" name="Titel 1"/>
          <p:cNvSpPr/>
          <p:nvPr/>
        </p:nvSpPr>
        <p:spPr>
          <a:xfrm>
            <a:off x="468360" y="71280"/>
            <a:ext cx="633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For APR 2009 ple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336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34C2-76B2-4EDF-BE44-F8D5487CFCF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706B-5372-4696-9196-031E5A4DF43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</a:rPr>
              <a:t>The Guidance Note B - Evaluatio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7572" t="7346" r="11615" b="48359"/>
          <a:stretch/>
        </p:blipFill>
        <p:spPr>
          <a:xfrm>
            <a:off x="457200" y="2060640"/>
            <a:ext cx="5562720" cy="38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1" name="Oval 5"/>
          <p:cNvSpPr/>
          <p:nvPr/>
        </p:nvSpPr>
        <p:spPr>
          <a:xfrm>
            <a:off x="811080" y="2149560"/>
            <a:ext cx="865440" cy="288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 and Focus of AP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172200" y="1933560"/>
            <a:ext cx="2825640" cy="1424160"/>
          </a:xfrm>
          <a:prstGeom prst="wedgeRoundRectCallout">
            <a:avLst>
              <a:gd name="adj1" fmla="val -97402"/>
              <a:gd name="adj2" fmla="val 624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7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the national/reg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172200" y="3814920"/>
            <a:ext cx="2825640" cy="2433600"/>
          </a:xfrm>
          <a:prstGeom prst="wedgeRoundRectCallout">
            <a:avLst>
              <a:gd name="adj1" fmla="val -99495"/>
              <a:gd name="adj2" fmla="val -39041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8+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activities undertake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incl. capacity building and methodological work), data collection, and difficulties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33520" y="3429000"/>
            <a:ext cx="42670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33520" y="3886200"/>
            <a:ext cx="4267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I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52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verall the sections on ongoing evaluation in the APRS for 2008 vary in their degree of completeness &amp; coverage of indicativ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917F-85E2-4601-8B42-9C93FC81826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5655" r="0" b="0"/>
          <a:stretch/>
        </p:blipFill>
        <p:spPr>
          <a:xfrm>
            <a:off x="790560" y="2357280"/>
            <a:ext cx="7281720" cy="373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02"/>
          <p:cNvSpPr/>
          <p:nvPr/>
        </p:nvSpPr>
        <p:spPr>
          <a:xfrm>
            <a:off x="285840" y="306720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1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CDAA-F3BC-4925-AC9B-2BBFC12BE60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evaluation section of the APR as a tool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monstrate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going eval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in sufficient detail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ll (!) 5 topics indicated in Guidance </a:t>
            </a:r>
            <a:r>
              <a:rPr b="1" lang="pl-PL" sz="20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te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EF Hand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77"/>
          <p:cNvSpPr/>
          <p:nvPr/>
        </p:nvSpPr>
        <p:spPr>
          <a:xfrm>
            <a:off x="6629400" y="1143000"/>
            <a:ext cx="2416320" cy="1600200"/>
          </a:xfrm>
          <a:prstGeom prst="wedgeRoundRectCallout">
            <a:avLst>
              <a:gd name="adj1" fmla="val -78777"/>
              <a:gd name="adj2" fmla="val 71430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e cross-references if information is provided in previous reports or se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78"/>
          <p:cNvSpPr/>
          <p:nvPr/>
        </p:nvSpPr>
        <p:spPr>
          <a:xfrm>
            <a:off x="6629400" y="3200400"/>
            <a:ext cx="2416320" cy="2895480"/>
          </a:xfrm>
          <a:prstGeom prst="wedgeRoundRectCallout">
            <a:avLst>
              <a:gd name="adj1" fmla="val -89550"/>
              <a:gd name="adj2" fmla="val 6578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y particular attention to the coverage of the topics ‘evaluation activities’, ‘networking activities’ and ‘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difficulti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encounter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214280"/>
            <a:ext cx="8534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describ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stablishment of evalu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approval of many RD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AP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cover description of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dmin.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eparations for tende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APRs mention selection procedure for external eval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outsourcing models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teering Grou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becoming 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SGs mentioned in 2008 (14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: input for ToRs; selection of evaluat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6D02-96E4-4AD8-A4CB-966E15B21E5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FF55-C6F1-41EC-8902-3E750260264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comprehensively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valuatio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dministrative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for hiring (MTE) evalu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formation on coord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evalu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82"/>
          <p:cNvSpPr/>
          <p:nvPr/>
        </p:nvSpPr>
        <p:spPr>
          <a:xfrm>
            <a:off x="6629400" y="1143000"/>
            <a:ext cx="2416320" cy="857160"/>
          </a:xfrm>
          <a:prstGeom prst="wedgeRoundRectCallout">
            <a:avLst>
              <a:gd name="adj1" fmla="val -104944"/>
              <a:gd name="adj2" fmla="val 12890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does what, how and 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84"/>
          <p:cNvSpPr/>
          <p:nvPr/>
        </p:nvSpPr>
        <p:spPr>
          <a:xfrm>
            <a:off x="6651720" y="2357280"/>
            <a:ext cx="2415960" cy="2500560"/>
          </a:xfrm>
          <a:prstGeom prst="wedgeRoundRectCallout">
            <a:avLst>
              <a:gd name="adj1" fmla="val -76018"/>
              <a:gd name="adj2" fmla="val 483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R preparation, type of tender, start and closure dates, activities outsourced, information on contracted companies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85"/>
          <p:cNvSpPr/>
          <p:nvPr/>
        </p:nvSpPr>
        <p:spPr>
          <a:xfrm>
            <a:off x="6629400" y="4952880"/>
            <a:ext cx="2416320" cy="1219320"/>
          </a:xfrm>
          <a:prstGeom prst="wedgeRoundRectCallout">
            <a:avLst>
              <a:gd name="adj1" fmla="val -75296"/>
              <a:gd name="adj2" fmla="val -549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eraction mechanisms with evaluators, Steering Grou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verage of ongoing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 of APRs report on the review of result/impact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mention the review of intervention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 describe actions to review evaluat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in developing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alu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 APRs mention work on evaluation methodolo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sons from ex-post &amp; ex-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ollow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matic stud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creasingly used (21 A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7B21-9003-47E4-88AC-07396F99BD3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ation to your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n overview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eparator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pecific evaluation methodolog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ollow-up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lessons from ex post 2000-06 and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6629400" y="1643040"/>
            <a:ext cx="2416320" cy="1828800"/>
          </a:xfrm>
          <a:prstGeom prst="wedgeRoundRectCallout">
            <a:avLst>
              <a:gd name="adj1" fmla="val -101601"/>
              <a:gd name="adj2" fmla="val 321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reviews of intervention logic, result and impact indicators, and evaluation ques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6629400" y="4143240"/>
            <a:ext cx="2416320" cy="1785960"/>
          </a:xfrm>
          <a:prstGeom prst="wedgeRoundRectCallout">
            <a:avLst>
              <a:gd name="adj1" fmla="val -115986"/>
              <a:gd name="adj2" fmla="val -14083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ecify themes or outcomes of outsourced studies, surveys, case stud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collecti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racts major attention of A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organisational model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Main data gaps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to indicators for environmental measures, GVA-related and non-agricultural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cess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unharmonized data as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to improv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quality &amp; overcom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FE92-4C16-44EA-8DDE-9F440A9D2DE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Hannes Wimmer</cp:lastModifiedBy>
  <cp:lastPrinted>2008-05-30T14:18:28Z</cp:lastPrinted>
  <dcterms:modified xsi:type="dcterms:W3CDTF">2010-03-15T10:49:27Z</dcterms:modified>
  <cp:revision>370</cp:revision>
  <dc:subject/>
  <dc:title>EEN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144767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