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0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2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109057F-D120-4C90-90D6-108C6DA119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3F0AB1C-6998-4543-BFC8-1EE0FE2F6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5B11D54-4202-48BA-BB2F-59C941B68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06E86FF-03A1-46B7-AA2E-65F58B71B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36E0F2A-6A1B-40FC-9A81-B9F886B8E2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D32CDF0-9E3C-4B23-9F3F-76F982ED6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CD96E25-9003-4287-86FB-39EA4F336A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608751D-EF50-4EE8-874C-3CA6C3840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CB74BF3-AB53-415E-B33C-6F17712253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88E019B-78B8-4C63-9707-61ACD3B2D8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BCF3018-51EA-4957-AAFA-AA776C768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40DFF31-2244-434E-A1C1-A356302CC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71CF7B6-B057-4189-BDC2-881E06184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0BA4348-FAE3-4642-BD2E-0D1A6CBF14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DD9BA3A-BB23-48BF-A595-95A48FA4A4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371D6B5-C790-4223-9214-1B221EFAC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8EA6399-3464-4346-86AD-0DB31721DC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A56E3-8328-4446-904D-ACDA9E4962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98FFE-91C7-47F5-9791-7F7CFB95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BDAF6-3BFB-4EF1-8D3E-C2C319C4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53E9D-4381-4F73-9E06-7B37E03EC3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5DFD7-F299-4174-A861-E72C378D4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DFDE2-E965-45E3-8953-D422FE2F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D76B4-66BE-4803-BC75-A4B94739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6ADFD-495C-487B-9FAD-5928F75C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DE76F-ABF0-4435-A6E4-4973EC02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A5CDF-E5E2-4CD4-AD84-6292C42B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E2B84-E5A6-412E-90BA-17EE0A3A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63FF0-18BC-4E6F-A64A-5E06E061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CBFD7-B816-4148-A1B0-40571085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CD244-464F-4E0C-BA26-E7ADF75A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1430F-063F-4E2D-B143-684A4987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C9536-0CA2-4455-962F-CF72C1B7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D6D20-178C-4BB7-A5AE-7777744E8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2B39-65CC-47BA-81C7-3115E2ED2D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EFF8-F2C2-49D5-BF81-B754CD1A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00C6-8DD6-4B8F-8461-87CD8628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F209-CF36-457B-8038-84C55C9B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29DB-1F48-4C2A-A97A-BBC13CE3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0A153-70CB-4564-A987-72A19BFA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60B2-562C-44C2-A308-3A55FCF37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3473-C076-4E4D-B09D-0761FCC8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C61F-38F7-42B3-AE36-CDEE1CC8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F985-A276-41E3-99EF-DE4D7512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F2B9-A3B9-42E4-A4E6-EB4FA191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C685-8E0A-4A63-A701-99464D10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F535-D7A3-4D8D-A311-A961036B15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605E0E-243E-4ECF-BB87-4467050DE5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9F68C1-2996-4812-9BC8-DC8C6BD2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F76A31-6AE2-4E17-97ED-C8780F41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FD23D-C592-46CD-ACF5-32CF5FF9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35AC39-D0EB-4187-B765-A7F305A4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DEAF63-26DF-4F1D-9D36-E89E8E76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95EEDD-AB85-4B19-B059-D3853A90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F3706E-D771-4FC2-9A72-998A5FC8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009B69-FC82-4C0E-B82C-DBD8CFBD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A1F4DA-45C3-47F6-8AC3-BD121CD9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A370CB-278D-4888-929C-46DD7044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D1B3D1-6F64-4E4D-B251-2ACCA58E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E2353A-2AF3-460A-934F-13A37A94CC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24FF7-2D90-4378-9642-B3AC0CFE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890AA-2A3A-4FFC-8CFD-1482FFD1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E8A07-B4B0-4102-B932-0C4E18C2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B10A9-7B6C-48E5-ABD1-FCDD394E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C6FEC-4845-4A01-A0D9-6F6E088D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E755-98F7-4F23-947D-A29801BF5C75}" type="slidenum">
              <a:rPr b="0" lang="fr-B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68360" y="6381360"/>
            <a:ext cx="220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D435-12A5-4FF7-95A5-586DDE98D787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2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9" descr="arbre32"/>
          <p:cNvPicPr/>
          <p:nvPr/>
        </p:nvPicPr>
        <p:blipFill>
          <a:blip r:embed="rId3"/>
          <a:stretch/>
        </p:blipFill>
        <p:spPr>
          <a:xfrm>
            <a:off x="0" y="2724120"/>
            <a:ext cx="5311800" cy="35784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1"/>
          <p:cNvSpPr/>
          <p:nvPr/>
        </p:nvSpPr>
        <p:spPr>
          <a:xfrm>
            <a:off x="2120760" y="6381720"/>
            <a:ext cx="5046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eting of the Expert Committe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n Evaluation of Rura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6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468360" y="6381360"/>
            <a:ext cx="220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1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7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1"/>
          <p:cNvSpPr/>
          <p:nvPr/>
        </p:nvSpPr>
        <p:spPr>
          <a:xfrm>
            <a:off x="2120760" y="6381720"/>
            <a:ext cx="5046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eting of the Expert Committe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n Evaluation of Rura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8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6511-F7F9-4162-A7F6-52E33D59A824}" type="slidenum">
              <a:rPr b="0" lang="fr-B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dt" idx="9"/>
          </p:nvPr>
        </p:nvSpPr>
        <p:spPr>
          <a:xfrm>
            <a:off x="468360" y="6381360"/>
            <a:ext cx="220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5840" y="1714320"/>
            <a:ext cx="8501040" cy="35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SYNTHESIS OF THE ANNUAL PROGRESS REPORTS FOR 2008</a:t>
            </a:r>
            <a:br>
              <a:rPr sz="3200"/>
            </a:b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CONCERNING ONGOING EVALUATION</a:t>
            </a:r>
            <a:br>
              <a:rPr sz="3200"/>
            </a:br>
            <a:br>
              <a:rPr sz="3200"/>
            </a:b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Hannes Wimmer &amp; Margot Van Soetendael</a:t>
            </a:r>
            <a:endParaRPr b="1" lang="en-US" sz="2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928800" y="4714920"/>
            <a:ext cx="745956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4. Systems for data collection and management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A43E-C48C-4E7E-A53F-3ADB8C21ECC3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systems for data colle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tail and describe responsi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main data sources &amp; typ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overview 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data gap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activities to overcome data g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arrange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n to provide evaluators with necessary d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6629400" y="1523880"/>
            <a:ext cx="2416320" cy="2590920"/>
          </a:xfrm>
          <a:prstGeom prst="wedgeRoundRectCallout">
            <a:avLst>
              <a:gd name="adj1" fmla="val -77333"/>
              <a:gd name="adj2" fmla="val 18259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.g. include a diagram or description of the architecture of the system for data management; information flow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5. Networking activities of people involved in evaluation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Networking activiti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gradually 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  focus groups organized by Evaluation Helpdesk;  Helpdesk missions and visits to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w APRs (17) report on evaluation-related workshops at national or internation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w networking activities are reported for MS with regional programmes and in New Membe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Capacity build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slowly taking up but remains mod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9DA2-DCCE-4157-B1E3-13CEFFBF8D6F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5. Networking activities of people involved in evaluation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34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4BC5-34F8-4101-B33D-F35FC83F70F0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overview on particip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relevant networking activitie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the details of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purpose, outcome and follow-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networking events, workshops and seminar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references on further docu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networking event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light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capacity build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6629400" y="1600200"/>
            <a:ext cx="2416320" cy="1185840"/>
          </a:xfrm>
          <a:prstGeom prst="wedgeRoundRectCallout">
            <a:avLst>
              <a:gd name="adj1" fmla="val -106356"/>
              <a:gd name="adj2" fmla="val 47467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t local, regional, national and EU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6651720" y="3000240"/>
            <a:ext cx="2415960" cy="1643040"/>
          </a:xfrm>
          <a:prstGeom prst="wedgeRoundRectCallout">
            <a:avLst>
              <a:gd name="adj1" fmla="val -97300"/>
              <a:gd name="adj2" fmla="val 12097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Who are the initiators,  the participants? What are the lessons learned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6651720" y="4815000"/>
            <a:ext cx="2415960" cy="685800"/>
          </a:xfrm>
          <a:prstGeom prst="wedgeRoundRectCallout">
            <a:avLst>
              <a:gd name="adj1" fmla="val -83509"/>
              <a:gd name="adj2" fmla="val -16435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e.g. publications, internet-link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6. Difficulties encountered and need for additional work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difficulties encountered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ut also more practical in nature, 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ed to IT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s in dealing with simultaneous evaluation tasks, (e.g. ex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 evaluation 2000-2006 and the preparation of MTE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ed to practical application of the overall CM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ed to fulfilling the requirements of the monitoring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62C3-37C4-463F-8AF9-FDA17BE12E3B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6. Difficulties encountered and need for additional work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4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CF9C-7E57-4AD0-9859-B02E81D89F89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most relevant difficul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xperienced in fulfilling ongoing evaluation  activitie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planned and realized solu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for overcoming these difficultie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Differenti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tween difficulties to be resolved at programme, Member State or EU level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6629400" y="1600200"/>
            <a:ext cx="2416320" cy="1371600"/>
          </a:xfrm>
          <a:prstGeom prst="wedgeRoundRectCallout">
            <a:avLst>
              <a:gd name="adj1" fmla="val -91587"/>
              <a:gd name="adj2" fmla="val 52662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ive  references to previous chapters where problems are repor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6651720" y="3809880"/>
            <a:ext cx="2415960" cy="1371600"/>
          </a:xfrm>
          <a:prstGeom prst="wedgeRoundRectCallout">
            <a:avLst>
              <a:gd name="adj1" fmla="val -80814"/>
              <a:gd name="adj2" fmla="val -25925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escribe the solutions adopted, the involved actors, the lessons lear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57520" y="2214720"/>
            <a:ext cx="37861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....see Annex 1 </a:t>
            </a:r>
            <a:r>
              <a:rPr b="1" lang="en-GB" sz="1800" spc="-1" strike="noStrike" u="sng">
                <a:solidFill>
                  <a:srgbClr val="006463"/>
                </a:solidFill>
                <a:uFillTx/>
                <a:latin typeface="Arial"/>
              </a:rPr>
              <a:t>Explanatory note</a:t>
            </a: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, providing clarifications to the MAs for preparing the section on ongoing evaluation in APRs (complementing Guidance Note B of the Handbook on CMEF) </a:t>
            </a:r>
            <a:br>
              <a:rPr sz="2800"/>
            </a:br>
            <a:endParaRPr b="1" lang="en-US" sz="18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51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731D-0CEC-4C34-AFE1-EAE265CC025A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Datumsplatzhalter 4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642960" y="785880"/>
            <a:ext cx="4643280" cy="5506920"/>
          </a:xfrm>
          <a:prstGeom prst="rect">
            <a:avLst/>
          </a:prstGeom>
          <a:ln w="0">
            <a:noFill/>
          </a:ln>
        </p:spPr>
      </p:pic>
      <p:sp>
        <p:nvSpPr>
          <p:cNvPr id="254" name="Titel 1"/>
          <p:cNvSpPr/>
          <p:nvPr/>
        </p:nvSpPr>
        <p:spPr>
          <a:xfrm>
            <a:off x="468360" y="71280"/>
            <a:ext cx="63356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For APR 2009 pleas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47640" y="2637000"/>
            <a:ext cx="6336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Thank you for your attention!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56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A60B-FDF0-456C-938F-54053F2E1F18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0D69-743A-4786-B4E7-840731DAB588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468360" y="141300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</a:rPr>
              <a:t>The Guidance Note B - Evaluation Guid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rcRect l="27572" t="7346" r="11615" b="48359"/>
          <a:stretch/>
        </p:blipFill>
        <p:spPr>
          <a:xfrm>
            <a:off x="457200" y="2060640"/>
            <a:ext cx="5562720" cy="3892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81" name="Oval 5"/>
          <p:cNvSpPr/>
          <p:nvPr/>
        </p:nvSpPr>
        <p:spPr>
          <a:xfrm>
            <a:off x="811080" y="2149560"/>
            <a:ext cx="865440" cy="2887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0" y="0"/>
            <a:ext cx="6500880" cy="123336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 and Focus of AP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6172200" y="1933560"/>
            <a:ext cx="2825640" cy="1424160"/>
          </a:xfrm>
          <a:prstGeom prst="wedgeRoundRectCallout">
            <a:avLst>
              <a:gd name="adj1" fmla="val -97402"/>
              <a:gd name="adj2" fmla="val 62449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PR 2007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: main focus on 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evaluation system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in the national/regional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6172200" y="3814920"/>
            <a:ext cx="2825640" cy="2433600"/>
          </a:xfrm>
          <a:prstGeom prst="wedgeRoundRectCallout">
            <a:avLst>
              <a:gd name="adj1" fmla="val -99495"/>
              <a:gd name="adj2" fmla="val -39041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PR 2008+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: main focus on 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evaluation activities undertaken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(incl. capacity building and methodological work), data collection, and difficulties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0"/>
          <p:cNvSpPr/>
          <p:nvPr/>
        </p:nvSpPr>
        <p:spPr>
          <a:xfrm>
            <a:off x="533520" y="3429000"/>
            <a:ext cx="426708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533520" y="3886200"/>
            <a:ext cx="4267080" cy="1523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I. The Ongoing Evaluation Sections in APRs - overview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7652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Overall the sections on ongoing evaluation in the APRS for 2008 vary in their degree of completeness &amp; coverage of indicative t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492D-D6FF-4A04-8C61-3FAC33BA877B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rcRect l="0" t="5655" r="0" b="0"/>
          <a:stretch/>
        </p:blipFill>
        <p:spPr>
          <a:xfrm>
            <a:off x="790560" y="2357280"/>
            <a:ext cx="7281720" cy="37371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102"/>
          <p:cNvSpPr/>
          <p:nvPr/>
        </p:nvSpPr>
        <p:spPr>
          <a:xfrm>
            <a:off x="285840" y="3067200"/>
            <a:ext cx="500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cc00"/>
                </a:solidFill>
                <a:latin typeface="Wingdings"/>
                <a:ea typeface="Wingdings"/>
              </a:rPr>
              <a:t></a:t>
            </a:r>
            <a:r>
              <a:rPr b="0" lang="en-GB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r>
              <a:rPr b="0" lang="en-GB" sz="3600" spc="-1" strike="noStrike">
                <a:solidFill>
                  <a:srgbClr val="99cc00"/>
                </a:solidFill>
                <a:latin typeface="Wingdings"/>
                <a:ea typeface="Wingdings"/>
              </a:rPr>
              <a:t></a:t>
            </a:r>
            <a:r>
              <a:rPr b="0" lang="en-GB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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1. The Ongoing Evaluation Sections in APRs - overview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9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C62C-1B7D-4D2C-898F-B2D23ABE94FD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the evaluation section of the APR as a tool to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demonstrate progre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ongoing evalu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in sufficient detail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all (!) 5 topics indicated in Guidance </a:t>
            </a:r>
            <a:r>
              <a:rPr b="1" lang="pl-PL" sz="2000" spc="-1" strike="noStrike">
                <a:solidFill>
                  <a:srgbClr val="99cc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ote 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he CMEF Handbo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077"/>
          <p:cNvSpPr/>
          <p:nvPr/>
        </p:nvSpPr>
        <p:spPr>
          <a:xfrm>
            <a:off x="6629400" y="1143000"/>
            <a:ext cx="2416320" cy="1600200"/>
          </a:xfrm>
          <a:prstGeom prst="wedgeRoundRectCallout">
            <a:avLst>
              <a:gd name="adj1" fmla="val -78777"/>
              <a:gd name="adj2" fmla="val 71430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Use cross-references if information is provided in previous reports or se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078"/>
          <p:cNvSpPr/>
          <p:nvPr/>
        </p:nvSpPr>
        <p:spPr>
          <a:xfrm>
            <a:off x="6629400" y="3200400"/>
            <a:ext cx="2416320" cy="2895480"/>
          </a:xfrm>
          <a:prstGeom prst="wedgeRoundRectCallout">
            <a:avLst>
              <a:gd name="adj1" fmla="val -89550"/>
              <a:gd name="adj2" fmla="val 6578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ay particular attention to the coverage of the topics ‘evaluation activities’, ‘networking activities’ and ‘</a:t>
            </a: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difficulties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encountered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2. The system established to ensure ongoing evaluation 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214280"/>
            <a:ext cx="853452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 describe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establishment of evaluat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e approval of many RD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% of APR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ill cover description of evalua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going admin.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preparations for tendering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5 APRs mention selection procedure for external evalu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outsourcing models for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Steering Group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becoming opera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 SGs mentioned in 2008 (14 in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ies: input for ToRs; selection of evaluator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1570-CE85-4362-86EA-4C6C7F88BB01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2. The system established to ensure ongoing evaluation 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0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935A-BABE-4FBD-971F-194B17C64A12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comprehensively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evaluation syst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evaluation p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administrative arrange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n for hiring (MTE) evalua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information on coordin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tween evaluation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082"/>
          <p:cNvSpPr/>
          <p:nvPr/>
        </p:nvSpPr>
        <p:spPr>
          <a:xfrm>
            <a:off x="6629400" y="1143000"/>
            <a:ext cx="2416320" cy="857160"/>
          </a:xfrm>
          <a:prstGeom prst="wedgeRoundRectCallout">
            <a:avLst>
              <a:gd name="adj1" fmla="val -104944"/>
              <a:gd name="adj2" fmla="val 128902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Who does what, how and wh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084"/>
          <p:cNvSpPr/>
          <p:nvPr/>
        </p:nvSpPr>
        <p:spPr>
          <a:xfrm>
            <a:off x="6651720" y="2357280"/>
            <a:ext cx="2415960" cy="2500560"/>
          </a:xfrm>
          <a:prstGeom prst="wedgeRoundRectCallout">
            <a:avLst>
              <a:gd name="adj1" fmla="val -76018"/>
              <a:gd name="adj2" fmla="val 4837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ToR preparation, type of tender, start and closure dates, activities outsourced, information on contracted companies.</a:t>
            </a: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085"/>
          <p:cNvSpPr/>
          <p:nvPr/>
        </p:nvSpPr>
        <p:spPr>
          <a:xfrm>
            <a:off x="6629400" y="4952880"/>
            <a:ext cx="2416320" cy="1219320"/>
          </a:xfrm>
          <a:prstGeom prst="wedgeRoundRectCallout">
            <a:avLst>
              <a:gd name="adj1" fmla="val -75296"/>
              <a:gd name="adj2" fmla="val -54949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Interaction mechanisms with evaluators, Steering Group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3. Ongoing evaluation activities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1700280"/>
            <a:ext cx="8534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coverage of ongoing evaluatio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% of APRs report on the review of result/impact indica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% mention the review of intervention log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% describe actions to review evaluation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 in developing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evaluation 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8 APRs mention work on evaluation methodologies an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lessons from ex-post &amp; ex-an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followed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Thematic studi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ncreasingly used (21 AP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ED1E-5AF9-4D19-B26F-E48C2FB57D14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3. Ongoing evaluation activities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evaluation activi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relation to your evaluation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 an overview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preparatory activi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the M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lin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specific evaluation methodologi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 to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follow-up activi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 lessons from ex post 2000-06 and ex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1"/>
          <p:cNvSpPr/>
          <p:nvPr/>
        </p:nvSpPr>
        <p:spPr>
          <a:xfrm>
            <a:off x="6629400" y="1643040"/>
            <a:ext cx="2416320" cy="1828800"/>
          </a:xfrm>
          <a:prstGeom prst="wedgeRoundRectCallout">
            <a:avLst>
              <a:gd name="adj1" fmla="val -101601"/>
              <a:gd name="adj2" fmla="val 32162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.g. reviews of intervention logic, result and impact indicators, and evaluation ques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2"/>
          <p:cNvSpPr/>
          <p:nvPr/>
        </p:nvSpPr>
        <p:spPr>
          <a:xfrm>
            <a:off x="6629400" y="4143240"/>
            <a:ext cx="2416320" cy="1785960"/>
          </a:xfrm>
          <a:prstGeom prst="wedgeRoundRectCallout">
            <a:avLst>
              <a:gd name="adj1" fmla="val -115986"/>
              <a:gd name="adj2" fmla="val -14083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ecify themes or outcomes of outsourced studies, surveys, case studie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4. Systems for data collection and management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700280"/>
            <a:ext cx="8534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Data collectio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tracts major attention of AP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organisational model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 data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Main data gaps</a:t>
            </a: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late to indicators for environmental measures, GVA-related and non-agricultural activ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Processing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f unharmonized data as challe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tivities to improve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data quality &amp; overcome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1DE1-434C-444F-8BC0-EF9773D62908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23:27Z</dcterms:created>
  <dc:creator>AEIDL</dc:creator>
  <dc:description/>
  <dc:language>en-US</dc:language>
  <cp:lastModifiedBy>Hannes Wimmer</cp:lastModifiedBy>
  <cp:lastPrinted>2008-05-30T14:18:28Z</cp:lastPrinted>
  <dcterms:modified xsi:type="dcterms:W3CDTF">2010-03-15T10:49:27Z</dcterms:modified>
  <cp:revision>370</cp:revision>
  <dc:subject/>
  <dc:title>EENRD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51144767</vt:r8>
  </property>
  <property fmtid="{D5CDD505-2E9C-101B-9397-08002B2CF9AE}" pid="3" name="_AuthorEmail">
    <vt:lpwstr>s.lafiandra@politicheagricole.gov.it</vt:lpwstr>
  </property>
  <property fmtid="{D5CDD505-2E9C-101B-9397-08002B2CF9AE}" pid="4" name="_AuthorEmailDisplayName">
    <vt:lpwstr>Lafiandra Stefano</vt:lpwstr>
  </property>
  <property fmtid="{D5CDD505-2E9C-101B-9397-08002B2CF9AE}" pid="5" name="_EmailSubject">
    <vt:lpwstr>Slides incontro RRE_evaluation group del 15/03/2010</vt:lpwstr>
  </property>
</Properties>
</file>