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6781680" cy="992664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616">
                <a:moveTo>
                  <a:pt x="5" y="0"/>
                </a:moveTo>
                <a:arcTo wR="5" hR="5" stAng="16200000" swAng="-5400000"/>
                <a:lnTo>
                  <a:pt x="0" y="31611"/>
                </a:lnTo>
                <a:arcTo wR="5" hR="5" stAng="10800000" swAng="-5400000"/>
                <a:lnTo>
                  <a:pt x="21595" y="3161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6781680" cy="992808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621">
                <a:moveTo>
                  <a:pt x="5" y="0"/>
                </a:moveTo>
                <a:arcTo wR="5" hR="5" stAng="16200000" swAng="-5400000"/>
                <a:lnTo>
                  <a:pt x="0" y="31616"/>
                </a:lnTo>
                <a:arcTo wR="5" hR="5" stAng="10800000" swAng="-5400000"/>
                <a:lnTo>
                  <a:pt x="21595" y="316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6783480" cy="9929880"/>
          </a:xfrm>
          <a:custGeom>
            <a:avLst/>
            <a:gdLst>
              <a:gd name="textAreaLeft" fmla="*/ 360 w 6783480"/>
              <a:gd name="textAreaRight" fmla="*/ 6783120 w 6783480"/>
              <a:gd name="textAreaTop" fmla="*/ 360 h 9929880"/>
              <a:gd name="textAreaBottom" fmla="*/ 9929520 h 9929880"/>
            </a:gdLst>
            <a:ahLst/>
            <a:rect l="textAreaLeft" t="textAreaTop" r="textAreaRight" b="textAreaBottom"/>
            <a:pathLst>
              <a:path w="21600" h="31618">
                <a:moveTo>
                  <a:pt x="5" y="0"/>
                </a:moveTo>
                <a:arcTo wR="5" hR="5" stAng="16200000" swAng="-5400000"/>
                <a:lnTo>
                  <a:pt x="0" y="31613"/>
                </a:lnTo>
                <a:arcTo wR="5" hR="5" stAng="10800000" swAng="-5400000"/>
                <a:lnTo>
                  <a:pt x="21595" y="3161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781680" cy="99313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631">
                <a:moveTo>
                  <a:pt x="5" y="0"/>
                </a:moveTo>
                <a:arcTo wR="5" hR="5" stAng="16200000" swAng="-5400000"/>
                <a:lnTo>
                  <a:pt x="0" y="31626"/>
                </a:lnTo>
                <a:arcTo wR="5" hR="5" stAng="10800000" swAng="-5400000"/>
                <a:lnTo>
                  <a:pt x="21595" y="3163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781680" cy="99313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631">
                <a:moveTo>
                  <a:pt x="5" y="0"/>
                </a:moveTo>
                <a:arcTo wR="5" hR="5" stAng="16200000" swAng="-5400000"/>
                <a:lnTo>
                  <a:pt x="0" y="31626"/>
                </a:lnTo>
                <a:arcTo wR="5" hR="5" stAng="10800000" swAng="-5400000"/>
                <a:lnTo>
                  <a:pt x="21595" y="3163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781680" cy="99313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631">
                <a:moveTo>
                  <a:pt x="5" y="0"/>
                </a:moveTo>
                <a:arcTo wR="5" hR="5" stAng="16200000" swAng="-5400000"/>
                <a:lnTo>
                  <a:pt x="0" y="31626"/>
                </a:lnTo>
                <a:arcTo wR="5" hR="5" stAng="10800000" swAng="-5400000"/>
                <a:lnTo>
                  <a:pt x="21595" y="3163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781680" cy="99313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631">
                <a:moveTo>
                  <a:pt x="5" y="0"/>
                </a:moveTo>
                <a:arcTo wR="5" hR="5" stAng="16200000" swAng="-5400000"/>
                <a:lnTo>
                  <a:pt x="0" y="31626"/>
                </a:lnTo>
                <a:arcTo wR="5" hR="5" stAng="10800000" swAng="-5400000"/>
                <a:lnTo>
                  <a:pt x="21595" y="3163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781680" cy="99313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631">
                <a:moveTo>
                  <a:pt x="5" y="0"/>
                </a:moveTo>
                <a:arcTo wR="5" hR="5" stAng="16200000" swAng="-5400000"/>
                <a:lnTo>
                  <a:pt x="0" y="31626"/>
                </a:lnTo>
                <a:arcTo wR="5" hR="5" stAng="10800000" swAng="-5400000"/>
                <a:lnTo>
                  <a:pt x="21595" y="3163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0400" cy="53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7160" bIns="4716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3873600" y="-360"/>
            <a:ext cx="2930400" cy="53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7160" bIns="47160" anchor="t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20880" y="762120"/>
            <a:ext cx="496224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7160" bIns="4716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0240" y="4723920"/>
            <a:ext cx="4944960" cy="4498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0" y="9454680"/>
            <a:ext cx="2930400" cy="4446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7160" bIns="4716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3873600" y="9454680"/>
            <a:ext cx="2930400" cy="4446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7160" bIns="4716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F2DFC-F27F-448A-89EC-2E66FC95B4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440" y="419112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16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0912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3280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44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0912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3280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598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98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440" y="463320"/>
            <a:ext cx="7759800" cy="65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598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16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440" y="419112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16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0912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3280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44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0912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3280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98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463320"/>
            <a:ext cx="7759800" cy="65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16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598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01000" y="63244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29FF8-9799-40F8-BA93-0AB62DA9DC7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001000" y="63244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FDF26-0545-4600-9ABB-C69138AEF5B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mailto:Jean-Fran&#231;ois.Baschet@agriculture.gouv.fr" TargetMode="External"/><Relationship Id="rId4" Type="http://schemas.openxmlformats.org/officeDocument/2006/relationships/hyperlink" Target="mailto:Sylvain.Chabe-Ferret@cemagrefs.fr" TargetMode="External"/><Relationship Id="rId5" Type="http://schemas.openxmlformats.org/officeDocument/2006/relationships/hyperlink" Target="mailto:Sylvain.Chabe-Ferret@cemagrefs.fr" TargetMode="External"/><Relationship Id="rId6" Type="http://schemas.openxmlformats.org/officeDocument/2006/relationships/hyperlink" Target="mailto:Sylvain.Chabe-Ferret@cemagrefs.fr" TargetMode="External"/><Relationship Id="rId7" Type="http://schemas.openxmlformats.org/officeDocument/2006/relationships/hyperlink" Target="mailto:Julie.Subervie@supagrao.inra.fr" TargetMode="External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4172760"/>
            <a:ext cx="86868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779a"/>
                </a:solidFill>
                <a:latin typeface="Arial"/>
              </a:rPr>
              <a:t>Estimation des effets propres des mesures agroenvironnementales du PDRN 2000-2006 sur les pratiques des agricul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779a"/>
                </a:solidFill>
                <a:latin typeface="Arial"/>
              </a:rPr>
              <a:t>Jean-François BASCHET (MAAP-SSP-CE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71464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779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779a"/>
                </a:solidFill>
                <a:latin typeface="Arial"/>
              </a:rPr>
              <a:t>Expert Committee on Evaluation of Rural Development Programmes</a:t>
            </a:r>
            <a:br>
              <a:rPr sz="1800"/>
            </a:br>
            <a:r>
              <a:rPr b="1" lang="en-US" sz="1800" spc="-1" strike="noStrike">
                <a:solidFill>
                  <a:srgbClr val="00779a"/>
                </a:solidFill>
                <a:latin typeface="Arial"/>
              </a:rPr>
              <a:t>Fourth meeting – 15</a:t>
            </a:r>
            <a:r>
              <a:rPr b="1" lang="en-US" sz="1800" spc="-1" strike="noStrike" baseline="30000">
                <a:solidFill>
                  <a:srgbClr val="00779a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779a"/>
                </a:solidFill>
                <a:latin typeface="Arial"/>
              </a:rPr>
              <a:t> Marc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3706920" y="1600200"/>
            <a:ext cx="172872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33520" y="1219320"/>
            <a:ext cx="8001000" cy="49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4.1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rincipaux résultats </a:t>
            </a: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selon les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Diversification des cul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Impact significatif sur le nombre de cul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Impact faible sur la part de la SAU occupée par la culture dominante et sur l’indice de divers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ropre sur-estimé par comparaison “avec / san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ropre sous-estimé par comparaison “avant / aprè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Implantation de CIPAN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cultures intermédiaires pièges à nitrate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l’effet est une différence de 10 ha par exploitation bénéficiai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ropre sur-estimé  de 6 ha par comparaison “avec / san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ropre sur-estimé de 4 ha par comparaison “avant / aprè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Agriculture biologique (AB)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: la quasi-totalité de l’accroissement de superficie en AB entre 2000 et 2005 est due à la MAE conversion à l’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3520" y="1219320"/>
            <a:ext cx="800100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4.2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rincipaux résultats </a:t>
            </a: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selon les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Gestion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 la ferti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significatif sur l’enregistrement et le raisonnement des pra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faible sur le niveau de fertilis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lus favorable sur le solde du bilan azo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Gestion de la protection phyto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significatif sur l’enregistrement et le raisonnement des pra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faible sur le niveau d’utilisation de pesticides (indicateur de fréquence de traitemen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Gestion extensive des prairies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mesures (“de masse”) difficiles à évalu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nul sur part de la STH dans la S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ositif sur STH et SAU en nive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Baisse forte de la SAU chez les jumeaux non bénéfici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Mesures “de masse” : trop peu de jumeaux + probabilité “d’effets de diffusion”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(pratiques des non-bénéficiaires influencés par la politique mise en place)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33520" y="1219320"/>
            <a:ext cx="800100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nseignements tir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Travaux très lourds, plus longs que prévu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Difficultés d’appariement des fichi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apacité et temps de calcu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Mesures difficiles à évaluer pour 2 raisons oppos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Trop peu de bénéficiaires : précision faible (enquêtes par sondage pour les résulta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“Trop” de bénéficiaires pour les mesures “de masse” : insuffisance de jumeaux statis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Travaux très difficilement à la portée des évalu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Difficulté d’obtention des fichiers statis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apacité à mener les travaux : compétences requises, temps, capacité de calc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Travaux pouvant être très utiles, à mener par Services administratifs (évaluation et statistique) + Institut de recherche, en parallèle aux travaux conduits par les évalu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33520" y="1219320"/>
            <a:ext cx="8001000" cy="34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rincipales recomma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Faciliter les appariements (identifiant unique : No SIRET)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prévu pour FSS 2010 (les questions sur le bénéfice des aides du RD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Utilisation des enquêtes pratiques culturales 2011 à 2013 et amélioration de la précision 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“sur-échantilloner” les bénéfici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Étudier la possibilité de mise en œuvre de “méthodes expérimentales”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garantir, </a:t>
            </a:r>
            <a:r>
              <a:rPr b="1" i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a priori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, l’existence de bénéficiaires et de non bénéficiaires compar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33520" y="1219320"/>
            <a:ext cx="8001000" cy="47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erci de votre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Jean-François.Baschet@agriculture.gouv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Sylvain.Chabe-Ferret@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cemagref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Julie.Subervie@supagrao.inra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33520" y="1447920"/>
            <a:ext cx="8001000" cy="38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lan de la pré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texte de l’é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bjectifs et calendrier de l’é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ravaux réalis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incipaux résul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seignements tiré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incipales recomma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3520" y="1447920"/>
            <a:ext cx="80010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.1 Contexte de l’é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Les MAE : 34 % des dépenses publiques du PDRN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3,4 milliards € sur 7 a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Un catalogue de types d’actions dans le PDRN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25 grands types (01 à 25) déclinés en environ 150 actions élémentaires (code à 4 chiffres + 1 lett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Mise en oeuvre des actions par des dispositif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- CT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contrats territoriaux d’exploitation), unique dispositif de dé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AE Rotationnell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à partir de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HA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prime herbagère agroenvironnementale), à partir de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AD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contrat d’agriculture durable), à partir de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3520" y="1219320"/>
            <a:ext cx="8001000" cy="49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.2 Contexte de l’é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15 actions sur 150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80 % des dépense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Actions 19 et 20 (MAE “herbagères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Actions 08 (MAE “phytosanitaires”) et 09 (MAE “fertilisation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Action 21 (MAE conversion à l’agriculture biolog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Environ le tiers des exploitations professionnelles avec MAE :                    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50 000 CTE, 25 000 CAD, 55 000 PHAE, 7 000 Rota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Une superficie totale contractualisée de 9 millions ha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surface “développée”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) et une superficie “nette” de 7 millions ha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surface sans double comptes),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oit 25 % de la SAU frança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“Un zapping dans les dispositifs”, mais une grande constance entre les trois périodes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1993-1999, 2000-2006, 2007-2013) : environ 2/3 des dépenses pour le soutien à la gestion extensive de l’her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33520" y="1219320"/>
            <a:ext cx="8001000" cy="51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.1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Objectifs et calendrier de l’é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Des réalisations relativement importantes mais beaucoup d’interrogations quant aux effets réels sur les pratiques et sur l’état de l’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La question des effets : au cœur de l’évaluation ex-post à conduire en 2007-08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et des futures évaluations ex-po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Dépasser les comparaisons intuitives habituell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bénéficiaires / non bénéficiaires : biais de sé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avant / après : biais tempor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Adapter les méthodes économétriques utilisées pour l’évaluation de certains programmes sociaux : aux USA, en Fr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33520" y="1219320"/>
            <a:ext cx="800100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2 Objectifs et calendrier de l’é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Une étude confiée au CEMAGREF en 2 pha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ompétence en matière d’indicateurs agroenvironnement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Aptitude à mettre en oeuvre les méthodes économétr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1ère phase (mi 2007 - mi 2008) –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Financement Ministère de l’agricul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xpertise sur les indicateurs à utiliser pour l’estimation des effets : de résultats (pratiques agricoles) – d’impacts (état de l’environne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Faisabilité d’utilisation des méthodes de mat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ème phase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(mi 2008 – fin 2009) : Mise en oeuvre de ces méthodes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appui à des travaux de recherche, dans le cadre de l’évaluation in-itine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Financement conjoint Ministère de l’agriculture – Ministère de l’écolo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Séminaire de restitution : 14 janvier 2010 (80 personnes : évaluateurs, administrations gestionnaires, statisticiens agricoles,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33520" y="1219320"/>
            <a:ext cx="800100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1 Travaux réa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Estimation des effets sur les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pratiques agricole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indicateurs de résulta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omplexité des liens entre pratiques agricoles et état de l’environnement + la question du tem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robustesse statistique plus grande pour les indicateurs de résultats (pratiques agricoles)  que pour les indicateurs d’impact (état de l’environne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Reconstitution,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a posteriori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 de pratiques “contrefactuelles”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celles de non-bénéficiaires présentant, en moyenne, avant la mise en place de la politique, les mêmes caractéristiques observées que les bénéficiaires (“jumeaux statistiques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33520" y="1219320"/>
            <a:ext cx="8001000" cy="45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2 Travaux réa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s différentes méthodes de comparaison et leurs lim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Méthode de matching simple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comparaison des pratiques entre bénéficiaires et non bénéficiaires “jumeaux “ (ou “matchés”), la même année, en fin de program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Méthode de matching en double différenc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aractéristiques inobservées différentes influençant les pratiques (habileté managériale, “sensibilité” environnementale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orrection de la comparaison bénéficiaires / jumeaux par la </a:t>
            </a:r>
            <a:r>
              <a:rPr b="1" i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différence de pratiques avant la mise en place de la poli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Pour identifier les non bénéficiaires matchés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utilisation du score de propension (probabilité d’obtention d’une MAE prédite sur la base des caractéristiques observé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33520" y="1219320"/>
            <a:ext cx="800100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ravaux réa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struction d’une base de données, par appariement de fichiers statistiques et de fichiers administratif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+ les caractéristiques observées avant le lancement du dispositif (les variables de contrôle)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Recensement agricole 2000 (FSS 2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+ le statut de bénéficiaire ou non bénéficiaire du dispositif et le type de MAE (la variable de participation)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 : Fichiers administratifs des organismes paye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+ le niveau de pratiques après et avant (dans la mesure du possible) le lancement du dispositif (les variables de résultats)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Enquêtes statis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- Enquêtes sur les pratiques culturales grandes cultures 2001 et 2006 (gestion de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la fertilisation et de l’utilisation des produits phytosanitai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- Enquêtes sur la structure des exploitations agricoles (FSS 2000 et 2005)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(diversité de l’assolement, chargement, part de la SAU en prairies, surfaces en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CIPAN, linéaire de bandes enherbée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st01</cp:lastModifiedBy>
  <dcterms:modified xsi:type="dcterms:W3CDTF">2010-03-10T13:18:27Z</dcterms:modified>
  <cp:revision>108</cp:revision>
  <dc:subject/>
  <dc:title>Présentation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48965669</vt:r8>
  </property>
  <property fmtid="{D5CDD505-2E9C-101B-9397-08002B2CF9AE}" pid="3" name="_AuthorEmail">
    <vt:lpwstr>s.lafiandra@politicheagricole.gov.it</vt:lpwstr>
  </property>
  <property fmtid="{D5CDD505-2E9C-101B-9397-08002B2CF9AE}" pid="4" name="_AuthorEmailDisplayName">
    <vt:lpwstr>Lafiandra Stefano</vt:lpwstr>
  </property>
  <property fmtid="{D5CDD505-2E9C-101B-9397-08002B2CF9AE}" pid="5" name="_EmailSubject">
    <vt:lpwstr>Slides incontro RRE_evaluation group del 15/03/2010</vt:lpwstr>
  </property>
</Properties>
</file>